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1.png" ContentType="image/png"/>
  <Override PartName="/ppt/media/image9.jpeg" ContentType="image/jpeg"/>
  <Override PartName="/ppt/media/image1.wmf" ContentType="image/x-wmf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dt" idx="2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ftr" idx="2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 type="sldNum" idx="2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F9924D6-E415-425E-A246-577AA0D24796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C8934F3-D0A5-4A5F-A964-F3F856326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erification of textual compliance ru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nly manual -&gt; costly, slow and error-pr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af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1D4425B-5E9D-40A3-8F62-74B5079C028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8196E3-A5F0-40E1-9579-EBE8EDF3A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tatt Processmodel auch Processinstanz oder Log denkb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D510CF4-0D62-4DCC-8343-B1A7B3F9615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ansformationsprinz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hwierigkeiten hell Rot… Prozessmodell -&gt; Krip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unkel Rot auch unbekan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est bekan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E957F62-B626-48BA-9856-C1F5C2F0089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9AF8CAB-E256-4E56-B238-A2A3B08E5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rrectness of proc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hat makes a process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rrect syntax, soundnes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ower that may be not en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81E631-7FE2-4840-A036-ACBC1175A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rrectness of proc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hat makes a process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rrect syntax, soundnes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ower that may be not en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Foliennummernplatzhalt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7512E64-63AF-4CA4-97CF-7943D9C909EA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F2EB-EA9A-4FA5-8990-99C7160B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12EF-AD27-4D4E-B4AD-B2D50814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884B-1063-4F3A-9FFD-EC2996DD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A654-0ECC-406B-A50B-47F90791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BC3A-7690-47D3-AA23-DCE70EBA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CB59-F5FF-4B12-9F6D-092FE6DD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C2D1-FF34-45DE-8689-02F8B962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5C8C-5A5D-4754-B8F1-AEFCBBC1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5BD4-080B-425B-9111-8113FE5A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6C79-B2AD-4C8D-810F-3306AF2A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CD6B-9865-4FF2-A059-9A3CCB39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0ABB-AF5A-466D-8AC1-DB7691FA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7647-EF85-4C1F-B058-C29667E5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6608-9EF0-4FF6-9499-800E4CE5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4FB9-1F2C-484A-AF62-492FA906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4416-AFFF-4427-BC34-6171E820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BFB7-3191-401B-BBBD-A8514D3A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883CC-58B5-4D58-AF3F-3ADD5D8C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9066B-86B7-4652-8751-8A054A7D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7F03F-75BF-452C-BFF4-F5FBC47D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06E25-D985-41CC-84B0-4E1DB91E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94E96-8D36-44E8-9C5C-04A6384C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C9A0-4D9E-4B1E-83CC-FC6D1131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2D279-E306-4B4A-8938-7841ED6A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40F97-FFA2-439F-A4BC-48CDBB9E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4BB5F-AEA0-4D94-9CF5-CF6E7321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F1822-DAF3-4E5F-85C2-AE4AF20A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B509E-B265-4C6C-88FD-39CFB2B3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1F1C0-1111-462B-9448-2DD45AC2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C9297-06C5-498D-A78E-CC04AD22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00CF8-7D67-4700-AE89-1C24EC69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A4BED-380F-4B71-B372-48A14C5A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EECD6-D22B-485F-AC86-D97DAF71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28B6-5504-4375-A404-30586741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F863B-2D1C-4B22-A58C-320DB427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EF812-03E4-42BA-9FBB-B40A8CC8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F91B9-29F1-42F9-B2AA-38647ECD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D663A-A0F8-4702-90E3-8ADAA447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CFBB9-59C9-457D-A57A-2D3A49A8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44DA0-FD9E-4C22-A906-CC421458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1F5A8-3EBC-4978-A5D8-0D6641F1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8CF33-981E-4097-A675-9FBFA649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F5BDD-D9D9-447D-9D4F-605CCD5F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D0169-38F1-4585-A361-99A2D2FA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A982-056D-4A7E-9DB9-FAF4522F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10310-0509-4CE1-8E9D-C00EE496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CA745-0B6C-47E4-BDD4-F30DA33F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64CCE-1C10-4B66-AD7F-D581DB2C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310BE-936D-4A56-8CAA-E077C66D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F93C9-AB77-47B8-9153-3F422F8B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6BF6A-0930-4074-A552-C56779C8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28A67-B9BB-421A-9A0E-E327B5D0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E4837-A751-4495-8C6E-20260B5E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B80C5-1D5E-4DA7-A196-D4119A4A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1B40D-594E-4A0F-B357-1CB60FBA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236D-7D52-4138-A36F-133014EE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FBC92-C961-4FFA-93EA-8D9778E2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DD83C-5045-4D8D-88C4-C6B498196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4EB83-834E-415B-AF2C-6A031934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30651-5F4B-47B7-BF55-B2DDA010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B7E95-47FD-4ED4-AD35-8514130E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D3DE0-C44A-40FA-A0E0-B484FF26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0551D-7D75-4DD1-9CEB-6BB3D53C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8D1D9-4873-41A1-A02E-6C7D78EE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DB960-6B95-43F2-A123-8A3B906A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080E5-D916-4F0F-8F3D-D0683A36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A8AF-4ED9-4886-AE4B-286F998F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23EFB-F9A0-4529-8966-AC02B2E3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651A4-7840-4DFF-9239-EC73E694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6D3B6-220C-4E40-8636-2204E7F2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62B3B-9B3F-4CA8-ADE2-BB199D76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2EC0D-C438-46FE-882E-E2067C33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99797-A07A-4556-904A-DD3446EA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9951D-FC1B-42F2-8E50-E4BA4751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BEFC7-2095-43C7-956F-1F79944B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C3484-1794-49F0-A2A1-9D589657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C6D64-18FF-4BF7-98CD-863BAD1C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D2A5-E5CB-4142-977E-7C772615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1B178-0FC0-49FB-98B5-D8DE4527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25F16-8ABA-4F07-B391-27656854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6AFE8-2A9A-431B-9067-29FFAA2C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2EB7A-BAA3-4D74-AABE-0E8223A5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F88F3-E6F4-449F-A7AF-FCB3F5CD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7ABA5-2131-4D11-89E6-33923856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BF68A-9998-4CF4-A834-E72135EB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DC365-9DBB-44B2-B80E-A13D9650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41E57-B296-4F04-AFF6-6214FE00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FF984-F3C2-4A07-AFF2-29B3359A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E3C5-A1CE-4CA5-AFDB-BD5496E0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A4A50-1C6C-4590-9C36-78A448C9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899ED-38E3-4DFB-81B5-998FEB1D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0FAA5-3011-4740-8874-8F9351F3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FBDA2-DF42-47CA-BD29-F5B2DAED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0EF22-64DD-458C-B543-ACE12B64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5832A-3D34-4E5E-9D19-5E1DC54E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B34DE-949D-42FE-A846-DDEC7658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29F6-E361-40DB-831A-FE62EEEE902F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" name="Object 2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179280" y="115920"/>
          <a:ext cx="952560" cy="117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9525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52D7-C564-4DB9-B3A0-E1A5BFCA536A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E0B5-8416-43E0-9361-5C11129FF632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traight Connector 11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30C3-2695-497D-8C0B-24C7AEFEEE75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F6BB-FD35-4126-937F-3A2519E27CF5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A98C-48C4-48E2-8931-96A85B550DB7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C538-A9E5-4B45-ADFF-F3651C5B55EA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5159-299E-4AC2-83DC-D61F669A5444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30.png"/><Relationship Id="rId12" Type="http://schemas.openxmlformats.org/officeDocument/2006/relationships/image" Target="../media/image4.wmf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pn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man Old Style"/>
              </a:rPr>
              <a:t>Business Process compliance </a:t>
            </a:r>
            <a:br>
              <a:rPr sz="32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0" descr="C:\Users\NOTEBOOK-SG\Hiwijobs\Buchpräsentation\Images\Images\Images\chapter10\processexamplecompliance.jpg"/>
          <p:cNvPicPr/>
          <p:nvPr/>
        </p:nvPicPr>
        <p:blipFill>
          <a:blip r:embed="rId1"/>
          <a:stretch/>
        </p:blipFill>
        <p:spPr>
          <a:xfrm>
            <a:off x="282600" y="1544760"/>
            <a:ext cx="6222960" cy="4074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42" descr="blueman_301_01"/>
          <p:cNvPicPr/>
          <p:nvPr/>
        </p:nvPicPr>
        <p:blipFill>
          <a:blip r:embed="rId2"/>
          <a:stretch/>
        </p:blipFill>
        <p:spPr>
          <a:xfrm>
            <a:off x="5076720" y="4653000"/>
            <a:ext cx="1428840" cy="16938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Usefulness?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4861080" y="1341360"/>
          <a:ext cx="3898800" cy="2739960"/>
        </p:xfrm>
        <a:graphic>
          <a:graphicData uri="http://schemas.openxmlformats.org/drawingml/2006/table">
            <a:tbl>
              <a:tblPr/>
              <a:tblGrid>
                <a:gridCol w="218880"/>
                <a:gridCol w="3679920"/>
              </a:tblGrid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</a:tr>
              <a:tr h="36612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a surgery may be perforemd the patient has to be prepared for it and be sent to the surgical sui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6612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examining the patient a decision has to be made. However, this must not be done before the examinatio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6612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the examination, the patient has to be informed about the risks of the planned surge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6612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scheduling the surgery the patient has to be informed about anesthes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4056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surgery has not been scheduled it must not be performed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4056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a patient is discharged a discharge letter has to be writte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66120">
                <a:tc>
                  <a:txBody>
                    <a:bodyPr lIns="36000" r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performing the surgery and before writing the discharge letter, a surgery report must be created and a lab test ma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</a:tbl>
          </a:graphicData>
        </a:graphic>
      </p:graphicFrame>
      <p:grpSp>
        <p:nvGrpSpPr>
          <p:cNvPr id="456" name="Gruppieren 6"/>
          <p:cNvGrpSpPr/>
          <p:nvPr/>
        </p:nvGrpSpPr>
        <p:grpSpPr>
          <a:xfrm>
            <a:off x="5580000" y="2800440"/>
            <a:ext cx="2359080" cy="1288800"/>
            <a:chOff x="5580000" y="2800440"/>
            <a:chExt cx="2359080" cy="1288800"/>
          </a:xfrm>
        </p:grpSpPr>
        <p:sp>
          <p:nvSpPr>
            <p:cNvPr id="457" name="AutoShape 155"/>
            <p:cNvSpPr/>
            <p:nvPr/>
          </p:nvSpPr>
          <p:spPr>
            <a:xfrm>
              <a:off x="5580000" y="2800440"/>
              <a:ext cx="2359080" cy="1288800"/>
            </a:xfrm>
            <a:prstGeom prst="cloudCallout">
              <a:avLst>
                <a:gd name="adj1" fmla="val -33222"/>
                <a:gd name="adj2" fmla="val 86523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Text Box 156"/>
            <p:cNvSpPr/>
            <p:nvPr/>
          </p:nvSpPr>
          <p:spPr>
            <a:xfrm>
              <a:off x="5614920" y="3142800"/>
              <a:ext cx="230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ny execution compliant?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9" name="Inhaltsplatzhalter 2"/>
          <p:cNvSpPr/>
          <p:nvPr/>
        </p:nvSpPr>
        <p:spPr>
          <a:xfrm>
            <a:off x="6516720" y="4842000"/>
            <a:ext cx="7543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st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rror-prone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Rechteck 52"/>
          <p:cNvSpPr/>
          <p:nvPr/>
        </p:nvSpPr>
        <p:spPr>
          <a:xfrm>
            <a:off x="1006920" y="1144440"/>
            <a:ext cx="36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ada7a"/>
                </a:solidFill>
                <a:latin typeface="Bookman Old Style"/>
              </a:rPr>
              <a:t>How to ensure complianc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62" name="Inhaltsplatzhalter 2" descr=""/>
          <p:cNvPicPr/>
          <p:nvPr/>
        </p:nvPicPr>
        <p:blipFill>
          <a:blip r:embed="rId1"/>
          <a:stretch/>
        </p:blipFill>
        <p:spPr>
          <a:xfrm>
            <a:off x="804960" y="2212920"/>
            <a:ext cx="7553160" cy="4041720"/>
          </a:xfrm>
          <a:prstGeom prst="rect">
            <a:avLst/>
          </a:prstGeom>
          <a:ln w="0">
            <a:noFill/>
          </a:ln>
        </p:spPr>
      </p:pic>
      <p:pic>
        <p:nvPicPr>
          <p:cNvPr id="463" name="Inhaltsplatzhalter 5" descr=""/>
          <p:cNvPicPr/>
          <p:nvPr/>
        </p:nvPicPr>
        <p:blipFill>
          <a:blip r:embed="rId2"/>
          <a:stretch/>
        </p:blipFill>
        <p:spPr>
          <a:xfrm>
            <a:off x="762120" y="1311120"/>
            <a:ext cx="760716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00000" y="230040"/>
            <a:ext cx="7863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65" name="Inhaltsplatzhalter 2" descr=""/>
          <p:cNvPicPr/>
          <p:nvPr/>
        </p:nvPicPr>
        <p:blipFill>
          <a:blip r:embed="rId1"/>
          <a:stretch/>
        </p:blipFill>
        <p:spPr>
          <a:xfrm>
            <a:off x="804960" y="2212920"/>
            <a:ext cx="7553160" cy="4041720"/>
          </a:xfrm>
          <a:prstGeom prst="rect">
            <a:avLst/>
          </a:prstGeom>
          <a:ln w="0">
            <a:noFill/>
          </a:ln>
        </p:spPr>
      </p:pic>
      <p:pic>
        <p:nvPicPr>
          <p:cNvPr id="466" name="Inhaltsplatzhalter 5" descr=""/>
          <p:cNvPicPr/>
          <p:nvPr/>
        </p:nvPicPr>
        <p:blipFill>
          <a:blip r:embed="rId2"/>
          <a:stretch/>
        </p:blipFill>
        <p:spPr>
          <a:xfrm>
            <a:off x="762120" y="1311120"/>
            <a:ext cx="760716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16000" y="230040"/>
            <a:ext cx="7647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844560" y="2340000"/>
          <a:ext cx="7904160" cy="3681360"/>
        </p:xfrm>
        <a:graphic>
          <a:graphicData uri="http://schemas.openxmlformats.org/drawingml/2006/table">
            <a:tbl>
              <a:tblPr/>
              <a:tblGrid>
                <a:gridCol w="477720"/>
                <a:gridCol w="7426440"/>
              </a:tblGrid>
              <a:tr h="21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¬Perform_surgery W Prepare_pa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Λ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(¬Perform_surgery W Send_patient_to_surgical_suite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 (Examine_patient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 Make_decision)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Λ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(¬Make_decision U Examine_pa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 (Examine_patient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 Inform_about_risk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7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¬Schedule_Surgery W Inform_about_anesthe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 ¬Schedule_surgery)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 G ¬Perform_surge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 (Discharge_Patient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 Write_discharge_lett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 (¬Perform_surgery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F Write_discharge_lette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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(¬ Write_discharge_letter U Create_surgery_report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l-G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Λ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¬ Write_discharge_letter U Make_lab_test)))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</a:tbl>
          </a:graphicData>
        </a:graphic>
      </p:graphicFrame>
      <p:pic>
        <p:nvPicPr>
          <p:cNvPr id="469" name="Inhaltsplatzhalter 5" descr=""/>
          <p:cNvPicPr/>
          <p:nvPr/>
        </p:nvPicPr>
        <p:blipFill>
          <a:blip r:embed="rId1"/>
          <a:stretch/>
        </p:blipFill>
        <p:spPr>
          <a:xfrm>
            <a:off x="762120" y="1311120"/>
            <a:ext cx="760716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AutoShape 155"/>
          <p:cNvSpPr/>
          <p:nvPr/>
        </p:nvSpPr>
        <p:spPr>
          <a:xfrm>
            <a:off x="1042920" y="1413000"/>
            <a:ext cx="6553440" cy="1800000"/>
          </a:xfrm>
          <a:prstGeom prst="cloudCallout">
            <a:avLst>
              <a:gd name="adj1" fmla="val 2337"/>
              <a:gd name="adj2" fmla="val 141708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230040"/>
            <a:ext cx="7863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Pros and cons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2" name="Rechteck 13"/>
          <p:cNvSpPr/>
          <p:nvPr/>
        </p:nvSpPr>
        <p:spPr>
          <a:xfrm>
            <a:off x="828720" y="1916280"/>
            <a:ext cx="64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(G (Examine_patient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F Mak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Arial"/>
              </a:rPr>
              <a:t>_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ecision)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Verdana"/>
                <a:ea typeface="Arial"/>
              </a:rPr>
              <a:t>Λ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Arial"/>
              </a:rPr>
              <a:t>  (¬Make_decision U Examine_patien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hteck 5"/>
          <p:cNvSpPr/>
          <p:nvPr/>
        </p:nvSpPr>
        <p:spPr>
          <a:xfrm>
            <a:off x="1187280" y="3284640"/>
            <a:ext cx="5400720" cy="25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332000" y="3429000"/>
          <a:ext cx="6408720" cy="2455920"/>
        </p:xfrm>
        <a:graphic>
          <a:graphicData uri="http://schemas.openxmlformats.org/drawingml/2006/table">
            <a:tbl>
              <a:tblPr/>
              <a:tblGrid>
                <a:gridCol w="3195720"/>
                <a:gridCol w="3213000"/>
              </a:tblGrid>
              <a:tr h="689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852480">
                <a:tc>
                  <a:txBody>
                    <a:bodyPr lIns="36000" r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ique seman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ard to compreh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914400">
                <a:tc>
                  <a:txBody>
                    <a:bodyPr lIns="36000" r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utomatic ver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ith Model Check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quires expe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00000" y="230040"/>
            <a:ext cx="7863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6" name="Inhaltsplatzhalter 2"/>
          <p:cNvSpPr/>
          <p:nvPr/>
        </p:nvSpPr>
        <p:spPr>
          <a:xfrm>
            <a:off x="809640" y="2576520"/>
            <a:ext cx="7543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Calibri"/>
              </a:rPr>
              <a:t>Alternative Logical Formalis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dicate Logi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ontic Logic, Abduktive Logi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µ-Calculu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π-Calculus, Event-Calcul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TL, PLTL, CTL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mmars, FC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dcc2e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7dcc2e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7dcc2e"/>
                </a:solidFill>
                <a:latin typeface="Arial"/>
                <a:ea typeface="Arial"/>
              </a:rPr>
              <a:t>But the problems remain the sam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7" name="Inhaltsplatzhalter 5" descr=""/>
          <p:cNvPicPr/>
          <p:nvPr/>
        </p:nvPicPr>
        <p:blipFill>
          <a:blip r:embed="rId1"/>
          <a:stretch/>
        </p:blipFill>
        <p:spPr>
          <a:xfrm>
            <a:off x="762120" y="1395360"/>
            <a:ext cx="7607160" cy="96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900000" y="3578400"/>
            <a:ext cx="3189240" cy="23047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"/>
          <p:cNvPicPr/>
          <p:nvPr/>
        </p:nvPicPr>
        <p:blipFill>
          <a:blip r:embed="rId2"/>
          <a:stretch/>
        </p:blipFill>
        <p:spPr>
          <a:xfrm>
            <a:off x="4254480" y="3757680"/>
            <a:ext cx="3486240" cy="22762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71280" y="230040"/>
            <a:ext cx="779148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81" name="Inhaltsplatzhalter 5" descr=""/>
          <p:cNvPicPr/>
          <p:nvPr/>
        </p:nvPicPr>
        <p:blipFill>
          <a:blip r:embed="rId3"/>
          <a:stretch/>
        </p:blipFill>
        <p:spPr>
          <a:xfrm>
            <a:off x="762120" y="1395360"/>
            <a:ext cx="7607160" cy="969840"/>
          </a:xfrm>
          <a:prstGeom prst="rect">
            <a:avLst/>
          </a:prstGeom>
          <a:ln w="0">
            <a:noFill/>
          </a:ln>
        </p:spPr>
      </p:pic>
      <p:sp>
        <p:nvSpPr>
          <p:cNvPr id="482" name="Inhaltsplatzhalter 2"/>
          <p:cNvSpPr/>
          <p:nvPr/>
        </p:nvSpPr>
        <p:spPr>
          <a:xfrm>
            <a:off x="809640" y="2576520"/>
            <a:ext cx="7543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Calibri"/>
              </a:rPr>
              <a:t>Compliance Rule Graphs – CR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Gs consist of an antecedent and a consequence patter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sic building bricks are the following element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order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ycle-free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Textfeld 6"/>
          <p:cNvSpPr/>
          <p:nvPr/>
        </p:nvSpPr>
        <p:spPr>
          <a:xfrm>
            <a:off x="1379520" y="38736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Textfeld 7"/>
          <p:cNvSpPr/>
          <p:nvPr/>
        </p:nvSpPr>
        <p:spPr>
          <a:xfrm>
            <a:off x="1392120" y="5121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Textfeld 9"/>
          <p:cNvSpPr/>
          <p:nvPr/>
        </p:nvSpPr>
        <p:spPr>
          <a:xfrm>
            <a:off x="4762440" y="391968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Textfeld 10"/>
          <p:cNvSpPr/>
          <p:nvPr/>
        </p:nvSpPr>
        <p:spPr>
          <a:xfrm>
            <a:off x="4751280" y="509760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87" name="Gerade Verbindung mit Pfeil 14"/>
          <p:cNvCxnSpPr/>
          <p:nvPr/>
        </p:nvCxnSpPr>
        <p:spPr>
          <a:xfrm>
            <a:off x="1114200" y="6190920"/>
            <a:ext cx="1154520" cy="10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lg" type="arrow" w="lg"/>
          </a:ln>
        </p:spPr>
      </p:cxn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Inhaltsplatzhalter 2"/>
          <p:cNvSpPr/>
          <p:nvPr/>
        </p:nvSpPr>
        <p:spPr>
          <a:xfrm>
            <a:off x="809640" y="2576520"/>
            <a:ext cx="7543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Calibri"/>
              </a:rPr>
              <a:t>Example </a:t>
            </a:r>
            <a:r>
              <a:rPr b="1" lang="en-US" sz="2000" spc="-1" strike="noStrike">
                <a:solidFill>
                  <a:srgbClr val="7dcc2e"/>
                </a:solidFill>
                <a:latin typeface="Arial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n “A“ occurs, then a “B“ has to occur afterward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, D, F, G, B &gt;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, C, F, D, G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, A, B, D, B 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 G, C, B, A, D &gt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, F, A, D, B &gt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 A, D, B, G, A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90" name="Inhaltsplatzhalter 5" descr=""/>
          <p:cNvPicPr/>
          <p:nvPr/>
        </p:nvPicPr>
        <p:blipFill>
          <a:blip r:embed="rId1"/>
          <a:stretch/>
        </p:blipFill>
        <p:spPr>
          <a:xfrm>
            <a:off x="762120" y="1395360"/>
            <a:ext cx="7607160" cy="9698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" descr=""/>
          <p:cNvPicPr/>
          <p:nvPr/>
        </p:nvPicPr>
        <p:blipFill>
          <a:blip r:embed="rId2"/>
          <a:srcRect l="0" t="6488" r="0" b="0"/>
          <a:stretch/>
        </p:blipFill>
        <p:spPr>
          <a:xfrm>
            <a:off x="809640" y="2867040"/>
            <a:ext cx="6762600" cy="2076480"/>
          </a:xfrm>
          <a:prstGeom prst="rect">
            <a:avLst/>
          </a:prstGeom>
          <a:ln w="0">
            <a:noFill/>
          </a:ln>
        </p:spPr>
      </p:pic>
      <p:grpSp>
        <p:nvGrpSpPr>
          <p:cNvPr id="492" name="Gruppieren 115"/>
          <p:cNvGrpSpPr/>
          <p:nvPr/>
        </p:nvGrpSpPr>
        <p:grpSpPr>
          <a:xfrm>
            <a:off x="3347280" y="5516280"/>
            <a:ext cx="216720" cy="144360"/>
            <a:chOff x="3347280" y="5516280"/>
            <a:chExt cx="216720" cy="144360"/>
          </a:xfrm>
        </p:grpSpPr>
        <p:sp>
          <p:nvSpPr>
            <p:cNvPr id="493" name="Gerade Verbindung 116"/>
            <p:cNvSpPr/>
            <p:nvPr/>
          </p:nvSpPr>
          <p:spPr>
            <a:xfrm>
              <a:off x="3347280" y="556452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4" name="Gerade Verbindung 117"/>
            <p:cNvSpPr/>
            <p:nvPr/>
          </p:nvSpPr>
          <p:spPr>
            <a:xfrm flipV="1">
              <a:off x="3442320" y="551628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5" name="Gruppieren 115"/>
          <p:cNvGrpSpPr/>
          <p:nvPr/>
        </p:nvGrpSpPr>
        <p:grpSpPr>
          <a:xfrm>
            <a:off x="3347280" y="5805360"/>
            <a:ext cx="216720" cy="144720"/>
            <a:chOff x="3347280" y="5805360"/>
            <a:chExt cx="216720" cy="144720"/>
          </a:xfrm>
        </p:grpSpPr>
        <p:sp>
          <p:nvSpPr>
            <p:cNvPr id="496" name="Gerade Verbindung 116"/>
            <p:cNvSpPr/>
            <p:nvPr/>
          </p:nvSpPr>
          <p:spPr>
            <a:xfrm>
              <a:off x="3347280" y="5853600"/>
              <a:ext cx="81000" cy="9648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Gerade Verbindung 117"/>
            <p:cNvSpPr/>
            <p:nvPr/>
          </p:nvSpPr>
          <p:spPr>
            <a:xfrm flipV="1">
              <a:off x="3442320" y="5805360"/>
              <a:ext cx="121680" cy="1447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8" name="Gewitterblitz 31"/>
          <p:cNvSpPr/>
          <p:nvPr/>
        </p:nvSpPr>
        <p:spPr>
          <a:xfrm rot="4369800">
            <a:off x="7317000" y="5433120"/>
            <a:ext cx="30816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9" name="Gruppieren 32"/>
          <p:cNvGrpSpPr/>
          <p:nvPr/>
        </p:nvGrpSpPr>
        <p:grpSpPr>
          <a:xfrm>
            <a:off x="7164360" y="5013360"/>
            <a:ext cx="792360" cy="368280"/>
            <a:chOff x="7164360" y="5013360"/>
            <a:chExt cx="792360" cy="368280"/>
          </a:xfrm>
        </p:grpSpPr>
        <p:sp>
          <p:nvSpPr>
            <p:cNvPr id="500" name="Textfeld 33"/>
            <p:cNvSpPr/>
            <p:nvPr/>
          </p:nvSpPr>
          <p:spPr>
            <a:xfrm>
              <a:off x="7164360" y="501336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1" name="Gruppieren 115"/>
            <p:cNvGrpSpPr/>
            <p:nvPr/>
          </p:nvGrpSpPr>
          <p:grpSpPr>
            <a:xfrm>
              <a:off x="7381440" y="5144760"/>
              <a:ext cx="216720" cy="144000"/>
              <a:chOff x="7381440" y="5144760"/>
              <a:chExt cx="216720" cy="144000"/>
            </a:xfrm>
          </p:grpSpPr>
          <p:sp>
            <p:nvSpPr>
              <p:cNvPr id="502" name="Gerade Verbindung 116"/>
              <p:cNvSpPr/>
              <p:nvPr/>
            </p:nvSpPr>
            <p:spPr>
              <a:xfrm>
                <a:off x="7381440" y="5193000"/>
                <a:ext cx="81000" cy="957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3" name="Gerade Verbindung 117"/>
              <p:cNvSpPr/>
              <p:nvPr/>
            </p:nvSpPr>
            <p:spPr>
              <a:xfrm flipV="1">
                <a:off x="7476480" y="5144760"/>
                <a:ext cx="121680" cy="14364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04" name="Gruppieren 37"/>
          <p:cNvGrpSpPr/>
          <p:nvPr/>
        </p:nvGrpSpPr>
        <p:grpSpPr>
          <a:xfrm>
            <a:off x="3132000" y="5013360"/>
            <a:ext cx="790560" cy="368280"/>
            <a:chOff x="3132000" y="5013360"/>
            <a:chExt cx="790560" cy="368280"/>
          </a:xfrm>
        </p:grpSpPr>
        <p:sp>
          <p:nvSpPr>
            <p:cNvPr id="505" name="Textfeld 38"/>
            <p:cNvSpPr/>
            <p:nvPr/>
          </p:nvSpPr>
          <p:spPr>
            <a:xfrm>
              <a:off x="3132000" y="5013360"/>
              <a:ext cx="7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6" name="Gruppieren 115"/>
            <p:cNvGrpSpPr/>
            <p:nvPr/>
          </p:nvGrpSpPr>
          <p:grpSpPr>
            <a:xfrm>
              <a:off x="3348360" y="5144760"/>
              <a:ext cx="216360" cy="144000"/>
              <a:chOff x="3348360" y="5144760"/>
              <a:chExt cx="216360" cy="144000"/>
            </a:xfrm>
          </p:grpSpPr>
          <p:sp>
            <p:nvSpPr>
              <p:cNvPr id="507" name="Gerade Verbindung 116"/>
              <p:cNvSpPr/>
              <p:nvPr/>
            </p:nvSpPr>
            <p:spPr>
              <a:xfrm>
                <a:off x="3348360" y="5193000"/>
                <a:ext cx="81000" cy="957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8" name="Gerade Verbindung 117"/>
              <p:cNvSpPr/>
              <p:nvPr/>
            </p:nvSpPr>
            <p:spPr>
              <a:xfrm flipV="1">
                <a:off x="3443040" y="5144760"/>
                <a:ext cx="121680" cy="14364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09" name="Gewitterblitz 43"/>
          <p:cNvSpPr/>
          <p:nvPr/>
        </p:nvSpPr>
        <p:spPr>
          <a:xfrm rot="4369800">
            <a:off x="7317000" y="5793480"/>
            <a:ext cx="30816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11" name="Inhaltsplatzhalter 5" descr=""/>
          <p:cNvPicPr/>
          <p:nvPr/>
        </p:nvPicPr>
        <p:blipFill>
          <a:blip r:embed="rId1"/>
          <a:stretch/>
        </p:blipFill>
        <p:spPr>
          <a:xfrm>
            <a:off x="762120" y="1158840"/>
            <a:ext cx="7607160" cy="9684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" descr=""/>
          <p:cNvPicPr/>
          <p:nvPr/>
        </p:nvPicPr>
        <p:blipFill>
          <a:blip r:embed="rId2"/>
          <a:stretch/>
        </p:blipFill>
        <p:spPr>
          <a:xfrm>
            <a:off x="900000" y="2768760"/>
            <a:ext cx="7628040" cy="1714320"/>
          </a:xfrm>
          <a:prstGeom prst="rect">
            <a:avLst/>
          </a:prstGeom>
          <a:ln w="0">
            <a:noFill/>
          </a:ln>
        </p:spPr>
      </p:pic>
      <p:sp>
        <p:nvSpPr>
          <p:cNvPr id="513" name="Inhaltsplatzhalter 2"/>
          <p:cNvSpPr/>
          <p:nvPr/>
        </p:nvSpPr>
        <p:spPr>
          <a:xfrm>
            <a:off x="809640" y="2336760"/>
            <a:ext cx="7543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Calibri"/>
              </a:rPr>
              <a:t>Example </a:t>
            </a:r>
            <a:r>
              <a:rPr b="1" lang="en-US" sz="2000" spc="-1" strike="noStrike">
                <a:solidFill>
                  <a:srgbClr val="7dcc2e"/>
                </a:solidFill>
                <a:latin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there is no “A” before any occurrence of “B“, than “C” is not allowed after that “B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A, B, F, C, D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G, D, B, F, D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, F, D, B, A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B, G, E, C, D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, F, E, D, E 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B, A, B, F, C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Gerade Verbindung 116"/>
          <p:cNvSpPr/>
          <p:nvPr/>
        </p:nvSpPr>
        <p:spPr>
          <a:xfrm>
            <a:off x="3588480" y="5624640"/>
            <a:ext cx="81000" cy="96840"/>
          </a:xfrm>
          <a:prstGeom prst="line">
            <a:avLst/>
          </a:prstGeom>
          <a:ln cap="rnd"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Gerade Verbindung 117"/>
          <p:cNvSpPr/>
          <p:nvPr/>
        </p:nvSpPr>
        <p:spPr>
          <a:xfrm flipV="1">
            <a:off x="3682440" y="5576760"/>
            <a:ext cx="122040" cy="144720"/>
          </a:xfrm>
          <a:prstGeom prst="line">
            <a:avLst/>
          </a:prstGeom>
          <a:ln cap="rnd" w="7632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Gewitterblitz 17"/>
          <p:cNvSpPr/>
          <p:nvPr/>
        </p:nvSpPr>
        <p:spPr>
          <a:xfrm rot="4369800">
            <a:off x="7172640" y="5486760"/>
            <a:ext cx="30816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feld 24"/>
          <p:cNvSpPr/>
          <p:nvPr/>
        </p:nvSpPr>
        <p:spPr>
          <a:xfrm>
            <a:off x="3419640" y="50529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(    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Gerade Verbindung 116"/>
          <p:cNvSpPr/>
          <p:nvPr/>
        </p:nvSpPr>
        <p:spPr>
          <a:xfrm>
            <a:off x="3636360" y="5232240"/>
            <a:ext cx="81000" cy="96840"/>
          </a:xfrm>
          <a:prstGeom prst="line">
            <a:avLst/>
          </a:prstGeom>
          <a:ln cap="rnd"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Gerade Verbindung 117"/>
          <p:cNvSpPr/>
          <p:nvPr/>
        </p:nvSpPr>
        <p:spPr>
          <a:xfrm flipV="1">
            <a:off x="3731400" y="5184360"/>
            <a:ext cx="120600" cy="144360"/>
          </a:xfrm>
          <a:prstGeom prst="line">
            <a:avLst/>
          </a:prstGeom>
          <a:ln cap="rnd" w="7632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Gewitterblitz 28"/>
          <p:cNvSpPr/>
          <p:nvPr/>
        </p:nvSpPr>
        <p:spPr>
          <a:xfrm rot="4369800">
            <a:off x="7101360" y="5918760"/>
            <a:ext cx="30780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feld 30"/>
          <p:cNvSpPr/>
          <p:nvPr/>
        </p:nvSpPr>
        <p:spPr>
          <a:xfrm>
            <a:off x="3419640" y="57927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(    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2" name="Gruppieren 115"/>
          <p:cNvGrpSpPr/>
          <p:nvPr/>
        </p:nvGrpSpPr>
        <p:grpSpPr>
          <a:xfrm>
            <a:off x="3636360" y="5924160"/>
            <a:ext cx="216360" cy="144360"/>
            <a:chOff x="3636360" y="5924160"/>
            <a:chExt cx="216360" cy="144360"/>
          </a:xfrm>
        </p:grpSpPr>
        <p:sp>
          <p:nvSpPr>
            <p:cNvPr id="523" name="Gerade Verbindung 116"/>
            <p:cNvSpPr/>
            <p:nvPr/>
          </p:nvSpPr>
          <p:spPr>
            <a:xfrm>
              <a:off x="3636360" y="597240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4" name="Gerade Verbindung 117"/>
            <p:cNvSpPr/>
            <p:nvPr/>
          </p:nvSpPr>
          <p:spPr>
            <a:xfrm flipV="1">
              <a:off x="3731040" y="592416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25" name="Gerade Verbindung 116"/>
          <p:cNvSpPr/>
          <p:nvPr/>
        </p:nvSpPr>
        <p:spPr>
          <a:xfrm>
            <a:off x="7284240" y="5253120"/>
            <a:ext cx="81000" cy="96840"/>
          </a:xfrm>
          <a:prstGeom prst="line">
            <a:avLst/>
          </a:prstGeom>
          <a:ln cap="rnd"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Gerade Verbindung 117"/>
          <p:cNvSpPr/>
          <p:nvPr/>
        </p:nvSpPr>
        <p:spPr>
          <a:xfrm flipV="1">
            <a:off x="7378560" y="5205240"/>
            <a:ext cx="122400" cy="144720"/>
          </a:xfrm>
          <a:prstGeom prst="line">
            <a:avLst/>
          </a:prstGeom>
          <a:ln cap="rnd" w="76320">
            <a:solidFill>
              <a:srgbClr val="00b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CasellaDiTesto 2"/>
          <p:cNvSpPr/>
          <p:nvPr/>
        </p:nvSpPr>
        <p:spPr>
          <a:xfrm>
            <a:off x="-673200" y="212868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0000" y="230040"/>
            <a:ext cx="7863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29" name="Inhaltsplatzhalter 5" descr=""/>
          <p:cNvPicPr/>
          <p:nvPr/>
        </p:nvPicPr>
        <p:blipFill>
          <a:blip r:embed="rId1"/>
          <a:stretch/>
        </p:blipFill>
        <p:spPr>
          <a:xfrm>
            <a:off x="762120" y="1158840"/>
            <a:ext cx="7607160" cy="9684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2" descr=""/>
          <p:cNvPicPr/>
          <p:nvPr/>
        </p:nvPicPr>
        <p:blipFill>
          <a:blip r:embed="rId2"/>
          <a:stretch/>
        </p:blipFill>
        <p:spPr>
          <a:xfrm>
            <a:off x="900000" y="2768760"/>
            <a:ext cx="7628040" cy="1714320"/>
          </a:xfrm>
          <a:prstGeom prst="rect">
            <a:avLst/>
          </a:prstGeom>
          <a:ln w="0">
            <a:noFill/>
          </a:ln>
        </p:spPr>
      </p:pic>
      <p:sp>
        <p:nvSpPr>
          <p:cNvPr id="531" name="Inhaltsplatzhalter 2"/>
          <p:cNvSpPr/>
          <p:nvPr/>
        </p:nvSpPr>
        <p:spPr>
          <a:xfrm>
            <a:off x="809640" y="2421000"/>
            <a:ext cx="75438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Calibri"/>
              </a:rPr>
              <a:t>Example </a:t>
            </a:r>
            <a:r>
              <a:rPr b="1" lang="en-US" sz="2000" spc="-1" strike="noStrike">
                <a:solidFill>
                  <a:srgbClr val="7dcc2e"/>
                </a:solidFill>
                <a:latin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there is no “A” before any occurrence of “B“, than “C” is not allowed after that “B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A, B, F, C, D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G, D, B, F, D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, F, D, B, A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B, G, E, C, D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, F, E, D, E 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B, A, B, F, C 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32" name="Gruppieren 115"/>
          <p:cNvGrpSpPr/>
          <p:nvPr/>
        </p:nvGrpSpPr>
        <p:grpSpPr>
          <a:xfrm>
            <a:off x="3588480" y="5576760"/>
            <a:ext cx="262080" cy="144720"/>
            <a:chOff x="3588480" y="5576760"/>
            <a:chExt cx="262080" cy="144720"/>
          </a:xfrm>
        </p:grpSpPr>
        <p:sp>
          <p:nvSpPr>
            <p:cNvPr id="533" name="Gerade Verbindung 116"/>
            <p:cNvSpPr/>
            <p:nvPr/>
          </p:nvSpPr>
          <p:spPr>
            <a:xfrm>
              <a:off x="3588480" y="5625000"/>
              <a:ext cx="81000" cy="9648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4" name="Gerade Verbindung 117"/>
            <p:cNvSpPr/>
            <p:nvPr/>
          </p:nvSpPr>
          <p:spPr>
            <a:xfrm flipV="1">
              <a:off x="3729240" y="5576760"/>
              <a:ext cx="121320" cy="1447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5" name="Gewitterblitz 17"/>
          <p:cNvSpPr/>
          <p:nvPr/>
        </p:nvSpPr>
        <p:spPr>
          <a:xfrm rot="4369800">
            <a:off x="7172640" y="5486760"/>
            <a:ext cx="30816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36" name="Gruppieren 23"/>
          <p:cNvGrpSpPr/>
          <p:nvPr/>
        </p:nvGrpSpPr>
        <p:grpSpPr>
          <a:xfrm>
            <a:off x="3419640" y="5052960"/>
            <a:ext cx="792000" cy="368280"/>
            <a:chOff x="3419640" y="5052960"/>
            <a:chExt cx="792000" cy="368280"/>
          </a:xfrm>
        </p:grpSpPr>
        <p:sp>
          <p:nvSpPr>
            <p:cNvPr id="537" name="Textfeld 24"/>
            <p:cNvSpPr/>
            <p:nvPr/>
          </p:nvSpPr>
          <p:spPr>
            <a:xfrm>
              <a:off x="3419640" y="5052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8" name="Gruppieren 115"/>
            <p:cNvGrpSpPr/>
            <p:nvPr/>
          </p:nvGrpSpPr>
          <p:grpSpPr>
            <a:xfrm>
              <a:off x="3636360" y="5184360"/>
              <a:ext cx="216720" cy="144000"/>
              <a:chOff x="3636360" y="5184360"/>
              <a:chExt cx="216720" cy="144000"/>
            </a:xfrm>
          </p:grpSpPr>
          <p:sp>
            <p:nvSpPr>
              <p:cNvPr id="539" name="Gerade Verbindung 116"/>
              <p:cNvSpPr/>
              <p:nvPr/>
            </p:nvSpPr>
            <p:spPr>
              <a:xfrm>
                <a:off x="3636360" y="5232600"/>
                <a:ext cx="81000" cy="957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0" name="Gerade Verbindung 117"/>
              <p:cNvSpPr/>
              <p:nvPr/>
            </p:nvSpPr>
            <p:spPr>
              <a:xfrm flipV="1">
                <a:off x="3731400" y="5184360"/>
                <a:ext cx="121680" cy="14364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41" name="Gewitterblitz 28"/>
          <p:cNvSpPr/>
          <p:nvPr/>
        </p:nvSpPr>
        <p:spPr>
          <a:xfrm rot="4369800">
            <a:off x="7101360" y="5918760"/>
            <a:ext cx="30780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2" name="Gruppieren 29"/>
          <p:cNvGrpSpPr/>
          <p:nvPr/>
        </p:nvGrpSpPr>
        <p:grpSpPr>
          <a:xfrm>
            <a:off x="3419640" y="5792760"/>
            <a:ext cx="792000" cy="368280"/>
            <a:chOff x="3419640" y="5792760"/>
            <a:chExt cx="792000" cy="368280"/>
          </a:xfrm>
        </p:grpSpPr>
        <p:sp>
          <p:nvSpPr>
            <p:cNvPr id="543" name="Textfeld 30"/>
            <p:cNvSpPr/>
            <p:nvPr/>
          </p:nvSpPr>
          <p:spPr>
            <a:xfrm>
              <a:off x="3419640" y="57927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44" name="Gruppieren 115"/>
            <p:cNvGrpSpPr/>
            <p:nvPr/>
          </p:nvGrpSpPr>
          <p:grpSpPr>
            <a:xfrm>
              <a:off x="3636360" y="5924880"/>
              <a:ext cx="216720" cy="144360"/>
              <a:chOff x="3636360" y="5924880"/>
              <a:chExt cx="216720" cy="144360"/>
            </a:xfrm>
          </p:grpSpPr>
          <p:sp>
            <p:nvSpPr>
              <p:cNvPr id="545" name="Gerade Verbindung 116"/>
              <p:cNvSpPr/>
              <p:nvPr/>
            </p:nvSpPr>
            <p:spPr>
              <a:xfrm>
                <a:off x="3636360" y="5973120"/>
                <a:ext cx="81000" cy="9612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6" name="Gerade Verbindung 117"/>
              <p:cNvSpPr/>
              <p:nvPr/>
            </p:nvSpPr>
            <p:spPr>
              <a:xfrm flipV="1">
                <a:off x="3731400" y="5924880"/>
                <a:ext cx="121680" cy="1443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47" name="Gruppieren 115"/>
          <p:cNvGrpSpPr/>
          <p:nvPr/>
        </p:nvGrpSpPr>
        <p:grpSpPr>
          <a:xfrm>
            <a:off x="7284240" y="5205240"/>
            <a:ext cx="216720" cy="144720"/>
            <a:chOff x="7284240" y="5205240"/>
            <a:chExt cx="216720" cy="144720"/>
          </a:xfrm>
        </p:grpSpPr>
        <p:sp>
          <p:nvSpPr>
            <p:cNvPr id="548" name="Gerade Verbindung 116"/>
            <p:cNvSpPr/>
            <p:nvPr/>
          </p:nvSpPr>
          <p:spPr>
            <a:xfrm>
              <a:off x="7284240" y="5253480"/>
              <a:ext cx="81000" cy="9648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9" name="Gerade Verbindung 117"/>
            <p:cNvSpPr/>
            <p:nvPr/>
          </p:nvSpPr>
          <p:spPr>
            <a:xfrm flipV="1">
              <a:off x="7379280" y="5205240"/>
              <a:ext cx="121680" cy="1447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Table of Cont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Motiv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Modeling Compliance Rul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BPC along the Process Life Cyc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Referenc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CDF5-D77D-475E-8C0E-13DFD320D5B6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2500200" y="2178000"/>
            <a:ext cx="4953240" cy="223848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2" name="Inhaltsplatzhalter 2"/>
          <p:cNvSpPr/>
          <p:nvPr/>
        </p:nvSpPr>
        <p:spPr>
          <a:xfrm>
            <a:off x="809640" y="2421000"/>
            <a:ext cx="754380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Arial"/>
              </a:rPr>
              <a:t>Example 3/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n occurrence of “A” is followed by a “D” without a “B” lying inbetween, then an “C” is required to occur after that “A” and before that “D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A, F, B, G, C 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G, B, E, G, D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E, A, E, C, D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A, F, D, G, B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E, A, E, B, D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 A, F, D, C, D 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3" name="Inhaltsplatzhalter 5" descr=""/>
          <p:cNvPicPr/>
          <p:nvPr/>
        </p:nvPicPr>
        <p:blipFill>
          <a:blip r:embed="rId2"/>
          <a:stretch/>
        </p:blipFill>
        <p:spPr>
          <a:xfrm>
            <a:off x="762120" y="1139760"/>
            <a:ext cx="7607160" cy="974880"/>
          </a:xfrm>
          <a:prstGeom prst="rect">
            <a:avLst/>
          </a:prstGeom>
          <a:ln w="0">
            <a:noFill/>
          </a:ln>
        </p:spPr>
      </p:pic>
      <p:grpSp>
        <p:nvGrpSpPr>
          <p:cNvPr id="554" name="Gruppieren 115"/>
          <p:cNvGrpSpPr/>
          <p:nvPr/>
        </p:nvGrpSpPr>
        <p:grpSpPr>
          <a:xfrm>
            <a:off x="3588480" y="5562360"/>
            <a:ext cx="216720" cy="144360"/>
            <a:chOff x="3588480" y="5562360"/>
            <a:chExt cx="216720" cy="144360"/>
          </a:xfrm>
        </p:grpSpPr>
        <p:sp>
          <p:nvSpPr>
            <p:cNvPr id="555" name="Gerade Verbindung 116"/>
            <p:cNvSpPr/>
            <p:nvPr/>
          </p:nvSpPr>
          <p:spPr>
            <a:xfrm>
              <a:off x="3588480" y="561060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6" name="Gerade Verbindung 117"/>
            <p:cNvSpPr/>
            <p:nvPr/>
          </p:nvSpPr>
          <p:spPr>
            <a:xfrm flipV="1">
              <a:off x="3683520" y="556236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7" name="Gewitterblitz 15"/>
          <p:cNvSpPr/>
          <p:nvPr/>
        </p:nvSpPr>
        <p:spPr>
          <a:xfrm rot="4369800">
            <a:off x="7173720" y="5472000"/>
            <a:ext cx="30636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8" name="Gruppieren 16"/>
          <p:cNvGrpSpPr/>
          <p:nvPr/>
        </p:nvGrpSpPr>
        <p:grpSpPr>
          <a:xfrm>
            <a:off x="3419640" y="5037120"/>
            <a:ext cx="792000" cy="368280"/>
            <a:chOff x="3419640" y="5037120"/>
            <a:chExt cx="792000" cy="368280"/>
          </a:xfrm>
        </p:grpSpPr>
        <p:sp>
          <p:nvSpPr>
            <p:cNvPr id="559" name="Textfeld 17"/>
            <p:cNvSpPr/>
            <p:nvPr/>
          </p:nvSpPr>
          <p:spPr>
            <a:xfrm>
              <a:off x="3419640" y="50371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60" name="Gruppieren 115"/>
            <p:cNvGrpSpPr/>
            <p:nvPr/>
          </p:nvGrpSpPr>
          <p:grpSpPr>
            <a:xfrm>
              <a:off x="3636360" y="5169240"/>
              <a:ext cx="216720" cy="144360"/>
              <a:chOff x="3636360" y="5169240"/>
              <a:chExt cx="216720" cy="144360"/>
            </a:xfrm>
          </p:grpSpPr>
          <p:sp>
            <p:nvSpPr>
              <p:cNvPr id="561" name="Gerade Verbindung 116"/>
              <p:cNvSpPr/>
              <p:nvPr/>
            </p:nvSpPr>
            <p:spPr>
              <a:xfrm>
                <a:off x="3636360" y="5217480"/>
                <a:ext cx="81000" cy="9612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2" name="Gerade Verbindung 117"/>
              <p:cNvSpPr/>
              <p:nvPr/>
            </p:nvSpPr>
            <p:spPr>
              <a:xfrm flipV="1">
                <a:off x="3731400" y="5169240"/>
                <a:ext cx="121680" cy="1443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63" name="Gewitterblitz 21"/>
          <p:cNvSpPr/>
          <p:nvPr/>
        </p:nvSpPr>
        <p:spPr>
          <a:xfrm rot="4369800">
            <a:off x="7101360" y="5904360"/>
            <a:ext cx="30780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4" name="Gruppieren 22"/>
          <p:cNvGrpSpPr/>
          <p:nvPr/>
        </p:nvGrpSpPr>
        <p:grpSpPr>
          <a:xfrm>
            <a:off x="3419640" y="5778360"/>
            <a:ext cx="792000" cy="368280"/>
            <a:chOff x="3419640" y="5778360"/>
            <a:chExt cx="792000" cy="368280"/>
          </a:xfrm>
        </p:grpSpPr>
        <p:sp>
          <p:nvSpPr>
            <p:cNvPr id="565" name="Textfeld 23"/>
            <p:cNvSpPr/>
            <p:nvPr/>
          </p:nvSpPr>
          <p:spPr>
            <a:xfrm>
              <a:off x="3419640" y="57783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66" name="Gruppieren 115"/>
            <p:cNvGrpSpPr/>
            <p:nvPr/>
          </p:nvGrpSpPr>
          <p:grpSpPr>
            <a:xfrm>
              <a:off x="3636360" y="5910480"/>
              <a:ext cx="216720" cy="144360"/>
              <a:chOff x="3636360" y="5910480"/>
              <a:chExt cx="216720" cy="144360"/>
            </a:xfrm>
          </p:grpSpPr>
          <p:sp>
            <p:nvSpPr>
              <p:cNvPr id="567" name="Gerade Verbindung 116"/>
              <p:cNvSpPr/>
              <p:nvPr/>
            </p:nvSpPr>
            <p:spPr>
              <a:xfrm>
                <a:off x="3636360" y="5958720"/>
                <a:ext cx="81000" cy="9612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8" name="Gerade Verbindung 117"/>
              <p:cNvSpPr/>
              <p:nvPr/>
            </p:nvSpPr>
            <p:spPr>
              <a:xfrm flipV="1">
                <a:off x="3731400" y="5910480"/>
                <a:ext cx="121680" cy="1443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69" name="Gruppieren 35"/>
          <p:cNvGrpSpPr/>
          <p:nvPr/>
        </p:nvGrpSpPr>
        <p:grpSpPr>
          <a:xfrm>
            <a:off x="7115040" y="5049720"/>
            <a:ext cx="792360" cy="368280"/>
            <a:chOff x="7115040" y="5049720"/>
            <a:chExt cx="792360" cy="368280"/>
          </a:xfrm>
        </p:grpSpPr>
        <p:sp>
          <p:nvSpPr>
            <p:cNvPr id="570" name="Textfeld 36"/>
            <p:cNvSpPr/>
            <p:nvPr/>
          </p:nvSpPr>
          <p:spPr>
            <a:xfrm>
              <a:off x="7115040" y="50497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71" name="Gruppieren 115"/>
            <p:cNvGrpSpPr/>
            <p:nvPr/>
          </p:nvGrpSpPr>
          <p:grpSpPr>
            <a:xfrm>
              <a:off x="7332120" y="5181120"/>
              <a:ext cx="216720" cy="144000"/>
              <a:chOff x="7332120" y="5181120"/>
              <a:chExt cx="216720" cy="144000"/>
            </a:xfrm>
          </p:grpSpPr>
          <p:sp>
            <p:nvSpPr>
              <p:cNvPr id="572" name="Gerade Verbindung 116"/>
              <p:cNvSpPr/>
              <p:nvPr/>
            </p:nvSpPr>
            <p:spPr>
              <a:xfrm>
                <a:off x="7332120" y="5229360"/>
                <a:ext cx="81000" cy="957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3" name="Gerade Verbindung 117"/>
              <p:cNvSpPr/>
              <p:nvPr/>
            </p:nvSpPr>
            <p:spPr>
              <a:xfrm flipV="1">
                <a:off x="7427160" y="5181120"/>
                <a:ext cx="121680" cy="14364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230040"/>
            <a:ext cx="7863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75" name="Inhaltsplatzhalter 5" descr=""/>
          <p:cNvPicPr/>
          <p:nvPr/>
        </p:nvPicPr>
        <p:blipFill>
          <a:blip r:embed="rId1"/>
          <a:stretch/>
        </p:blipFill>
        <p:spPr>
          <a:xfrm>
            <a:off x="762120" y="1238400"/>
            <a:ext cx="7607160" cy="974520"/>
          </a:xfrm>
          <a:prstGeom prst="rect">
            <a:avLst/>
          </a:prstGeom>
          <a:ln w="0">
            <a:noFill/>
          </a:ln>
        </p:spPr>
      </p:pic>
      <p:sp>
        <p:nvSpPr>
          <p:cNvPr id="576" name="Rechteck 10"/>
          <p:cNvSpPr/>
          <p:nvPr/>
        </p:nvSpPr>
        <p:spPr>
          <a:xfrm>
            <a:off x="15479640" y="2565360"/>
            <a:ext cx="201780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7" name="Picture 2" descr=""/>
          <p:cNvPicPr/>
          <p:nvPr/>
        </p:nvPicPr>
        <p:blipFill>
          <a:blip r:embed="rId2"/>
          <a:stretch/>
        </p:blipFill>
        <p:spPr>
          <a:xfrm>
            <a:off x="6948360" y="3232080"/>
            <a:ext cx="952560" cy="10954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" descr=""/>
          <p:cNvPicPr/>
          <p:nvPr/>
        </p:nvPicPr>
        <p:blipFill>
          <a:blip r:embed="rId3"/>
          <a:stretch/>
        </p:blipFill>
        <p:spPr>
          <a:xfrm>
            <a:off x="2411280" y="3303720"/>
            <a:ext cx="2791080" cy="10573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" descr=""/>
          <p:cNvPicPr/>
          <p:nvPr/>
        </p:nvPicPr>
        <p:blipFill>
          <a:blip r:embed="rId4"/>
          <a:stretch/>
        </p:blipFill>
        <p:spPr>
          <a:xfrm>
            <a:off x="6084720" y="2368440"/>
            <a:ext cx="998640" cy="971640"/>
          </a:xfrm>
          <a:prstGeom prst="rect">
            <a:avLst/>
          </a:prstGeom>
          <a:ln w="0">
            <a:noFill/>
          </a:ln>
        </p:spPr>
      </p:pic>
      <p:sp>
        <p:nvSpPr>
          <p:cNvPr id="580" name="Inhaltsplatzhalter 2"/>
          <p:cNvSpPr/>
          <p:nvPr/>
        </p:nvSpPr>
        <p:spPr>
          <a:xfrm>
            <a:off x="809640" y="2205000"/>
            <a:ext cx="75438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c2e"/>
                </a:solidFill>
                <a:latin typeface="Calibri"/>
              </a:rPr>
              <a:t>Example 4/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ts val="1998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“B” occurs but no “A”, then a “D” has to occur, without an occurrence of “C” in front of that “D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E, D, F, G, B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G, C, B, A, D &gt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, F, C, E, B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 H, F, B, G, E &gt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, B, C, E, D 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, B, D, E, B &gt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1" name="Gruppieren 115"/>
          <p:cNvGrpSpPr/>
          <p:nvPr/>
        </p:nvGrpSpPr>
        <p:grpSpPr>
          <a:xfrm>
            <a:off x="3588480" y="5535360"/>
            <a:ext cx="216720" cy="144360"/>
            <a:chOff x="3588480" y="5535360"/>
            <a:chExt cx="216720" cy="144360"/>
          </a:xfrm>
        </p:grpSpPr>
        <p:sp>
          <p:nvSpPr>
            <p:cNvPr id="582" name="Gerade Verbindung 116"/>
            <p:cNvSpPr/>
            <p:nvPr/>
          </p:nvSpPr>
          <p:spPr>
            <a:xfrm>
              <a:off x="3588480" y="558360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3" name="Gerade Verbindung 117"/>
            <p:cNvSpPr/>
            <p:nvPr/>
          </p:nvSpPr>
          <p:spPr>
            <a:xfrm flipV="1">
              <a:off x="3683520" y="553536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4" name="Gewitterblitz 16"/>
          <p:cNvSpPr/>
          <p:nvPr/>
        </p:nvSpPr>
        <p:spPr>
          <a:xfrm rot="4369800">
            <a:off x="7173000" y="5445720"/>
            <a:ext cx="30780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Gewitterblitz 22"/>
          <p:cNvSpPr/>
          <p:nvPr/>
        </p:nvSpPr>
        <p:spPr>
          <a:xfrm rot="4369800">
            <a:off x="7101360" y="5877360"/>
            <a:ext cx="30780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6" name="Gruppieren 23"/>
          <p:cNvGrpSpPr/>
          <p:nvPr/>
        </p:nvGrpSpPr>
        <p:grpSpPr>
          <a:xfrm>
            <a:off x="3419640" y="5753160"/>
            <a:ext cx="792000" cy="368280"/>
            <a:chOff x="3419640" y="5753160"/>
            <a:chExt cx="792000" cy="368280"/>
          </a:xfrm>
        </p:grpSpPr>
        <p:sp>
          <p:nvSpPr>
            <p:cNvPr id="587" name="Textfeld 24"/>
            <p:cNvSpPr/>
            <p:nvPr/>
          </p:nvSpPr>
          <p:spPr>
            <a:xfrm>
              <a:off x="3419640" y="57531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88" name="Gruppieren 115"/>
            <p:cNvGrpSpPr/>
            <p:nvPr/>
          </p:nvGrpSpPr>
          <p:grpSpPr>
            <a:xfrm>
              <a:off x="3636360" y="5884560"/>
              <a:ext cx="216720" cy="144000"/>
              <a:chOff x="3636360" y="5884560"/>
              <a:chExt cx="216720" cy="144000"/>
            </a:xfrm>
          </p:grpSpPr>
          <p:sp>
            <p:nvSpPr>
              <p:cNvPr id="589" name="Gerade Verbindung 116"/>
              <p:cNvSpPr/>
              <p:nvPr/>
            </p:nvSpPr>
            <p:spPr>
              <a:xfrm>
                <a:off x="3636360" y="5932800"/>
                <a:ext cx="81000" cy="957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0" name="Gerade Verbindung 117"/>
              <p:cNvSpPr/>
              <p:nvPr/>
            </p:nvSpPr>
            <p:spPr>
              <a:xfrm flipV="1">
                <a:off x="3731400" y="5884560"/>
                <a:ext cx="121680" cy="14364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91" name="Gruppieren 28"/>
          <p:cNvGrpSpPr/>
          <p:nvPr/>
        </p:nvGrpSpPr>
        <p:grpSpPr>
          <a:xfrm>
            <a:off x="7115040" y="5022720"/>
            <a:ext cx="792360" cy="368280"/>
            <a:chOff x="7115040" y="5022720"/>
            <a:chExt cx="792360" cy="368280"/>
          </a:xfrm>
        </p:grpSpPr>
        <p:sp>
          <p:nvSpPr>
            <p:cNvPr id="592" name="Textfeld 29"/>
            <p:cNvSpPr/>
            <p:nvPr/>
          </p:nvSpPr>
          <p:spPr>
            <a:xfrm>
              <a:off x="7115040" y="502272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b050"/>
                  </a:solidFill>
                  <a:latin typeface="Arial"/>
                </a:rPr>
                <a:t>(     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93" name="Gruppieren 115"/>
            <p:cNvGrpSpPr/>
            <p:nvPr/>
          </p:nvGrpSpPr>
          <p:grpSpPr>
            <a:xfrm>
              <a:off x="7332120" y="5154840"/>
              <a:ext cx="216720" cy="144360"/>
              <a:chOff x="7332120" y="5154840"/>
              <a:chExt cx="216720" cy="144360"/>
            </a:xfrm>
          </p:grpSpPr>
          <p:sp>
            <p:nvSpPr>
              <p:cNvPr id="594" name="Gerade Verbindung 116"/>
              <p:cNvSpPr/>
              <p:nvPr/>
            </p:nvSpPr>
            <p:spPr>
              <a:xfrm>
                <a:off x="7332120" y="5203080"/>
                <a:ext cx="81000" cy="9612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5" name="Gerade Verbindung 117"/>
              <p:cNvSpPr/>
              <p:nvPr/>
            </p:nvSpPr>
            <p:spPr>
              <a:xfrm flipV="1">
                <a:off x="7427160" y="5154840"/>
                <a:ext cx="121680" cy="144360"/>
              </a:xfrm>
              <a:prstGeom prst="line">
                <a:avLst/>
              </a:prstGeom>
              <a:ln cap="rnd" w="7632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596" name="Gruppieren 115"/>
          <p:cNvGrpSpPr/>
          <p:nvPr/>
        </p:nvGrpSpPr>
        <p:grpSpPr>
          <a:xfrm>
            <a:off x="3634560" y="5176440"/>
            <a:ext cx="217440" cy="143280"/>
            <a:chOff x="3634560" y="5176440"/>
            <a:chExt cx="217440" cy="143280"/>
          </a:xfrm>
        </p:grpSpPr>
        <p:sp>
          <p:nvSpPr>
            <p:cNvPr id="597" name="Gerade Verbindung 116"/>
            <p:cNvSpPr/>
            <p:nvPr/>
          </p:nvSpPr>
          <p:spPr>
            <a:xfrm>
              <a:off x="3634560" y="5224320"/>
              <a:ext cx="81720" cy="9540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8" name="Gerade Verbindung 117"/>
            <p:cNvSpPr/>
            <p:nvPr/>
          </p:nvSpPr>
          <p:spPr>
            <a:xfrm flipV="1">
              <a:off x="3729240" y="5176440"/>
              <a:ext cx="122760" cy="1429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71280" y="230040"/>
            <a:ext cx="779148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00" name="Inhaltsplatzhalter 5" descr=""/>
          <p:cNvPicPr/>
          <p:nvPr/>
        </p:nvPicPr>
        <p:blipFill>
          <a:blip r:embed="rId1"/>
          <a:stretch/>
        </p:blipFill>
        <p:spPr>
          <a:xfrm>
            <a:off x="755640" y="1427040"/>
            <a:ext cx="7613640" cy="968400"/>
          </a:xfrm>
          <a:prstGeom prst="rect">
            <a:avLst/>
          </a:prstGeom>
          <a:ln w="0">
            <a:noFill/>
          </a:ln>
        </p:spPr>
      </p:pic>
      <p:sp>
        <p:nvSpPr>
          <p:cNvPr id="601" name="Rechteck 10"/>
          <p:cNvSpPr/>
          <p:nvPr/>
        </p:nvSpPr>
        <p:spPr>
          <a:xfrm>
            <a:off x="15479640" y="2565360"/>
            <a:ext cx="201780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2" name="Picture 15" descr="C:\Users\NOTEBOOK-SG\Hiwijobs\Buchpräsentation\Images\Images\Images\chapter10\compliancerules.jpg"/>
          <p:cNvPicPr/>
          <p:nvPr/>
        </p:nvPicPr>
        <p:blipFill>
          <a:blip r:embed="rId2"/>
          <a:stretch/>
        </p:blipFill>
        <p:spPr>
          <a:xfrm>
            <a:off x="349200" y="2820960"/>
            <a:ext cx="8437680" cy="30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4" name="Inhaltsplatzhalter 2"/>
          <p:cNvSpPr/>
          <p:nvPr/>
        </p:nvSpPr>
        <p:spPr>
          <a:xfrm>
            <a:off x="809640" y="2637000"/>
            <a:ext cx="7543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da7a"/>
                </a:solidFill>
                <a:latin typeface="Bookman Old Style"/>
              </a:rPr>
              <a:t>Alternative Graphical Mo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PMN-Q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Arial"/>
              </a:rPr>
              <a:t>G-CT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5" name="Inhaltsplatzhalter 5" descr=""/>
          <p:cNvPicPr/>
          <p:nvPr/>
        </p:nvPicPr>
        <p:blipFill>
          <a:blip r:embed="rId1"/>
          <a:stretch/>
        </p:blipFill>
        <p:spPr>
          <a:xfrm>
            <a:off x="762120" y="1457280"/>
            <a:ext cx="76071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Ensure Business Process Compli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Gill Sans MT"/>
              </a:rPr>
              <a:t>A Prioir Compliance Check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Gill Sans MT"/>
              </a:rPr>
              <a:t>Run Time Compliance Check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Change Time Compliance Check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A Posteriori Compliance Check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8F82-6858-4E84-9398-1D91803559C9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0" descr="C:\Users\NOTEBOOK-SG\Hiwijobs\Buchpräsentation\Images\Images\Images\chapter10\processexamplecompliance.jpg"/>
          <p:cNvPicPr/>
          <p:nvPr/>
        </p:nvPicPr>
        <p:blipFill>
          <a:blip r:embed="rId1"/>
          <a:stretch/>
        </p:blipFill>
        <p:spPr>
          <a:xfrm>
            <a:off x="2503440" y="1571760"/>
            <a:ext cx="1781280" cy="116676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0" descr="C:\Users\NOTEBOOK-SG\Hiwijobs\Buchpräsentation\Images\Images\Images\chapter10\processexamplecompliance.jpg"/>
          <p:cNvPicPr/>
          <p:nvPr/>
        </p:nvPicPr>
        <p:blipFill>
          <a:blip r:embed="rId2"/>
          <a:stretch/>
        </p:blipFill>
        <p:spPr>
          <a:xfrm>
            <a:off x="4635360" y="1571760"/>
            <a:ext cx="1781280" cy="116676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0" descr="C:\Users\NOTEBOOK-SG\Hiwijobs\Buchpräsentation\Images\Images\Images\chapter10\processexamplecompliance.jpg"/>
          <p:cNvPicPr/>
          <p:nvPr/>
        </p:nvPicPr>
        <p:blipFill>
          <a:blip r:embed="rId3"/>
          <a:stretch/>
        </p:blipFill>
        <p:spPr>
          <a:xfrm>
            <a:off x="6745320" y="1571760"/>
            <a:ext cx="1781280" cy="116676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0" descr="C:\Users\NOTEBOOK-SG\Hiwijobs\Buchpräsentation\Images\Images\Images\chapter10\processexamplecompliance.jpg"/>
          <p:cNvPicPr/>
          <p:nvPr/>
        </p:nvPicPr>
        <p:blipFill>
          <a:blip r:embed="rId4"/>
          <a:stretch/>
        </p:blipFill>
        <p:spPr>
          <a:xfrm>
            <a:off x="542880" y="1568520"/>
            <a:ext cx="1782720" cy="1166760"/>
          </a:xfrm>
          <a:prstGeom prst="rect">
            <a:avLst/>
          </a:prstGeom>
          <a:ln w="0">
            <a:noFill/>
          </a:ln>
        </p:spPr>
      </p:pic>
      <p:grpSp>
        <p:nvGrpSpPr>
          <p:cNvPr id="613" name="Gruppieren 110"/>
          <p:cNvGrpSpPr/>
          <p:nvPr/>
        </p:nvGrpSpPr>
        <p:grpSpPr>
          <a:xfrm>
            <a:off x="2489040" y="3146400"/>
            <a:ext cx="5899320" cy="301680"/>
            <a:chOff x="2489040" y="3146400"/>
            <a:chExt cx="5899320" cy="301680"/>
          </a:xfrm>
        </p:grpSpPr>
        <p:pic>
          <p:nvPicPr>
            <p:cNvPr id="614" name="Picture 2" descr=""/>
            <p:cNvPicPr/>
            <p:nvPr/>
          </p:nvPicPr>
          <p:blipFill>
            <a:blip r:embed="rId5"/>
            <a:srcRect l="-78719" t="0" r="71248" b="0"/>
            <a:stretch/>
          </p:blipFill>
          <p:spPr>
            <a:xfrm>
              <a:off x="2489040" y="3146400"/>
              <a:ext cx="2630880" cy="30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Picture 2" descr=""/>
            <p:cNvPicPr/>
            <p:nvPr/>
          </p:nvPicPr>
          <p:blipFill>
            <a:blip r:embed="rId6"/>
            <a:srcRect l="69796" t="0" r="-69785" b="0"/>
            <a:stretch/>
          </p:blipFill>
          <p:spPr>
            <a:xfrm>
              <a:off x="5757480" y="3146760"/>
              <a:ext cx="2630880" cy="30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" descr=""/>
            <p:cNvPicPr/>
            <p:nvPr/>
          </p:nvPicPr>
          <p:blipFill>
            <a:blip r:embed="rId7"/>
            <a:srcRect l="32365" t="0" r="34305" b="0"/>
            <a:stretch/>
          </p:blipFill>
          <p:spPr>
            <a:xfrm>
              <a:off x="4999680" y="3146400"/>
              <a:ext cx="900000" cy="30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55280" y="230040"/>
            <a:ext cx="800748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A Priori Compli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8" name="Textfeld 12"/>
          <p:cNvSpPr/>
          <p:nvPr/>
        </p:nvSpPr>
        <p:spPr>
          <a:xfrm>
            <a:off x="542880" y="3697200"/>
            <a:ext cx="360360" cy="255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Textfeld 13"/>
          <p:cNvSpPr/>
          <p:nvPr/>
        </p:nvSpPr>
        <p:spPr>
          <a:xfrm>
            <a:off x="930240" y="369720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Textfeld 14"/>
          <p:cNvSpPr/>
          <p:nvPr/>
        </p:nvSpPr>
        <p:spPr>
          <a:xfrm>
            <a:off x="1365120" y="369720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Textfeld 15"/>
          <p:cNvSpPr/>
          <p:nvPr/>
        </p:nvSpPr>
        <p:spPr>
          <a:xfrm>
            <a:off x="1944720" y="369720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risks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Textfeld 16"/>
          <p:cNvSpPr/>
          <p:nvPr/>
        </p:nvSpPr>
        <p:spPr>
          <a:xfrm>
            <a:off x="1693800" y="38419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23" name="Gruppieren 115"/>
          <p:cNvGrpSpPr/>
          <p:nvPr/>
        </p:nvGrpSpPr>
        <p:grpSpPr>
          <a:xfrm>
            <a:off x="713520" y="3552480"/>
            <a:ext cx="216720" cy="144360"/>
            <a:chOff x="713520" y="3552480"/>
            <a:chExt cx="216720" cy="144360"/>
          </a:xfrm>
        </p:grpSpPr>
        <p:sp>
          <p:nvSpPr>
            <p:cNvPr id="624" name="Gerade Verbindung 116"/>
            <p:cNvSpPr/>
            <p:nvPr/>
          </p:nvSpPr>
          <p:spPr>
            <a:xfrm>
              <a:off x="713520" y="360072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5" name="Gerade Verbindung 117"/>
            <p:cNvSpPr/>
            <p:nvPr/>
          </p:nvSpPr>
          <p:spPr>
            <a:xfrm flipV="1">
              <a:off x="808560" y="355248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6" name="Gruppieren 115"/>
          <p:cNvGrpSpPr/>
          <p:nvPr/>
        </p:nvGrpSpPr>
        <p:grpSpPr>
          <a:xfrm>
            <a:off x="1152360" y="3576240"/>
            <a:ext cx="214560" cy="144360"/>
            <a:chOff x="1152360" y="3576240"/>
            <a:chExt cx="214560" cy="144360"/>
          </a:xfrm>
        </p:grpSpPr>
        <p:sp>
          <p:nvSpPr>
            <p:cNvPr id="627" name="Gerade Verbindung 116"/>
            <p:cNvSpPr/>
            <p:nvPr/>
          </p:nvSpPr>
          <p:spPr>
            <a:xfrm>
              <a:off x="1152360" y="3624480"/>
              <a:ext cx="8064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8" name="Gerade Verbindung 117"/>
            <p:cNvSpPr/>
            <p:nvPr/>
          </p:nvSpPr>
          <p:spPr>
            <a:xfrm flipV="1">
              <a:off x="1245960" y="3576240"/>
              <a:ext cx="12096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9" name="Gruppieren 115"/>
          <p:cNvGrpSpPr/>
          <p:nvPr/>
        </p:nvGrpSpPr>
        <p:grpSpPr>
          <a:xfrm>
            <a:off x="1550880" y="3601800"/>
            <a:ext cx="214560" cy="143280"/>
            <a:chOff x="1550880" y="3601800"/>
            <a:chExt cx="214560" cy="143280"/>
          </a:xfrm>
        </p:grpSpPr>
        <p:sp>
          <p:nvSpPr>
            <p:cNvPr id="630" name="Gerade Verbindung 116"/>
            <p:cNvSpPr/>
            <p:nvPr/>
          </p:nvSpPr>
          <p:spPr>
            <a:xfrm>
              <a:off x="1550880" y="3649680"/>
              <a:ext cx="80640" cy="9540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1" name="Gerade Verbindung 117"/>
            <p:cNvSpPr/>
            <p:nvPr/>
          </p:nvSpPr>
          <p:spPr>
            <a:xfrm flipV="1">
              <a:off x="1644480" y="3601800"/>
              <a:ext cx="120960" cy="1429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2" name="Gruppieren 115"/>
          <p:cNvGrpSpPr/>
          <p:nvPr/>
        </p:nvGrpSpPr>
        <p:grpSpPr>
          <a:xfrm>
            <a:off x="2107440" y="3601800"/>
            <a:ext cx="217440" cy="143280"/>
            <a:chOff x="2107440" y="3601800"/>
            <a:chExt cx="217440" cy="143280"/>
          </a:xfrm>
        </p:grpSpPr>
        <p:sp>
          <p:nvSpPr>
            <p:cNvPr id="633" name="Gerade Verbindung 116"/>
            <p:cNvSpPr/>
            <p:nvPr/>
          </p:nvSpPr>
          <p:spPr>
            <a:xfrm>
              <a:off x="2107440" y="3649680"/>
              <a:ext cx="81720" cy="9540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4" name="Gerade Verbindung 117"/>
            <p:cNvSpPr/>
            <p:nvPr/>
          </p:nvSpPr>
          <p:spPr>
            <a:xfrm flipV="1">
              <a:off x="2202120" y="3601800"/>
              <a:ext cx="122760" cy="1429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5" name="Textfeld 29"/>
          <p:cNvSpPr/>
          <p:nvPr/>
        </p:nvSpPr>
        <p:spPr>
          <a:xfrm>
            <a:off x="6691320" y="3708360"/>
            <a:ext cx="360360" cy="255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Textfeld 30"/>
          <p:cNvSpPr/>
          <p:nvPr/>
        </p:nvSpPr>
        <p:spPr>
          <a:xfrm>
            <a:off x="7078680" y="3708360"/>
            <a:ext cx="40464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risks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Textfeld 31"/>
          <p:cNvSpPr/>
          <p:nvPr/>
        </p:nvSpPr>
        <p:spPr>
          <a:xfrm>
            <a:off x="7515360" y="3708360"/>
            <a:ext cx="401400" cy="623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Textfeld 32"/>
          <p:cNvSpPr/>
          <p:nvPr/>
        </p:nvSpPr>
        <p:spPr>
          <a:xfrm>
            <a:off x="8093160" y="370836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Textfeld 33"/>
          <p:cNvSpPr/>
          <p:nvPr/>
        </p:nvSpPr>
        <p:spPr>
          <a:xfrm>
            <a:off x="7842240" y="38527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0" name="Gruppieren 115"/>
          <p:cNvGrpSpPr/>
          <p:nvPr/>
        </p:nvGrpSpPr>
        <p:grpSpPr>
          <a:xfrm>
            <a:off x="6864480" y="3563640"/>
            <a:ext cx="214200" cy="144360"/>
            <a:chOff x="6864480" y="3563640"/>
            <a:chExt cx="214200" cy="144360"/>
          </a:xfrm>
        </p:grpSpPr>
        <p:sp>
          <p:nvSpPr>
            <p:cNvPr id="641" name="Gerade Verbindung 116"/>
            <p:cNvSpPr/>
            <p:nvPr/>
          </p:nvSpPr>
          <p:spPr>
            <a:xfrm>
              <a:off x="6864480" y="3611880"/>
              <a:ext cx="8064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Gerade Verbindung 117"/>
            <p:cNvSpPr/>
            <p:nvPr/>
          </p:nvSpPr>
          <p:spPr>
            <a:xfrm flipV="1">
              <a:off x="6957720" y="3563640"/>
              <a:ext cx="12096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43" name="Gruppieren 115"/>
          <p:cNvGrpSpPr/>
          <p:nvPr/>
        </p:nvGrpSpPr>
        <p:grpSpPr>
          <a:xfrm>
            <a:off x="7698600" y="3611160"/>
            <a:ext cx="216720" cy="144360"/>
            <a:chOff x="7698600" y="3611160"/>
            <a:chExt cx="216720" cy="144360"/>
          </a:xfrm>
        </p:grpSpPr>
        <p:sp>
          <p:nvSpPr>
            <p:cNvPr id="644" name="Gerade Verbindung 116"/>
            <p:cNvSpPr/>
            <p:nvPr/>
          </p:nvSpPr>
          <p:spPr>
            <a:xfrm>
              <a:off x="7698600" y="365940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Gerade Verbindung 117"/>
            <p:cNvSpPr/>
            <p:nvPr/>
          </p:nvSpPr>
          <p:spPr>
            <a:xfrm flipV="1">
              <a:off x="7793640" y="361116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46" name="Gruppieren 115"/>
          <p:cNvGrpSpPr/>
          <p:nvPr/>
        </p:nvGrpSpPr>
        <p:grpSpPr>
          <a:xfrm>
            <a:off x="8257320" y="3611160"/>
            <a:ext cx="216720" cy="144360"/>
            <a:chOff x="8257320" y="3611160"/>
            <a:chExt cx="216720" cy="144360"/>
          </a:xfrm>
        </p:grpSpPr>
        <p:sp>
          <p:nvSpPr>
            <p:cNvPr id="647" name="Gerade Verbindung 116"/>
            <p:cNvSpPr/>
            <p:nvPr/>
          </p:nvSpPr>
          <p:spPr>
            <a:xfrm>
              <a:off x="8257320" y="3659400"/>
              <a:ext cx="81000" cy="961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Gerade Verbindung 117"/>
            <p:cNvSpPr/>
            <p:nvPr/>
          </p:nvSpPr>
          <p:spPr>
            <a:xfrm flipV="1">
              <a:off x="8352360" y="3611160"/>
              <a:ext cx="121680" cy="1443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9" name="Gewitterblitz 46"/>
          <p:cNvSpPr/>
          <p:nvPr/>
        </p:nvSpPr>
        <p:spPr>
          <a:xfrm rot="4369800">
            <a:off x="7197840" y="3585240"/>
            <a:ext cx="30816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Textfeld 47"/>
          <p:cNvSpPr/>
          <p:nvPr/>
        </p:nvSpPr>
        <p:spPr>
          <a:xfrm>
            <a:off x="4576680" y="3705120"/>
            <a:ext cx="360360" cy="255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Textfeld 48"/>
          <p:cNvSpPr/>
          <p:nvPr/>
        </p:nvSpPr>
        <p:spPr>
          <a:xfrm>
            <a:off x="4964040" y="3705120"/>
            <a:ext cx="4050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Textfeld 49"/>
          <p:cNvSpPr/>
          <p:nvPr/>
        </p:nvSpPr>
        <p:spPr>
          <a:xfrm>
            <a:off x="5400720" y="3705120"/>
            <a:ext cx="401760" cy="623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Textfeld 50"/>
          <p:cNvSpPr/>
          <p:nvPr/>
        </p:nvSpPr>
        <p:spPr>
          <a:xfrm>
            <a:off x="5978520" y="370512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risks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Textfeld 51"/>
          <p:cNvSpPr/>
          <p:nvPr/>
        </p:nvSpPr>
        <p:spPr>
          <a:xfrm>
            <a:off x="5727600" y="38498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Gewitterblitz 61"/>
          <p:cNvSpPr/>
          <p:nvPr/>
        </p:nvSpPr>
        <p:spPr>
          <a:xfrm rot="4369800">
            <a:off x="5083920" y="3582000"/>
            <a:ext cx="30780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Gewitterblitz 62"/>
          <p:cNvSpPr/>
          <p:nvPr/>
        </p:nvSpPr>
        <p:spPr>
          <a:xfrm rot="4369800">
            <a:off x="5489280" y="3614760"/>
            <a:ext cx="307800" cy="2444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Gewitterblitz 63"/>
          <p:cNvSpPr/>
          <p:nvPr/>
        </p:nvSpPr>
        <p:spPr>
          <a:xfrm rot="4369800">
            <a:off x="6096600" y="3613680"/>
            <a:ext cx="307800" cy="24588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Textfeld 65"/>
          <p:cNvSpPr/>
          <p:nvPr/>
        </p:nvSpPr>
        <p:spPr>
          <a:xfrm>
            <a:off x="2486160" y="3691080"/>
            <a:ext cx="361800" cy="255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Textfeld 66"/>
          <p:cNvSpPr/>
          <p:nvPr/>
        </p:nvSpPr>
        <p:spPr>
          <a:xfrm>
            <a:off x="2874960" y="369108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risks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Textfeld 67"/>
          <p:cNvSpPr/>
          <p:nvPr/>
        </p:nvSpPr>
        <p:spPr>
          <a:xfrm>
            <a:off x="3308400" y="3691080"/>
            <a:ext cx="40464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Textfeld 68"/>
          <p:cNvSpPr/>
          <p:nvPr/>
        </p:nvSpPr>
        <p:spPr>
          <a:xfrm>
            <a:off x="3889440" y="3691080"/>
            <a:ext cx="403200" cy="592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Inform about anesthesia Make decision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heck patient reco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Send patient to surgical suit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erform surgery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epar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Transport patient to ward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Provide postsurgical care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Create surgery repor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Discharge patien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Make lab test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Write discharge letter</a:t>
            </a:r>
            <a:endParaRPr b="0" lang="en-US" sz="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Textfeld 69"/>
          <p:cNvSpPr/>
          <p:nvPr/>
        </p:nvSpPr>
        <p:spPr>
          <a:xfrm>
            <a:off x="3638520" y="3833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Gewitterblitz 71"/>
          <p:cNvSpPr/>
          <p:nvPr/>
        </p:nvSpPr>
        <p:spPr>
          <a:xfrm rot="4369800">
            <a:off x="3399480" y="3597840"/>
            <a:ext cx="30780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Gewitterblitz 72"/>
          <p:cNvSpPr/>
          <p:nvPr/>
        </p:nvSpPr>
        <p:spPr>
          <a:xfrm rot="4369800">
            <a:off x="4007520" y="3597840"/>
            <a:ext cx="30780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5" name="Gruppieren 115"/>
          <p:cNvGrpSpPr/>
          <p:nvPr/>
        </p:nvGrpSpPr>
        <p:grpSpPr>
          <a:xfrm>
            <a:off x="3075840" y="3601800"/>
            <a:ext cx="216720" cy="143280"/>
            <a:chOff x="3075840" y="3601800"/>
            <a:chExt cx="216720" cy="143280"/>
          </a:xfrm>
        </p:grpSpPr>
        <p:sp>
          <p:nvSpPr>
            <p:cNvPr id="666" name="Gerade Verbindung 116"/>
            <p:cNvSpPr/>
            <p:nvPr/>
          </p:nvSpPr>
          <p:spPr>
            <a:xfrm>
              <a:off x="3075840" y="3649680"/>
              <a:ext cx="81000" cy="9540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7" name="Gerade Verbindung 117"/>
            <p:cNvSpPr/>
            <p:nvPr/>
          </p:nvSpPr>
          <p:spPr>
            <a:xfrm flipV="1">
              <a:off x="3170880" y="3601800"/>
              <a:ext cx="121680" cy="1429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68" name="Gewitterblitz 64"/>
          <p:cNvSpPr/>
          <p:nvPr/>
        </p:nvSpPr>
        <p:spPr>
          <a:xfrm rot="4369800">
            <a:off x="2566080" y="3567600"/>
            <a:ext cx="307800" cy="2462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Gewitterblitz 8"/>
          <p:cNvSpPr/>
          <p:nvPr/>
        </p:nvSpPr>
        <p:spPr>
          <a:xfrm rot="4369800">
            <a:off x="4655880" y="3583080"/>
            <a:ext cx="307800" cy="2444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Textfeld 73"/>
          <p:cNvSpPr/>
          <p:nvPr/>
        </p:nvSpPr>
        <p:spPr>
          <a:xfrm>
            <a:off x="542880" y="4505400"/>
            <a:ext cx="18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races comp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Textfeld 74"/>
          <p:cNvSpPr/>
          <p:nvPr/>
        </p:nvSpPr>
        <p:spPr>
          <a:xfrm>
            <a:off x="6692760" y="4505400"/>
            <a:ext cx="18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one trace viol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extfeld 75"/>
          <p:cNvSpPr/>
          <p:nvPr/>
        </p:nvSpPr>
        <p:spPr>
          <a:xfrm>
            <a:off x="4575240" y="4505400"/>
            <a:ext cx="18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races viol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feld 76"/>
          <p:cNvSpPr/>
          <p:nvPr/>
        </p:nvSpPr>
        <p:spPr>
          <a:xfrm>
            <a:off x="2519280" y="4494240"/>
            <a:ext cx="18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one trace compl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Gerade Verbindung 78"/>
          <p:cNvSpPr/>
          <p:nvPr/>
        </p:nvSpPr>
        <p:spPr>
          <a:xfrm>
            <a:off x="2406600" y="1557360"/>
            <a:ext cx="0" cy="459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Gerade Verbindung 82"/>
          <p:cNvSpPr/>
          <p:nvPr/>
        </p:nvSpPr>
        <p:spPr>
          <a:xfrm>
            <a:off x="4349880" y="1557360"/>
            <a:ext cx="0" cy="459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Gerade Verbindung 83"/>
          <p:cNvSpPr/>
          <p:nvPr/>
        </p:nvSpPr>
        <p:spPr>
          <a:xfrm>
            <a:off x="6593040" y="1547640"/>
            <a:ext cx="0" cy="460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7" name="Gruppieren 14"/>
          <p:cNvGrpSpPr/>
          <p:nvPr/>
        </p:nvGrpSpPr>
        <p:grpSpPr>
          <a:xfrm>
            <a:off x="418320" y="2631600"/>
            <a:ext cx="650160" cy="612000"/>
            <a:chOff x="418320" y="2631600"/>
            <a:chExt cx="650160" cy="612000"/>
          </a:xfrm>
        </p:grpSpPr>
        <p:pic>
          <p:nvPicPr>
            <p:cNvPr id="678" name="Picture 6" descr="C:\Dokumente und Einstellungen\ly\Lokale Einstellungen\Temporary Internet Files\Content.IE5\HP7TVSEP\MCj04248020000[1].wmf"/>
            <p:cNvPicPr/>
            <p:nvPr/>
          </p:nvPicPr>
          <p:blipFill>
            <a:blip r:embed="rId8"/>
            <a:stretch/>
          </p:blipFill>
          <p:spPr>
            <a:xfrm rot="20842200">
              <a:off x="466560" y="2685600"/>
              <a:ext cx="5536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Textfeld 13"/>
            <p:cNvSpPr/>
            <p:nvPr/>
          </p:nvSpPr>
          <p:spPr>
            <a:xfrm rot="21366000">
              <a:off x="493200" y="2746800"/>
              <a:ext cx="54972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§5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80" name="Gruppieren 14"/>
          <p:cNvGrpSpPr/>
          <p:nvPr/>
        </p:nvGrpSpPr>
        <p:grpSpPr>
          <a:xfrm>
            <a:off x="4376160" y="2612520"/>
            <a:ext cx="650160" cy="612000"/>
            <a:chOff x="4376160" y="2612520"/>
            <a:chExt cx="650160" cy="612000"/>
          </a:xfrm>
        </p:grpSpPr>
        <p:pic>
          <p:nvPicPr>
            <p:cNvPr id="681" name="Picture 6" descr="C:\Dokumente und Einstellungen\ly\Lokale Einstellungen\Temporary Internet Files\Content.IE5\HP7TVSEP\MCj04248020000[1].wmf"/>
            <p:cNvPicPr/>
            <p:nvPr/>
          </p:nvPicPr>
          <p:blipFill>
            <a:blip r:embed="rId9"/>
            <a:stretch/>
          </p:blipFill>
          <p:spPr>
            <a:xfrm rot="20842200">
              <a:off x="4424400" y="2666520"/>
              <a:ext cx="5536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Textfeld 13"/>
            <p:cNvSpPr/>
            <p:nvPr/>
          </p:nvSpPr>
          <p:spPr>
            <a:xfrm rot="21366000">
              <a:off x="4451040" y="2727720"/>
              <a:ext cx="54972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§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83" name="Gruppieren 14"/>
          <p:cNvGrpSpPr/>
          <p:nvPr/>
        </p:nvGrpSpPr>
        <p:grpSpPr>
          <a:xfrm>
            <a:off x="6682320" y="2562120"/>
            <a:ext cx="649440" cy="613440"/>
            <a:chOff x="6682320" y="2562120"/>
            <a:chExt cx="649440" cy="613440"/>
          </a:xfrm>
        </p:grpSpPr>
        <p:pic>
          <p:nvPicPr>
            <p:cNvPr id="684" name="Picture 6" descr="C:\Dokumente und Einstellungen\ly\Lokale Einstellungen\Temporary Internet Files\Content.IE5\HP7TVSEP\MCj04248020000[1].wmf"/>
            <p:cNvPicPr/>
            <p:nvPr/>
          </p:nvPicPr>
          <p:blipFill>
            <a:blip r:embed="rId10"/>
            <a:stretch/>
          </p:blipFill>
          <p:spPr>
            <a:xfrm rot="20842200">
              <a:off x="6730560" y="2616120"/>
              <a:ext cx="55224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Textfeld 13"/>
            <p:cNvSpPr/>
            <p:nvPr/>
          </p:nvSpPr>
          <p:spPr>
            <a:xfrm rot="21366000">
              <a:off x="6757560" y="2678400"/>
              <a:ext cx="548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§4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6" name="Textfeld 96"/>
          <p:cNvSpPr/>
          <p:nvPr/>
        </p:nvSpPr>
        <p:spPr>
          <a:xfrm>
            <a:off x="745560" y="541332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 compli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th §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Textfeld 97"/>
          <p:cNvSpPr/>
          <p:nvPr/>
        </p:nvSpPr>
        <p:spPr>
          <a:xfrm>
            <a:off x="2762640" y="5229360"/>
            <a:ext cx="122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 partial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pli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th §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Textfeld 98"/>
          <p:cNvSpPr/>
          <p:nvPr/>
        </p:nvSpPr>
        <p:spPr>
          <a:xfrm>
            <a:off x="7080840" y="5413320"/>
            <a:ext cx="12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 partial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olates §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Textfeld 99"/>
          <p:cNvSpPr/>
          <p:nvPr/>
        </p:nvSpPr>
        <p:spPr>
          <a:xfrm>
            <a:off x="4714920" y="559908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 violates §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0" name="Picture 6" descr=""/>
          <p:cNvPicPr/>
          <p:nvPr/>
        </p:nvPicPr>
        <p:blipFill>
          <a:blip r:embed="rId11"/>
          <a:stretch/>
        </p:blipFill>
        <p:spPr>
          <a:xfrm>
            <a:off x="2519280" y="3149640"/>
            <a:ext cx="1701720" cy="301680"/>
          </a:xfrm>
          <a:prstGeom prst="rect">
            <a:avLst/>
          </a:prstGeom>
          <a:ln w="0">
            <a:noFill/>
          </a:ln>
        </p:spPr>
      </p:pic>
      <p:grpSp>
        <p:nvGrpSpPr>
          <p:cNvPr id="691" name="Gruppieren 14"/>
          <p:cNvGrpSpPr/>
          <p:nvPr/>
        </p:nvGrpSpPr>
        <p:grpSpPr>
          <a:xfrm>
            <a:off x="2369160" y="2590560"/>
            <a:ext cx="650520" cy="613440"/>
            <a:chOff x="2369160" y="2590560"/>
            <a:chExt cx="650520" cy="613440"/>
          </a:xfrm>
        </p:grpSpPr>
        <p:pic>
          <p:nvPicPr>
            <p:cNvPr id="692" name="Picture 6" descr="C:\Dokumente und Einstellungen\ly\Lokale Einstellungen\Temporary Internet Files\Content.IE5\HP7TVSEP\MCj04248020000[1].wmf"/>
            <p:cNvPicPr/>
            <p:nvPr/>
          </p:nvPicPr>
          <p:blipFill>
            <a:blip r:embed="rId12"/>
            <a:stretch/>
          </p:blipFill>
          <p:spPr>
            <a:xfrm rot="20842200">
              <a:off x="2417400" y="2644560"/>
              <a:ext cx="5536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Textfeld 13"/>
            <p:cNvSpPr/>
            <p:nvPr/>
          </p:nvSpPr>
          <p:spPr>
            <a:xfrm rot="21366000">
              <a:off x="2444400" y="2706480"/>
              <a:ext cx="54972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§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694" name="Picture 4" descr=""/>
          <p:cNvPicPr/>
          <p:nvPr/>
        </p:nvPicPr>
        <p:blipFill>
          <a:blip r:embed="rId13"/>
          <a:stretch/>
        </p:blipFill>
        <p:spPr>
          <a:xfrm>
            <a:off x="696960" y="3149640"/>
            <a:ext cx="1628640" cy="2998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7" descr=""/>
          <p:cNvPicPr/>
          <p:nvPr/>
        </p:nvPicPr>
        <p:blipFill>
          <a:blip r:embed="rId14"/>
          <a:stretch/>
        </p:blipFill>
        <p:spPr>
          <a:xfrm>
            <a:off x="6859440" y="3160800"/>
            <a:ext cx="1760760" cy="299880"/>
          </a:xfrm>
          <a:prstGeom prst="rect">
            <a:avLst/>
          </a:prstGeom>
          <a:ln w="0">
            <a:noFill/>
          </a:ln>
        </p:spPr>
      </p:pic>
      <p:sp>
        <p:nvSpPr>
          <p:cNvPr id="696" name="Rechteck 116"/>
          <p:cNvSpPr/>
          <p:nvPr/>
        </p:nvSpPr>
        <p:spPr>
          <a:xfrm>
            <a:off x="530640" y="15476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Rechteck 117"/>
          <p:cNvSpPr/>
          <p:nvPr/>
        </p:nvSpPr>
        <p:spPr>
          <a:xfrm>
            <a:off x="2466000" y="15638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Rechteck 118"/>
          <p:cNvSpPr/>
          <p:nvPr/>
        </p:nvSpPr>
        <p:spPr>
          <a:xfrm>
            <a:off x="4566240" y="15476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Rechteck 119"/>
          <p:cNvSpPr/>
          <p:nvPr/>
        </p:nvSpPr>
        <p:spPr>
          <a:xfrm>
            <a:off x="6688440" y="155736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0" name="Gruppieren 100"/>
          <p:cNvGrpSpPr/>
          <p:nvPr/>
        </p:nvGrpSpPr>
        <p:grpSpPr>
          <a:xfrm>
            <a:off x="7467840" y="-46440"/>
            <a:ext cx="1895760" cy="1895040"/>
            <a:chOff x="7467840" y="-46440"/>
            <a:chExt cx="1895760" cy="1895040"/>
          </a:xfrm>
        </p:grpSpPr>
        <p:sp>
          <p:nvSpPr>
            <p:cNvPr id="701" name="Arc 4"/>
            <p:cNvSpPr/>
            <p:nvPr/>
          </p:nvSpPr>
          <p:spPr>
            <a:xfrm rot="2700000">
              <a:off x="8554680" y="566640"/>
              <a:ext cx="669960" cy="6699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0" tIns="18000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2" name="Arc 5"/>
            <p:cNvSpPr/>
            <p:nvPr/>
          </p:nvSpPr>
          <p:spPr>
            <a:xfrm rot="2700000">
              <a:off x="8081280" y="1039680"/>
              <a:ext cx="669960" cy="6699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670320" bIns="-12168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3" name="Arc 6"/>
            <p:cNvSpPr/>
            <p:nvPr/>
          </p:nvSpPr>
          <p:spPr>
            <a:xfrm rot="2700000">
              <a:off x="7606080" y="565560"/>
              <a:ext cx="671400" cy="66996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8000" tIns="-265680" bIns="67032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4" name="Arc 7"/>
            <p:cNvSpPr/>
            <p:nvPr/>
          </p:nvSpPr>
          <p:spPr>
            <a:xfrm rot="2700000">
              <a:off x="8079120" y="92520"/>
              <a:ext cx="671400" cy="66996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70"/>
                    <a:pt x="9670" y="0"/>
                    <a:pt x="21599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ada7a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10800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5" name="Oval 31"/>
            <p:cNvSpPr/>
            <p:nvPr/>
          </p:nvSpPr>
          <p:spPr>
            <a:xfrm>
              <a:off x="8128800" y="604800"/>
              <a:ext cx="576000" cy="5756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erdana"/>
                </a:rPr>
                <a:t>PLC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6" name="Freeform 11"/>
            <p:cNvSpPr/>
            <p:nvPr/>
          </p:nvSpPr>
          <p:spPr>
            <a:xfrm rot="18908400">
              <a:off x="8663040" y="1017360"/>
              <a:ext cx="109440" cy="5079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344"/>
                  </a:moveTo>
                  <a:lnTo>
                    <a:pt x="10000" y="0"/>
                  </a:lnTo>
                  <a:lnTo>
                    <a:pt x="0" y="5049"/>
                  </a:lnTo>
                  <a:lnTo>
                    <a:pt x="9848" y="10000"/>
                  </a:lnTo>
                  <a:cubicBezTo>
                    <a:pt x="9849" y="9606"/>
                    <a:pt x="9850" y="9213"/>
                    <a:pt x="9851" y="8819"/>
                  </a:cubicBezTo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56000" rIns="0" tIns="18000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7" name="Freeform 12"/>
            <p:cNvSpPr/>
            <p:nvPr/>
          </p:nvSpPr>
          <p:spPr>
            <a:xfrm rot="8108400">
              <a:off x="8054280" y="275760"/>
              <a:ext cx="110880" cy="507960"/>
            </a:xfrm>
            <a:custGeom>
              <a:avLst/>
              <a:gdLst/>
              <a:ahLst/>
              <a:rect l="l" t="t" r="r" b="b"/>
              <a:pathLst>
                <a:path w="10083" h="10000">
                  <a:moveTo>
                    <a:pt x="10083" y="1264"/>
                  </a:moveTo>
                  <a:cubicBezTo>
                    <a:pt x="10055" y="821"/>
                    <a:pt x="10028" y="443"/>
                    <a:pt x="10000" y="0"/>
                  </a:cubicBezTo>
                  <a:lnTo>
                    <a:pt x="0" y="5049"/>
                  </a:lnTo>
                  <a:lnTo>
                    <a:pt x="9848" y="10000"/>
                  </a:lnTo>
                  <a:cubicBezTo>
                    <a:pt x="9849" y="9595"/>
                    <a:pt x="9850" y="9191"/>
                    <a:pt x="9851" y="8786"/>
                  </a:cubicBezTo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8000" tIns="-428040" bIns="5079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8" name="Freeform 13"/>
            <p:cNvSpPr/>
            <p:nvPr/>
          </p:nvSpPr>
          <p:spPr>
            <a:xfrm flipH="1" rot="2691600">
              <a:off x="8728560" y="345960"/>
              <a:ext cx="109080" cy="506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9997" y="1098"/>
                  </a:moveTo>
                  <a:lnTo>
                    <a:pt x="10000" y="0"/>
                  </a:lnTo>
                  <a:lnTo>
                    <a:pt x="0" y="5049"/>
                  </a:lnTo>
                  <a:lnTo>
                    <a:pt x="9848" y="10000"/>
                  </a:lnTo>
                  <a:lnTo>
                    <a:pt x="9848" y="8525"/>
                  </a:lnTo>
                </a:path>
              </a:pathLst>
            </a:custGeom>
            <a:solidFill>
              <a:srgbClr val="fada7a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9" name="Freeform 14"/>
            <p:cNvSpPr/>
            <p:nvPr/>
          </p:nvSpPr>
          <p:spPr>
            <a:xfrm flipH="1" rot="13491600">
              <a:off x="7994160" y="948960"/>
              <a:ext cx="109080" cy="506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9997" y="1114"/>
                  </a:moveTo>
                  <a:cubicBezTo>
                    <a:pt x="9998" y="743"/>
                    <a:pt x="9999" y="371"/>
                    <a:pt x="10000" y="0"/>
                  </a:cubicBezTo>
                  <a:lnTo>
                    <a:pt x="0" y="5049"/>
                  </a:lnTo>
                  <a:lnTo>
                    <a:pt x="9848" y="10000"/>
                  </a:lnTo>
                  <a:cubicBezTo>
                    <a:pt x="9849" y="9607"/>
                    <a:pt x="9850" y="9213"/>
                    <a:pt x="9851" y="8820"/>
                  </a:cubicBezTo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506160" bIns="-2858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feld 121"/>
            <p:cNvSpPr/>
            <p:nvPr/>
          </p:nvSpPr>
          <p:spPr>
            <a:xfrm>
              <a:off x="8153280" y="330120"/>
              <a:ext cx="52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1" name="Textfeld 122"/>
            <p:cNvSpPr/>
            <p:nvPr/>
          </p:nvSpPr>
          <p:spPr>
            <a:xfrm>
              <a:off x="8157240" y="1213200"/>
              <a:ext cx="52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2" name="Textfeld 123"/>
            <p:cNvSpPr/>
            <p:nvPr/>
          </p:nvSpPr>
          <p:spPr>
            <a:xfrm rot="5400000">
              <a:off x="8607600" y="763200"/>
              <a:ext cx="52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3" name="Textfeld 124"/>
            <p:cNvSpPr/>
            <p:nvPr/>
          </p:nvSpPr>
          <p:spPr>
            <a:xfrm rot="16200000">
              <a:off x="7692480" y="753840"/>
              <a:ext cx="52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un Time Compli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5" name="Textfeld 15"/>
          <p:cNvSpPr/>
          <p:nvPr/>
        </p:nvSpPr>
        <p:spPr>
          <a:xfrm>
            <a:off x="4294080" y="1706400"/>
            <a:ext cx="1827360" cy="1133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 about anesthes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Make decisio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Textfeld 100"/>
          <p:cNvSpPr/>
          <p:nvPr/>
        </p:nvSpPr>
        <p:spPr>
          <a:xfrm>
            <a:off x="6829560" y="1700280"/>
            <a:ext cx="1650960" cy="1239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t pat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checku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pat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 about risk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deci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 surge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7" name="Picture 3" descr=""/>
          <p:cNvPicPr/>
          <p:nvPr/>
        </p:nvPicPr>
        <p:blipFill>
          <a:blip r:embed="rId1"/>
          <a:stretch/>
        </p:blipFill>
        <p:spPr>
          <a:xfrm>
            <a:off x="646200" y="3413160"/>
            <a:ext cx="3247920" cy="371520"/>
          </a:xfrm>
          <a:prstGeom prst="rect">
            <a:avLst/>
          </a:prstGeom>
          <a:ln w="0">
            <a:noFill/>
          </a:ln>
        </p:spPr>
      </p:pic>
      <p:grpSp>
        <p:nvGrpSpPr>
          <p:cNvPr id="718" name="Gruppieren 115"/>
          <p:cNvGrpSpPr/>
          <p:nvPr/>
        </p:nvGrpSpPr>
        <p:grpSpPr>
          <a:xfrm>
            <a:off x="7514640" y="3513240"/>
            <a:ext cx="355320" cy="241200"/>
            <a:chOff x="7514640" y="3513240"/>
            <a:chExt cx="355320" cy="241200"/>
          </a:xfrm>
        </p:grpSpPr>
        <p:sp>
          <p:nvSpPr>
            <p:cNvPr id="719" name="Gerade Verbindung 116"/>
            <p:cNvSpPr/>
            <p:nvPr/>
          </p:nvSpPr>
          <p:spPr>
            <a:xfrm>
              <a:off x="7514640" y="3593520"/>
              <a:ext cx="133560" cy="160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0" name="Gerade Verbindung 117"/>
            <p:cNvSpPr/>
            <p:nvPr/>
          </p:nvSpPr>
          <p:spPr>
            <a:xfrm flipV="1">
              <a:off x="7669440" y="3513240"/>
              <a:ext cx="200520" cy="241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21" name="Gewitterblitz 112"/>
          <p:cNvSpPr/>
          <p:nvPr/>
        </p:nvSpPr>
        <p:spPr>
          <a:xfrm rot="4369800">
            <a:off x="4871520" y="3395160"/>
            <a:ext cx="514440" cy="4064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2" name="Picture 7" descr=""/>
          <p:cNvPicPr/>
          <p:nvPr/>
        </p:nvPicPr>
        <p:blipFill>
          <a:blip r:embed="rId2"/>
          <a:stretch/>
        </p:blipFill>
        <p:spPr>
          <a:xfrm>
            <a:off x="1332000" y="5068800"/>
            <a:ext cx="2171520" cy="371520"/>
          </a:xfrm>
          <a:prstGeom prst="rect">
            <a:avLst/>
          </a:prstGeom>
          <a:ln w="0">
            <a:noFill/>
          </a:ln>
        </p:spPr>
      </p:pic>
      <p:grpSp>
        <p:nvGrpSpPr>
          <p:cNvPr id="723" name="Gruppieren 115"/>
          <p:cNvGrpSpPr/>
          <p:nvPr/>
        </p:nvGrpSpPr>
        <p:grpSpPr>
          <a:xfrm>
            <a:off x="4950720" y="5133960"/>
            <a:ext cx="355680" cy="241200"/>
            <a:chOff x="4950720" y="5133960"/>
            <a:chExt cx="355680" cy="241200"/>
          </a:xfrm>
        </p:grpSpPr>
        <p:sp>
          <p:nvSpPr>
            <p:cNvPr id="724" name="Gerade Verbindung 116"/>
            <p:cNvSpPr/>
            <p:nvPr/>
          </p:nvSpPr>
          <p:spPr>
            <a:xfrm>
              <a:off x="4950720" y="5214240"/>
              <a:ext cx="133560" cy="160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5" name="Gerade Verbindung 117"/>
            <p:cNvSpPr/>
            <p:nvPr/>
          </p:nvSpPr>
          <p:spPr>
            <a:xfrm flipV="1">
              <a:off x="5105880" y="5133960"/>
              <a:ext cx="200520" cy="241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26" name="Gewitterblitz 117"/>
          <p:cNvSpPr/>
          <p:nvPr/>
        </p:nvSpPr>
        <p:spPr>
          <a:xfrm rot="4369800">
            <a:off x="7398360" y="5052240"/>
            <a:ext cx="514440" cy="40464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Gerade Verbindung 118"/>
          <p:cNvSpPr/>
          <p:nvPr/>
        </p:nvSpPr>
        <p:spPr>
          <a:xfrm>
            <a:off x="4067280" y="1700280"/>
            <a:ext cx="0" cy="444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Gerade Verbindung 119"/>
          <p:cNvSpPr/>
          <p:nvPr/>
        </p:nvSpPr>
        <p:spPr>
          <a:xfrm>
            <a:off x="6372360" y="1700280"/>
            <a:ext cx="0" cy="444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Gerade Verbindung 120"/>
          <p:cNvSpPr/>
          <p:nvPr/>
        </p:nvSpPr>
        <p:spPr>
          <a:xfrm>
            <a:off x="466560" y="3111480"/>
            <a:ext cx="892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Gerade Verbindung 121"/>
          <p:cNvSpPr/>
          <p:nvPr/>
        </p:nvSpPr>
        <p:spPr>
          <a:xfrm>
            <a:off x="466560" y="4745160"/>
            <a:ext cx="907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1" name="Gruppieren 115"/>
          <p:cNvGrpSpPr/>
          <p:nvPr/>
        </p:nvGrpSpPr>
        <p:grpSpPr>
          <a:xfrm>
            <a:off x="5079240" y="3521160"/>
            <a:ext cx="357120" cy="239760"/>
            <a:chOff x="5079240" y="3521160"/>
            <a:chExt cx="357120" cy="239760"/>
          </a:xfrm>
        </p:grpSpPr>
        <p:sp>
          <p:nvSpPr>
            <p:cNvPr id="732" name="Gerade Verbindung 116"/>
            <p:cNvSpPr/>
            <p:nvPr/>
          </p:nvSpPr>
          <p:spPr>
            <a:xfrm>
              <a:off x="5079240" y="3601080"/>
              <a:ext cx="134280" cy="15984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3" name="Gerade Verbindung 117"/>
            <p:cNvSpPr/>
            <p:nvPr/>
          </p:nvSpPr>
          <p:spPr>
            <a:xfrm flipV="1">
              <a:off x="5235120" y="3521160"/>
              <a:ext cx="201240" cy="2397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34" name="Rechteck 125"/>
          <p:cNvSpPr/>
          <p:nvPr/>
        </p:nvSpPr>
        <p:spPr>
          <a:xfrm>
            <a:off x="5702400" y="1706400"/>
            <a:ext cx="33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Rechteck 126"/>
          <p:cNvSpPr/>
          <p:nvPr/>
        </p:nvSpPr>
        <p:spPr>
          <a:xfrm>
            <a:off x="8118720" y="1700280"/>
            <a:ext cx="33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Textfeld 127"/>
          <p:cNvSpPr/>
          <p:nvPr/>
        </p:nvSpPr>
        <p:spPr>
          <a:xfrm>
            <a:off x="4197240" y="4076640"/>
            <a:ext cx="202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iolates §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7" name="Gruppieren 14"/>
          <p:cNvGrpSpPr/>
          <p:nvPr/>
        </p:nvGrpSpPr>
        <p:grpSpPr>
          <a:xfrm>
            <a:off x="614160" y="3654000"/>
            <a:ext cx="857880" cy="847440"/>
            <a:chOff x="614160" y="3654000"/>
            <a:chExt cx="857880" cy="847440"/>
          </a:xfrm>
        </p:grpSpPr>
        <p:pic>
          <p:nvPicPr>
            <p:cNvPr id="738" name="Picture 6" descr="C:\Dokumente und Einstellungen\ly\Lokale Einstellungen\Temporary Internet Files\Content.IE5\HP7TVSEP\MCj04248020000[1].wmf"/>
            <p:cNvPicPr/>
            <p:nvPr/>
          </p:nvPicPr>
          <p:blipFill>
            <a:blip r:embed="rId3"/>
            <a:stretch/>
          </p:blipFill>
          <p:spPr>
            <a:xfrm rot="20842200">
              <a:off x="682560" y="3724200"/>
              <a:ext cx="720720" cy="7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Textfeld 13"/>
            <p:cNvSpPr/>
            <p:nvPr/>
          </p:nvSpPr>
          <p:spPr>
            <a:xfrm rot="21366000">
              <a:off x="684720" y="3900240"/>
              <a:ext cx="71604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§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40" name="Gruppieren 14"/>
          <p:cNvGrpSpPr/>
          <p:nvPr/>
        </p:nvGrpSpPr>
        <p:grpSpPr>
          <a:xfrm>
            <a:off x="1264680" y="5295960"/>
            <a:ext cx="863280" cy="839520"/>
            <a:chOff x="1264680" y="5295960"/>
            <a:chExt cx="863280" cy="839520"/>
          </a:xfrm>
        </p:grpSpPr>
        <p:pic>
          <p:nvPicPr>
            <p:cNvPr id="741" name="Picture 6" descr="C:\Dokumente und Einstellungen\ly\Lokale Einstellungen\Temporary Internet Files\Content.IE5\HP7TVSEP\MCj04248020000[1].wmf"/>
            <p:cNvPicPr/>
            <p:nvPr/>
          </p:nvPicPr>
          <p:blipFill>
            <a:blip r:embed="rId4"/>
            <a:stretch/>
          </p:blipFill>
          <p:spPr>
            <a:xfrm rot="20842200">
              <a:off x="1332000" y="5367240"/>
              <a:ext cx="72864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Textfeld 13"/>
            <p:cNvSpPr/>
            <p:nvPr/>
          </p:nvSpPr>
          <p:spPr>
            <a:xfrm rot="21366000">
              <a:off x="1334160" y="5538240"/>
              <a:ext cx="723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§4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43" name="Textfeld 138"/>
          <p:cNvSpPr/>
          <p:nvPr/>
        </p:nvSpPr>
        <p:spPr>
          <a:xfrm>
            <a:off x="6759720" y="3892680"/>
            <a:ext cx="20224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complies with §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Textfeld 139"/>
          <p:cNvSpPr/>
          <p:nvPr/>
        </p:nvSpPr>
        <p:spPr>
          <a:xfrm>
            <a:off x="6759720" y="5916600"/>
            <a:ext cx="202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violates §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Textfeld 140"/>
          <p:cNvSpPr/>
          <p:nvPr/>
        </p:nvSpPr>
        <p:spPr>
          <a:xfrm>
            <a:off x="4214880" y="5730840"/>
            <a:ext cx="20224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complies with §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Gewitterblitz 141"/>
          <p:cNvSpPr/>
          <p:nvPr/>
        </p:nvSpPr>
        <p:spPr>
          <a:xfrm rot="4369800">
            <a:off x="7593120" y="5091840"/>
            <a:ext cx="514440" cy="405000"/>
          </a:xfrm>
          <a:prstGeom prst="lightningBol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Textfeld 142"/>
          <p:cNvSpPr/>
          <p:nvPr/>
        </p:nvSpPr>
        <p:spPr>
          <a:xfrm>
            <a:off x="4089240" y="3787920"/>
            <a:ext cx="2345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curably violates §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Textfeld 143"/>
          <p:cNvSpPr/>
          <p:nvPr/>
        </p:nvSpPr>
        <p:spPr>
          <a:xfrm>
            <a:off x="6559560" y="5626080"/>
            <a:ext cx="2427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ncurably violates §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9" name="Gruppieren 36"/>
          <p:cNvGrpSpPr/>
          <p:nvPr/>
        </p:nvGrpSpPr>
        <p:grpSpPr>
          <a:xfrm>
            <a:off x="7467840" y="-46440"/>
            <a:ext cx="1895760" cy="1895040"/>
            <a:chOff x="7467840" y="-46440"/>
            <a:chExt cx="1895760" cy="1895040"/>
          </a:xfrm>
        </p:grpSpPr>
        <p:sp>
          <p:nvSpPr>
            <p:cNvPr id="750" name="Arc 4"/>
            <p:cNvSpPr/>
            <p:nvPr/>
          </p:nvSpPr>
          <p:spPr>
            <a:xfrm rot="2700000">
              <a:off x="8554680" y="566640"/>
              <a:ext cx="669960" cy="6699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ada7a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0" tIns="18000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1" name="Arc 5"/>
            <p:cNvSpPr/>
            <p:nvPr/>
          </p:nvSpPr>
          <p:spPr>
            <a:xfrm rot="2700000">
              <a:off x="8081280" y="1039680"/>
              <a:ext cx="669960" cy="6699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670320" bIns="-12168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2" name="Arc 6"/>
            <p:cNvSpPr/>
            <p:nvPr/>
          </p:nvSpPr>
          <p:spPr>
            <a:xfrm rot="2700000">
              <a:off x="7606080" y="565560"/>
              <a:ext cx="671400" cy="66996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8000" tIns="-265680" bIns="67032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3" name="Arc 7"/>
            <p:cNvSpPr/>
            <p:nvPr/>
          </p:nvSpPr>
          <p:spPr>
            <a:xfrm rot="2700000">
              <a:off x="8079120" y="92520"/>
              <a:ext cx="671400" cy="66996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70"/>
                    <a:pt x="9670" y="0"/>
                    <a:pt x="21599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10800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4" name="Oval 31"/>
            <p:cNvSpPr/>
            <p:nvPr/>
          </p:nvSpPr>
          <p:spPr>
            <a:xfrm>
              <a:off x="8128800" y="604800"/>
              <a:ext cx="576000" cy="5756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Verdana"/>
                </a:rPr>
                <a:t>PLC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Freeform 11"/>
            <p:cNvSpPr/>
            <p:nvPr/>
          </p:nvSpPr>
          <p:spPr>
            <a:xfrm rot="18908400">
              <a:off x="8663040" y="1017360"/>
              <a:ext cx="109440" cy="5079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344"/>
                  </a:moveTo>
                  <a:lnTo>
                    <a:pt x="10000" y="0"/>
                  </a:lnTo>
                  <a:lnTo>
                    <a:pt x="0" y="5049"/>
                  </a:lnTo>
                  <a:lnTo>
                    <a:pt x="9848" y="10000"/>
                  </a:lnTo>
                  <a:cubicBezTo>
                    <a:pt x="9849" y="9606"/>
                    <a:pt x="9850" y="9213"/>
                    <a:pt x="9851" y="8819"/>
                  </a:cubicBezTo>
                </a:path>
              </a:pathLst>
            </a:custGeom>
            <a:solidFill>
              <a:srgbClr val="fada7a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56000" rIns="0" tIns="18000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Freeform 12"/>
            <p:cNvSpPr/>
            <p:nvPr/>
          </p:nvSpPr>
          <p:spPr>
            <a:xfrm rot="8108400">
              <a:off x="8054280" y="275760"/>
              <a:ext cx="110880" cy="507960"/>
            </a:xfrm>
            <a:custGeom>
              <a:avLst/>
              <a:gdLst/>
              <a:ahLst/>
              <a:rect l="l" t="t" r="r" b="b"/>
              <a:pathLst>
                <a:path w="10083" h="10000">
                  <a:moveTo>
                    <a:pt x="10083" y="1264"/>
                  </a:moveTo>
                  <a:cubicBezTo>
                    <a:pt x="10055" y="821"/>
                    <a:pt x="10028" y="443"/>
                    <a:pt x="10000" y="0"/>
                  </a:cubicBezTo>
                  <a:lnTo>
                    <a:pt x="0" y="5049"/>
                  </a:lnTo>
                  <a:lnTo>
                    <a:pt x="9848" y="10000"/>
                  </a:lnTo>
                  <a:cubicBezTo>
                    <a:pt x="9849" y="9595"/>
                    <a:pt x="9850" y="9191"/>
                    <a:pt x="9851" y="8786"/>
                  </a:cubicBezTo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288000" tIns="-428040" bIns="50796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Freeform 13"/>
            <p:cNvSpPr/>
            <p:nvPr/>
          </p:nvSpPr>
          <p:spPr>
            <a:xfrm flipH="1" rot="2691600">
              <a:off x="8728560" y="345960"/>
              <a:ext cx="109080" cy="506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9997" y="1098"/>
                  </a:moveTo>
                  <a:lnTo>
                    <a:pt x="10000" y="0"/>
                  </a:lnTo>
                  <a:lnTo>
                    <a:pt x="0" y="5049"/>
                  </a:lnTo>
                  <a:lnTo>
                    <a:pt x="9848" y="10000"/>
                  </a:lnTo>
                  <a:lnTo>
                    <a:pt x="9848" y="8525"/>
                  </a:lnTo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Freeform 14"/>
            <p:cNvSpPr/>
            <p:nvPr/>
          </p:nvSpPr>
          <p:spPr>
            <a:xfrm flipH="1" rot="13491600">
              <a:off x="7994160" y="948960"/>
              <a:ext cx="109080" cy="5061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9997" y="1114"/>
                  </a:moveTo>
                  <a:cubicBezTo>
                    <a:pt x="9998" y="743"/>
                    <a:pt x="9999" y="371"/>
                    <a:pt x="10000" y="0"/>
                  </a:cubicBezTo>
                  <a:lnTo>
                    <a:pt x="0" y="5049"/>
                  </a:lnTo>
                  <a:lnTo>
                    <a:pt x="9848" y="10000"/>
                  </a:lnTo>
                  <a:cubicBezTo>
                    <a:pt x="9849" y="9607"/>
                    <a:pt x="9850" y="9213"/>
                    <a:pt x="9851" y="8820"/>
                  </a:cubicBezTo>
                </a:path>
              </a:pathLst>
            </a:custGeom>
            <a:solidFill>
              <a:srgbClr val="fce9a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506160" bIns="-28584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Textfeld 46"/>
            <p:cNvSpPr/>
            <p:nvPr/>
          </p:nvSpPr>
          <p:spPr>
            <a:xfrm>
              <a:off x="8153280" y="330120"/>
              <a:ext cx="52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Textfeld 47"/>
            <p:cNvSpPr/>
            <p:nvPr/>
          </p:nvSpPr>
          <p:spPr>
            <a:xfrm>
              <a:off x="8157240" y="1213200"/>
              <a:ext cx="52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Textfeld 48"/>
            <p:cNvSpPr/>
            <p:nvPr/>
          </p:nvSpPr>
          <p:spPr>
            <a:xfrm rot="5400000">
              <a:off x="8607600" y="763200"/>
              <a:ext cx="52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Textfeld 49"/>
            <p:cNvSpPr/>
            <p:nvPr/>
          </p:nvSpPr>
          <p:spPr>
            <a:xfrm rot="16200000">
              <a:off x="7692480" y="753840"/>
              <a:ext cx="52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mpliance Check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4" name="Rechteck 5"/>
          <p:cNvSpPr/>
          <p:nvPr/>
        </p:nvSpPr>
        <p:spPr>
          <a:xfrm>
            <a:off x="4786200" y="5137200"/>
            <a:ext cx="1873440" cy="81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+ additional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Rechteck 6"/>
          <p:cNvSpPr/>
          <p:nvPr/>
        </p:nvSpPr>
        <p:spPr>
          <a:xfrm>
            <a:off x="3186000" y="3282840"/>
            <a:ext cx="1981440" cy="762120"/>
          </a:xfrm>
          <a:prstGeom prst="rect">
            <a:avLst/>
          </a:prstGeom>
          <a:solidFill>
            <a:srgbClr val="fa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Verific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Rechteck 7"/>
          <p:cNvSpPr/>
          <p:nvPr/>
        </p:nvSpPr>
        <p:spPr>
          <a:xfrm>
            <a:off x="2195640" y="2139840"/>
            <a:ext cx="1523880" cy="6098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Process-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Rechteck 8"/>
          <p:cNvSpPr/>
          <p:nvPr/>
        </p:nvSpPr>
        <p:spPr>
          <a:xfrm>
            <a:off x="4557600" y="2139840"/>
            <a:ext cx="1524240" cy="6098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mpliance Ru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68" name="Gerade Verbindung mit Pfeil 9"/>
          <p:cNvCxnSpPr/>
          <p:nvPr/>
        </p:nvCxnSpPr>
        <p:spPr>
          <a:xfrm>
            <a:off x="3261960" y="2749320"/>
            <a:ext cx="686520" cy="53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9" name="Gerade Verbindung mit Pfeil 12"/>
          <p:cNvCxnSpPr/>
          <p:nvPr/>
        </p:nvCxnSpPr>
        <p:spPr>
          <a:xfrm flipH="1">
            <a:off x="4404600" y="2748600"/>
            <a:ext cx="686520" cy="53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0" name="Gerade Verbindung mit Pfeil 13"/>
          <p:cNvCxnSpPr>
            <a:endCxn id="771" idx="0"/>
          </p:cNvCxnSpPr>
          <p:nvPr/>
        </p:nvCxnSpPr>
        <p:spPr>
          <a:xfrm flipH="1">
            <a:off x="3287160" y="4425480"/>
            <a:ext cx="889560" cy="381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71" name="Rechteck 14"/>
          <p:cNvSpPr/>
          <p:nvPr/>
        </p:nvSpPr>
        <p:spPr>
          <a:xfrm>
            <a:off x="2627280" y="4807080"/>
            <a:ext cx="132084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mpli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Rechteck 15"/>
          <p:cNvSpPr/>
          <p:nvPr/>
        </p:nvSpPr>
        <p:spPr>
          <a:xfrm>
            <a:off x="4253040" y="4832280"/>
            <a:ext cx="1600200" cy="38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io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73" name="Gerade Verbindung mit Pfeil 16"/>
          <p:cNvCxnSpPr>
            <a:endCxn id="772" idx="0"/>
          </p:cNvCxnSpPr>
          <p:nvPr/>
        </p:nvCxnSpPr>
        <p:spPr>
          <a:xfrm>
            <a:off x="4176720" y="4425480"/>
            <a:ext cx="876960" cy="407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74" name="Textfeld 14"/>
          <p:cNvSpPr/>
          <p:nvPr/>
        </p:nvSpPr>
        <p:spPr>
          <a:xfrm>
            <a:off x="4132440" y="404496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Gerade Verbindung 18"/>
          <p:cNvSpPr/>
          <p:nvPr/>
        </p:nvSpPr>
        <p:spPr>
          <a:xfrm flipV="1">
            <a:off x="4175280" y="4046040"/>
            <a:ext cx="288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Textfeld 16"/>
          <p:cNvSpPr/>
          <p:nvPr/>
        </p:nvSpPr>
        <p:spPr>
          <a:xfrm>
            <a:off x="3703680" y="28684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hteck 5"/>
          <p:cNvSpPr/>
          <p:nvPr/>
        </p:nvSpPr>
        <p:spPr>
          <a:xfrm>
            <a:off x="1711440" y="2035080"/>
            <a:ext cx="5638680" cy="3200400"/>
          </a:xfrm>
          <a:prstGeom prst="rect">
            <a:avLst/>
          </a:prstGeom>
          <a:solidFill>
            <a:srgbClr val="fada7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78" name="Gerade Verbindung mit Pfeil 53"/>
          <p:cNvCxnSpPr/>
          <p:nvPr/>
        </p:nvCxnSpPr>
        <p:spPr>
          <a:xfrm>
            <a:off x="6963840" y="4919760"/>
            <a:ext cx="1080" cy="55800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lg" type="triangle" w="lg"/>
          </a:ln>
        </p:spPr>
      </p:cxnSp>
      <p:cxnSp>
        <p:nvCxnSpPr>
          <p:cNvPr id="779" name="Gerade Verbindung mit Pfeil 8"/>
          <p:cNvCxnSpPr>
            <a:endCxn id="780" idx="0"/>
          </p:cNvCxnSpPr>
          <p:nvPr/>
        </p:nvCxnSpPr>
        <p:spPr>
          <a:xfrm flipH="1">
            <a:off x="2929680" y="1806120"/>
            <a:ext cx="10440" cy="381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781" name="Gerade Verbindung mit Pfeil 9"/>
          <p:cNvCxnSpPr>
            <a:endCxn id="782" idx="0"/>
          </p:cNvCxnSpPr>
          <p:nvPr/>
        </p:nvCxnSpPr>
        <p:spPr>
          <a:xfrm>
            <a:off x="5281200" y="1806120"/>
            <a:ext cx="2520" cy="38196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lg" type="triangle" w="lg"/>
          </a:ln>
        </p:spPr>
      </p:cxnSp>
      <p:cxnSp>
        <p:nvCxnSpPr>
          <p:cNvPr id="783" name="Gerade Verbindung mit Pfeil 10"/>
          <p:cNvCxnSpPr/>
          <p:nvPr/>
        </p:nvCxnSpPr>
        <p:spPr>
          <a:xfrm flipH="1">
            <a:off x="3270960" y="4703400"/>
            <a:ext cx="3960" cy="6865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lg" type="triangle" w="lg"/>
          </a:ln>
        </p:spPr>
      </p:cxnSp>
      <p:sp>
        <p:nvSpPr>
          <p:cNvPr id="784" name="Rechteck 31"/>
          <p:cNvSpPr/>
          <p:nvPr/>
        </p:nvSpPr>
        <p:spPr>
          <a:xfrm>
            <a:off x="3006720" y="3102120"/>
            <a:ext cx="1981080" cy="7617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Model Check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Rechteck 32"/>
          <p:cNvSpPr/>
          <p:nvPr/>
        </p:nvSpPr>
        <p:spPr>
          <a:xfrm>
            <a:off x="1787400" y="2187720"/>
            <a:ext cx="2286000" cy="609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(Kripke structu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Rechteck 33"/>
          <p:cNvSpPr/>
          <p:nvPr/>
        </p:nvSpPr>
        <p:spPr>
          <a:xfrm>
            <a:off x="4330800" y="2187720"/>
            <a:ext cx="1904760" cy="609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(LT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85" name="Gerade Verbindung mit Pfeil 34"/>
          <p:cNvCxnSpPr>
            <a:stCxn id="780" idx="2"/>
            <a:endCxn id="784" idx="0"/>
          </p:cNvCxnSpPr>
          <p:nvPr/>
        </p:nvCxnSpPr>
        <p:spPr>
          <a:xfrm>
            <a:off x="2930400" y="2796840"/>
            <a:ext cx="1067760" cy="3056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786" name="Gerade Verbindung mit Pfeil 35"/>
          <p:cNvCxnSpPr>
            <a:stCxn id="782" idx="2"/>
            <a:endCxn id="784" idx="0"/>
          </p:cNvCxnSpPr>
          <p:nvPr/>
        </p:nvCxnSpPr>
        <p:spPr>
          <a:xfrm flipH="1">
            <a:off x="3997080" y="2796840"/>
            <a:ext cx="1286640" cy="3056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787" name="Gerade Verbindung mit Pfeil 36"/>
          <p:cNvCxnSpPr/>
          <p:nvPr/>
        </p:nvCxnSpPr>
        <p:spPr>
          <a:xfrm flipH="1">
            <a:off x="3272760" y="3862800"/>
            <a:ext cx="724680" cy="3819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788" name="Gerade Verbindung mit Pfeil 39"/>
          <p:cNvCxnSpPr/>
          <p:nvPr/>
        </p:nvCxnSpPr>
        <p:spPr>
          <a:xfrm>
            <a:off x="3997440" y="3863520"/>
            <a:ext cx="876960" cy="407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</p:cxnSp>
      <p:cxnSp>
        <p:nvCxnSpPr>
          <p:cNvPr id="789" name="Gerade Verbindung mit Pfeil 57"/>
          <p:cNvCxnSpPr/>
          <p:nvPr/>
        </p:nvCxnSpPr>
        <p:spPr>
          <a:xfrm flipH="1">
            <a:off x="4537800" y="4662000"/>
            <a:ext cx="3960" cy="84060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lg" type="triangle" w="lg"/>
          </a:ln>
        </p:spPr>
      </p:cxnSp>
      <p:sp>
        <p:nvSpPr>
          <p:cNvPr id="790" name="Rechteck 73"/>
          <p:cNvSpPr/>
          <p:nvPr/>
        </p:nvSpPr>
        <p:spPr>
          <a:xfrm>
            <a:off x="5116680" y="3240000"/>
            <a:ext cx="2219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Gill Sans MT"/>
              </a:rPr>
              <a:t>Verifik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Rechteck 40"/>
          <p:cNvSpPr/>
          <p:nvPr/>
        </p:nvSpPr>
        <p:spPr>
          <a:xfrm>
            <a:off x="1619280" y="1197000"/>
            <a:ext cx="2073240" cy="609480"/>
          </a:xfrm>
          <a:prstGeom prst="rect">
            <a:avLst/>
          </a:prstGeom>
          <a:noFill/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Process-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Rechteck 41"/>
          <p:cNvSpPr/>
          <p:nvPr/>
        </p:nvSpPr>
        <p:spPr>
          <a:xfrm>
            <a:off x="4519440" y="1197000"/>
            <a:ext cx="2573640" cy="609480"/>
          </a:xfrm>
          <a:prstGeom prst="rect">
            <a:avLst/>
          </a:prstGeom>
          <a:noFill/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mpliance Ru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Rechteck 47"/>
          <p:cNvSpPr/>
          <p:nvPr/>
        </p:nvSpPr>
        <p:spPr>
          <a:xfrm>
            <a:off x="5475240" y="4299120"/>
            <a:ext cx="1730520" cy="812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+ counter-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Gill Sans MT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Rechteck 48"/>
          <p:cNvSpPr/>
          <p:nvPr/>
        </p:nvSpPr>
        <p:spPr>
          <a:xfrm>
            <a:off x="2523960" y="4255920"/>
            <a:ext cx="1320840" cy="457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compli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Rechteck 49"/>
          <p:cNvSpPr/>
          <p:nvPr/>
        </p:nvSpPr>
        <p:spPr>
          <a:xfrm>
            <a:off x="4149720" y="4281480"/>
            <a:ext cx="1600200" cy="380880"/>
          </a:xfrm>
          <a:prstGeom prst="rect">
            <a:avLst/>
          </a:prstGeom>
          <a:solidFill>
            <a:srgbClr val="fada7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vio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Rechteck 50"/>
          <p:cNvSpPr/>
          <p:nvPr/>
        </p:nvSpPr>
        <p:spPr>
          <a:xfrm>
            <a:off x="2552760" y="5415120"/>
            <a:ext cx="1320840" cy="457200"/>
          </a:xfrm>
          <a:prstGeom prst="rect">
            <a:avLst/>
          </a:prstGeom>
          <a:noFill/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mpli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Rechteck 51"/>
          <p:cNvSpPr/>
          <p:nvPr/>
        </p:nvSpPr>
        <p:spPr>
          <a:xfrm>
            <a:off x="5477040" y="5495760"/>
            <a:ext cx="1873080" cy="812880"/>
          </a:xfrm>
          <a:prstGeom prst="rect">
            <a:avLst/>
          </a:prstGeom>
          <a:noFill/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+ additional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Rechteck 52"/>
          <p:cNvSpPr/>
          <p:nvPr/>
        </p:nvSpPr>
        <p:spPr>
          <a:xfrm>
            <a:off x="4149720" y="5491080"/>
            <a:ext cx="1600200" cy="38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io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26560" y="178920"/>
            <a:ext cx="8317080" cy="8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Compliance Checking - Model Check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Referenc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A. Awad, G. Decker, and M. Weske (2008): Efficient Compliance Checking Using BPMN- Q and Temporal Logic. In: Proceedings of the 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International Conference on Business Process Management (BPM’08), Milan, Italy.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Gill Sans MT"/>
              </a:rPr>
              <a:t>Ly, L.T. and Rinderle-Ma, S. and Dadam P. (2008):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Integration and verification of semantic constraints in adaptive process management systems. Data &amp; Knowledge Engineering, 64(1): 3-23, Elsevier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Knuplesch, D. and Reichert, M. (2011): Ensuring Business Process Compliance Along the Process Life Cycle, Ulmer Informatik-Berichte (2011-06)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Huth, M. and Ryan, M. (2004): Logic in Computer Science: Modelling and reasoning about systems. Cambridge University Press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Van der Aalst, W.M.P. and de Beer, H. and van Dongen, B. (2005): Process mining and verification of properties: An approach based on temporal logic. In: Proceedings of the 1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 Conference on Cooperative Information Systems (CoopIS’05), Agia Napa, Cyprus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2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6C52-AC46-4108-96AB-35B7A31E8D4A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0" descr="C:\Users\NOTEBOOK-SG\Hiwijobs\Buchpräsentation\Images\Images\Images\chapter10\processexamplecompliance.jpg"/>
          <p:cNvPicPr/>
          <p:nvPr/>
        </p:nvPicPr>
        <p:blipFill>
          <a:blip r:embed="rId1"/>
          <a:stretch/>
        </p:blipFill>
        <p:spPr>
          <a:xfrm>
            <a:off x="166680" y="1168560"/>
            <a:ext cx="7315200" cy="4790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42" descr="blueman_301_01"/>
          <p:cNvPicPr/>
          <p:nvPr/>
        </p:nvPicPr>
        <p:blipFill>
          <a:blip r:embed="rId2"/>
          <a:stretch/>
        </p:blipFill>
        <p:spPr>
          <a:xfrm>
            <a:off x="7634160" y="4265640"/>
            <a:ext cx="1428840" cy="1693800"/>
          </a:xfrm>
          <a:prstGeom prst="rect">
            <a:avLst/>
          </a:prstGeom>
          <a:ln w="0">
            <a:noFill/>
          </a:ln>
        </p:spPr>
      </p:pic>
      <p:grpSp>
        <p:nvGrpSpPr>
          <p:cNvPr id="372" name="Gruppieren 6"/>
          <p:cNvGrpSpPr/>
          <p:nvPr/>
        </p:nvGrpSpPr>
        <p:grpSpPr>
          <a:xfrm>
            <a:off x="6772320" y="2033640"/>
            <a:ext cx="2359080" cy="1290600"/>
            <a:chOff x="6772320" y="2033640"/>
            <a:chExt cx="2359080" cy="1290600"/>
          </a:xfrm>
        </p:grpSpPr>
        <p:sp>
          <p:nvSpPr>
            <p:cNvPr id="373" name="AutoShape 155"/>
            <p:cNvSpPr/>
            <p:nvPr/>
          </p:nvSpPr>
          <p:spPr>
            <a:xfrm>
              <a:off x="6772320" y="2033640"/>
              <a:ext cx="2359080" cy="1290600"/>
            </a:xfrm>
            <a:prstGeom prst="cloudCallout">
              <a:avLst>
                <a:gd name="adj1" fmla="val 12490"/>
                <a:gd name="adj2" fmla="val 12106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Text Box 156"/>
            <p:cNvSpPr/>
            <p:nvPr/>
          </p:nvSpPr>
          <p:spPr>
            <a:xfrm>
              <a:off x="7093080" y="2343960"/>
              <a:ext cx="18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rocess correct?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5" name="Gruppieren 13"/>
          <p:cNvGrpSpPr/>
          <p:nvPr/>
        </p:nvGrpSpPr>
        <p:grpSpPr>
          <a:xfrm>
            <a:off x="5762520" y="3762360"/>
            <a:ext cx="2095560" cy="1008000"/>
            <a:chOff x="5762520" y="3762360"/>
            <a:chExt cx="2095560" cy="1008000"/>
          </a:xfrm>
        </p:grpSpPr>
        <p:sp>
          <p:nvSpPr>
            <p:cNvPr id="376" name="AutoShape 155"/>
            <p:cNvSpPr/>
            <p:nvPr/>
          </p:nvSpPr>
          <p:spPr>
            <a:xfrm>
              <a:off x="5978520" y="3762360"/>
              <a:ext cx="1728720" cy="1008000"/>
            </a:xfrm>
            <a:prstGeom prst="cloudCallout">
              <a:avLst>
                <a:gd name="adj1" fmla="val 52490"/>
                <a:gd name="adj2" fmla="val 49189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7" name="Text Box 156"/>
            <p:cNvSpPr/>
            <p:nvPr/>
          </p:nvSpPr>
          <p:spPr>
            <a:xfrm>
              <a:off x="5762520" y="4062240"/>
              <a:ext cx="20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yntax?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8" name="Gruppieren 16"/>
          <p:cNvGrpSpPr/>
          <p:nvPr/>
        </p:nvGrpSpPr>
        <p:grpSpPr>
          <a:xfrm>
            <a:off x="5234040" y="5130720"/>
            <a:ext cx="2751120" cy="1008000"/>
            <a:chOff x="5234040" y="5130720"/>
            <a:chExt cx="2751120" cy="1008000"/>
          </a:xfrm>
        </p:grpSpPr>
        <p:sp>
          <p:nvSpPr>
            <p:cNvPr id="379" name="AutoShape 155"/>
            <p:cNvSpPr/>
            <p:nvPr/>
          </p:nvSpPr>
          <p:spPr>
            <a:xfrm>
              <a:off x="5493600" y="5130720"/>
              <a:ext cx="2269440" cy="1008000"/>
            </a:xfrm>
            <a:prstGeom prst="cloudCallout">
              <a:avLst>
                <a:gd name="adj1" fmla="val 64837"/>
                <a:gd name="adj2" fmla="val -4965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Text Box 156"/>
            <p:cNvSpPr/>
            <p:nvPr/>
          </p:nvSpPr>
          <p:spPr>
            <a:xfrm>
              <a:off x="5234040" y="5334480"/>
              <a:ext cx="275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oundness?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1" name="Gruppieren 115"/>
          <p:cNvGrpSpPr/>
          <p:nvPr/>
        </p:nvGrpSpPr>
        <p:grpSpPr>
          <a:xfrm>
            <a:off x="7203240" y="3831840"/>
            <a:ext cx="504000" cy="290880"/>
            <a:chOff x="7203240" y="3831840"/>
            <a:chExt cx="504000" cy="290880"/>
          </a:xfrm>
        </p:grpSpPr>
        <p:sp>
          <p:nvSpPr>
            <p:cNvPr id="382" name="Gerade Verbindung 116"/>
            <p:cNvSpPr/>
            <p:nvPr/>
          </p:nvSpPr>
          <p:spPr>
            <a:xfrm>
              <a:off x="7203240" y="3929040"/>
              <a:ext cx="189000" cy="19368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3" name="Gerade Verbindung 117"/>
            <p:cNvSpPr/>
            <p:nvPr/>
          </p:nvSpPr>
          <p:spPr>
            <a:xfrm flipV="1">
              <a:off x="7423560" y="3831840"/>
              <a:ext cx="283680" cy="2905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4" name="Gruppieren 115"/>
          <p:cNvGrpSpPr/>
          <p:nvPr/>
        </p:nvGrpSpPr>
        <p:grpSpPr>
          <a:xfrm>
            <a:off x="7261920" y="5070600"/>
            <a:ext cx="504000" cy="288720"/>
            <a:chOff x="7261920" y="5070600"/>
            <a:chExt cx="504000" cy="288720"/>
          </a:xfrm>
        </p:grpSpPr>
        <p:sp>
          <p:nvSpPr>
            <p:cNvPr id="385" name="Gerade Verbindung 116"/>
            <p:cNvSpPr/>
            <p:nvPr/>
          </p:nvSpPr>
          <p:spPr>
            <a:xfrm>
              <a:off x="7261920" y="5166720"/>
              <a:ext cx="189000" cy="19260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Gerade Verbindung 117"/>
            <p:cNvSpPr/>
            <p:nvPr/>
          </p:nvSpPr>
          <p:spPr>
            <a:xfrm flipV="1">
              <a:off x="7482240" y="5070600"/>
              <a:ext cx="283680" cy="28872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otiv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0" descr="C:\Users\NOTEBOOK-SG\Hiwijobs\Buchpräsentation\Images\Images\Images\chapter10\processexamplecompliance.jpg"/>
          <p:cNvPicPr/>
          <p:nvPr/>
        </p:nvPicPr>
        <p:blipFill>
          <a:blip r:embed="rId1"/>
          <a:stretch/>
        </p:blipFill>
        <p:spPr>
          <a:xfrm>
            <a:off x="431640" y="1454040"/>
            <a:ext cx="7315200" cy="4791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42" descr="blueman_301_01"/>
          <p:cNvPicPr/>
          <p:nvPr/>
        </p:nvPicPr>
        <p:blipFill>
          <a:blip r:embed="rId2"/>
          <a:stretch/>
        </p:blipFill>
        <p:spPr>
          <a:xfrm>
            <a:off x="7386480" y="4362480"/>
            <a:ext cx="1325880" cy="1569960"/>
          </a:xfrm>
          <a:prstGeom prst="rect">
            <a:avLst/>
          </a:prstGeom>
          <a:ln w="0">
            <a:noFill/>
          </a:ln>
        </p:spPr>
      </p:pic>
      <p:grpSp>
        <p:nvGrpSpPr>
          <p:cNvPr id="390" name="Gruppieren 13"/>
          <p:cNvGrpSpPr/>
          <p:nvPr/>
        </p:nvGrpSpPr>
        <p:grpSpPr>
          <a:xfrm>
            <a:off x="5716440" y="3894120"/>
            <a:ext cx="1803600" cy="934920"/>
            <a:chOff x="5716440" y="3894120"/>
            <a:chExt cx="1803600" cy="934920"/>
          </a:xfrm>
        </p:grpSpPr>
        <p:sp>
          <p:nvSpPr>
            <p:cNvPr id="391" name="AutoShape 155"/>
            <p:cNvSpPr/>
            <p:nvPr/>
          </p:nvSpPr>
          <p:spPr>
            <a:xfrm>
              <a:off x="5716440" y="3894120"/>
              <a:ext cx="1803600" cy="934920"/>
            </a:xfrm>
            <a:prstGeom prst="cloudCallout">
              <a:avLst>
                <a:gd name="adj1" fmla="val 52490"/>
                <a:gd name="adj2" fmla="val 49189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Text Box 156"/>
            <p:cNvSpPr/>
            <p:nvPr/>
          </p:nvSpPr>
          <p:spPr>
            <a:xfrm>
              <a:off x="5717520" y="4161960"/>
              <a:ext cx="168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§ 3 is violated!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3" name="Gruppieren 14"/>
          <p:cNvGrpSpPr/>
          <p:nvPr/>
        </p:nvGrpSpPr>
        <p:grpSpPr>
          <a:xfrm>
            <a:off x="5580360" y="-171360"/>
            <a:ext cx="3225240" cy="2641320"/>
            <a:chOff x="5580360" y="-171360"/>
            <a:chExt cx="3225240" cy="2641320"/>
          </a:xfrm>
        </p:grpSpPr>
        <p:pic>
          <p:nvPicPr>
            <p:cNvPr id="394" name="Picture 6" descr="C:\Dokumente und Einstellungen\ly\Lokale Einstellungen\Temporary Internet Files\Content.IE5\HP7TVSEP\MCj04248020000[1].wmf"/>
            <p:cNvPicPr/>
            <p:nvPr/>
          </p:nvPicPr>
          <p:blipFill>
            <a:blip r:embed="rId3"/>
            <a:stretch/>
          </p:blipFill>
          <p:spPr>
            <a:xfrm rot="20842200">
              <a:off x="5772240" y="114120"/>
              <a:ext cx="284148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Textfeld 13"/>
            <p:cNvSpPr/>
            <p:nvPr/>
          </p:nvSpPr>
          <p:spPr>
            <a:xfrm rot="21366000">
              <a:off x="5929200" y="274680"/>
              <a:ext cx="2606040" cy="188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dical Guidlin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§ 3: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fter the examination,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the patient has to be informed about the risks of the planned surgery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ts val="235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6" name="Gruppieren 115"/>
          <p:cNvGrpSpPr/>
          <p:nvPr/>
        </p:nvGrpSpPr>
        <p:grpSpPr>
          <a:xfrm>
            <a:off x="1909080" y="1611360"/>
            <a:ext cx="200880" cy="133200"/>
            <a:chOff x="1909080" y="1611360"/>
            <a:chExt cx="200880" cy="133200"/>
          </a:xfrm>
        </p:grpSpPr>
        <p:sp>
          <p:nvSpPr>
            <p:cNvPr id="397" name="Gerade Verbindung 116"/>
            <p:cNvSpPr/>
            <p:nvPr/>
          </p:nvSpPr>
          <p:spPr>
            <a:xfrm>
              <a:off x="1909080" y="1655640"/>
              <a:ext cx="7524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Gerade Verbindung 117"/>
            <p:cNvSpPr/>
            <p:nvPr/>
          </p:nvSpPr>
          <p:spPr>
            <a:xfrm flipV="1">
              <a:off x="1996920" y="1611360"/>
              <a:ext cx="11304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9" name="Gruppieren 115"/>
          <p:cNvGrpSpPr/>
          <p:nvPr/>
        </p:nvGrpSpPr>
        <p:grpSpPr>
          <a:xfrm>
            <a:off x="1975680" y="2346480"/>
            <a:ext cx="200880" cy="133200"/>
            <a:chOff x="1975680" y="2346480"/>
            <a:chExt cx="200880" cy="133200"/>
          </a:xfrm>
        </p:grpSpPr>
        <p:sp>
          <p:nvSpPr>
            <p:cNvPr id="400" name="Gerade Verbindung 116"/>
            <p:cNvSpPr/>
            <p:nvPr/>
          </p:nvSpPr>
          <p:spPr>
            <a:xfrm>
              <a:off x="1975680" y="2390760"/>
              <a:ext cx="7524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Gerade Verbindung 117"/>
            <p:cNvSpPr/>
            <p:nvPr/>
          </p:nvSpPr>
          <p:spPr>
            <a:xfrm flipV="1">
              <a:off x="2063520" y="2346480"/>
              <a:ext cx="11304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2" name="Gruppieren 115"/>
          <p:cNvGrpSpPr/>
          <p:nvPr/>
        </p:nvGrpSpPr>
        <p:grpSpPr>
          <a:xfrm>
            <a:off x="4246560" y="2144880"/>
            <a:ext cx="201600" cy="134640"/>
            <a:chOff x="4246560" y="2144880"/>
            <a:chExt cx="201600" cy="134640"/>
          </a:xfrm>
        </p:grpSpPr>
        <p:sp>
          <p:nvSpPr>
            <p:cNvPr id="403" name="Gerade Verbindung 116"/>
            <p:cNvSpPr/>
            <p:nvPr/>
          </p:nvSpPr>
          <p:spPr>
            <a:xfrm>
              <a:off x="4246560" y="2189520"/>
              <a:ext cx="75600" cy="8964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4" name="Gerade Verbindung 117"/>
            <p:cNvSpPr/>
            <p:nvPr/>
          </p:nvSpPr>
          <p:spPr>
            <a:xfrm flipV="1">
              <a:off x="4334400" y="2144880"/>
              <a:ext cx="113760" cy="13464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5" name="Gruppieren 115"/>
          <p:cNvGrpSpPr/>
          <p:nvPr/>
        </p:nvGrpSpPr>
        <p:grpSpPr>
          <a:xfrm>
            <a:off x="2844000" y="2346480"/>
            <a:ext cx="200880" cy="133200"/>
            <a:chOff x="2844000" y="2346480"/>
            <a:chExt cx="200880" cy="133200"/>
          </a:xfrm>
        </p:grpSpPr>
        <p:sp>
          <p:nvSpPr>
            <p:cNvPr id="406" name="Gerade Verbindung 116"/>
            <p:cNvSpPr/>
            <p:nvPr/>
          </p:nvSpPr>
          <p:spPr>
            <a:xfrm>
              <a:off x="2844000" y="2390760"/>
              <a:ext cx="7524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Gerade Verbindung 117"/>
            <p:cNvSpPr/>
            <p:nvPr/>
          </p:nvSpPr>
          <p:spPr>
            <a:xfrm flipV="1">
              <a:off x="2931840" y="2346480"/>
              <a:ext cx="11304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8" name="Gruppieren 115"/>
          <p:cNvGrpSpPr/>
          <p:nvPr/>
        </p:nvGrpSpPr>
        <p:grpSpPr>
          <a:xfrm>
            <a:off x="1841400" y="5283360"/>
            <a:ext cx="201600" cy="133200"/>
            <a:chOff x="1841400" y="5283360"/>
            <a:chExt cx="201600" cy="133200"/>
          </a:xfrm>
        </p:grpSpPr>
        <p:sp>
          <p:nvSpPr>
            <p:cNvPr id="409" name="Gerade Verbindung 116"/>
            <p:cNvSpPr/>
            <p:nvPr/>
          </p:nvSpPr>
          <p:spPr>
            <a:xfrm>
              <a:off x="1841400" y="5327640"/>
              <a:ext cx="7560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Gerade Verbindung 117"/>
            <p:cNvSpPr/>
            <p:nvPr/>
          </p:nvSpPr>
          <p:spPr>
            <a:xfrm flipV="1">
              <a:off x="1929240" y="5283360"/>
              <a:ext cx="11376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1" name="Gruppieren 115"/>
          <p:cNvGrpSpPr/>
          <p:nvPr/>
        </p:nvGrpSpPr>
        <p:grpSpPr>
          <a:xfrm>
            <a:off x="1909080" y="3948120"/>
            <a:ext cx="200880" cy="133200"/>
            <a:chOff x="1909080" y="3948120"/>
            <a:chExt cx="200880" cy="133200"/>
          </a:xfrm>
        </p:grpSpPr>
        <p:sp>
          <p:nvSpPr>
            <p:cNvPr id="412" name="Gerade Verbindung 116"/>
            <p:cNvSpPr/>
            <p:nvPr/>
          </p:nvSpPr>
          <p:spPr>
            <a:xfrm>
              <a:off x="1909080" y="3992400"/>
              <a:ext cx="7524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Gerade Verbindung 117"/>
            <p:cNvSpPr/>
            <p:nvPr/>
          </p:nvSpPr>
          <p:spPr>
            <a:xfrm flipV="1">
              <a:off x="1996920" y="3948120"/>
              <a:ext cx="11304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4" name="Gruppieren 115"/>
          <p:cNvGrpSpPr/>
          <p:nvPr/>
        </p:nvGrpSpPr>
        <p:grpSpPr>
          <a:xfrm>
            <a:off x="2910600" y="3948120"/>
            <a:ext cx="200880" cy="133200"/>
            <a:chOff x="2910600" y="3948120"/>
            <a:chExt cx="200880" cy="133200"/>
          </a:xfrm>
        </p:grpSpPr>
        <p:sp>
          <p:nvSpPr>
            <p:cNvPr id="415" name="Gerade Verbindung 116"/>
            <p:cNvSpPr/>
            <p:nvPr/>
          </p:nvSpPr>
          <p:spPr>
            <a:xfrm>
              <a:off x="2910600" y="3992400"/>
              <a:ext cx="7524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Gerade Verbindung 117"/>
            <p:cNvSpPr/>
            <p:nvPr/>
          </p:nvSpPr>
          <p:spPr>
            <a:xfrm flipV="1">
              <a:off x="2998440" y="3948120"/>
              <a:ext cx="11304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7" name="Gruppieren 115"/>
          <p:cNvGrpSpPr/>
          <p:nvPr/>
        </p:nvGrpSpPr>
        <p:grpSpPr>
          <a:xfrm>
            <a:off x="1841400" y="3279240"/>
            <a:ext cx="201600" cy="135360"/>
            <a:chOff x="1841400" y="3279240"/>
            <a:chExt cx="201600" cy="135360"/>
          </a:xfrm>
        </p:grpSpPr>
        <p:sp>
          <p:nvSpPr>
            <p:cNvPr id="418" name="Gerade Verbindung 116"/>
            <p:cNvSpPr/>
            <p:nvPr/>
          </p:nvSpPr>
          <p:spPr>
            <a:xfrm>
              <a:off x="1841400" y="3324600"/>
              <a:ext cx="75600" cy="9000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Gerade Verbindung 117"/>
            <p:cNvSpPr/>
            <p:nvPr/>
          </p:nvSpPr>
          <p:spPr>
            <a:xfrm flipV="1">
              <a:off x="1929240" y="3279240"/>
              <a:ext cx="113760" cy="1350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0" name="Gruppieren 115"/>
          <p:cNvGrpSpPr/>
          <p:nvPr/>
        </p:nvGrpSpPr>
        <p:grpSpPr>
          <a:xfrm>
            <a:off x="6651720" y="1677960"/>
            <a:ext cx="199080" cy="133200"/>
            <a:chOff x="6651720" y="1677960"/>
            <a:chExt cx="199080" cy="133200"/>
          </a:xfrm>
        </p:grpSpPr>
        <p:sp>
          <p:nvSpPr>
            <p:cNvPr id="421" name="Gerade Verbindung 116"/>
            <p:cNvSpPr/>
            <p:nvPr/>
          </p:nvSpPr>
          <p:spPr>
            <a:xfrm>
              <a:off x="6651720" y="1722240"/>
              <a:ext cx="7488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Gerade Verbindung 117"/>
            <p:cNvSpPr/>
            <p:nvPr/>
          </p:nvSpPr>
          <p:spPr>
            <a:xfrm flipV="1">
              <a:off x="6738120" y="1677960"/>
              <a:ext cx="112680" cy="13320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3" name="Gruppieren 115"/>
          <p:cNvGrpSpPr/>
          <p:nvPr/>
        </p:nvGrpSpPr>
        <p:grpSpPr>
          <a:xfrm>
            <a:off x="5381640" y="2279160"/>
            <a:ext cx="201600" cy="133560"/>
            <a:chOff x="5381640" y="2279160"/>
            <a:chExt cx="201600" cy="133560"/>
          </a:xfrm>
        </p:grpSpPr>
        <p:sp>
          <p:nvSpPr>
            <p:cNvPr id="424" name="Gerade Verbindung 116"/>
            <p:cNvSpPr/>
            <p:nvPr/>
          </p:nvSpPr>
          <p:spPr>
            <a:xfrm>
              <a:off x="5381640" y="2323800"/>
              <a:ext cx="75600" cy="88920"/>
            </a:xfrm>
            <a:prstGeom prst="line">
              <a:avLst/>
            </a:prstGeom>
            <a:ln cap="rnd" w="7632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5" name="Gerade Verbindung 117"/>
            <p:cNvSpPr/>
            <p:nvPr/>
          </p:nvSpPr>
          <p:spPr>
            <a:xfrm flipV="1">
              <a:off x="5469480" y="2279160"/>
              <a:ext cx="113760" cy="133560"/>
            </a:xfrm>
            <a:prstGeom prst="line">
              <a:avLst/>
            </a:prstGeom>
            <a:ln cap="rnd" w="76320">
              <a:solidFill>
                <a:srgbClr val="00b0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6" name="Gewitterblitz 64"/>
          <p:cNvSpPr/>
          <p:nvPr/>
        </p:nvSpPr>
        <p:spPr>
          <a:xfrm rot="4053000">
            <a:off x="6978600" y="3873240"/>
            <a:ext cx="688680" cy="44784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7" name="Gruppieren 66"/>
          <p:cNvGrpSpPr/>
          <p:nvPr/>
        </p:nvGrpSpPr>
        <p:grpSpPr>
          <a:xfrm>
            <a:off x="6585120" y="2292480"/>
            <a:ext cx="2187360" cy="1195200"/>
            <a:chOff x="6585120" y="2292480"/>
            <a:chExt cx="2187360" cy="1195200"/>
          </a:xfrm>
        </p:grpSpPr>
        <p:sp>
          <p:nvSpPr>
            <p:cNvPr id="428" name="AutoShape 155"/>
            <p:cNvSpPr/>
            <p:nvPr/>
          </p:nvSpPr>
          <p:spPr>
            <a:xfrm>
              <a:off x="6585120" y="2292480"/>
              <a:ext cx="2187360" cy="1195200"/>
            </a:xfrm>
            <a:prstGeom prst="cloudCallout">
              <a:avLst>
                <a:gd name="adj1" fmla="val 12490"/>
                <a:gd name="adj2" fmla="val 12106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9" name="Text Box 156"/>
            <p:cNvSpPr/>
            <p:nvPr/>
          </p:nvSpPr>
          <p:spPr>
            <a:xfrm>
              <a:off x="6882480" y="2556360"/>
              <a:ext cx="173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rocess correct?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otiva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reihandform 12"/>
          <p:cNvSpPr/>
          <p:nvPr/>
        </p:nvSpPr>
        <p:spPr>
          <a:xfrm>
            <a:off x="3800520" y="1846440"/>
            <a:ext cx="1619280" cy="1015920"/>
          </a:xfrm>
          <a:custGeom>
            <a:avLst/>
            <a:gdLst/>
            <a:ahLst/>
            <a:rect l="l" t="t" r="r" b="b"/>
            <a:pathLst>
              <a:path w="1619250" h="1016000">
                <a:moveTo>
                  <a:pt x="0" y="1016000"/>
                </a:moveTo>
                <a:lnTo>
                  <a:pt x="809620" y="0"/>
                </a:lnTo>
                <a:lnTo>
                  <a:pt x="809630" y="0"/>
                </a:lnTo>
                <a:lnTo>
                  <a:pt x="1619250" y="1016000"/>
                </a:lnTo>
                <a:lnTo>
                  <a:pt x="0" y="1016000"/>
                </a:lnTo>
                <a:close/>
              </a:path>
            </a:pathLst>
          </a:custGeom>
          <a:solidFill>
            <a:srgbClr val="fce9af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Freihandform 13"/>
          <p:cNvSpPr/>
          <p:nvPr/>
        </p:nvSpPr>
        <p:spPr>
          <a:xfrm>
            <a:off x="2990880" y="2862360"/>
            <a:ext cx="3238560" cy="1015920"/>
          </a:xfrm>
          <a:prstGeom prst="pie">
            <a:avLst/>
          </a:prstGeom>
          <a:solidFill>
            <a:srgbClr val="fada7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0" rIns="60480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3000" spc="-1" strike="noStrike">
                <a:solidFill>
                  <a:srgbClr val="955e4b"/>
                </a:solidFill>
                <a:latin typeface="Gill Sans MT"/>
              </a:rPr>
              <a:t>Compli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Freihandform 14"/>
          <p:cNvSpPr/>
          <p:nvPr/>
        </p:nvSpPr>
        <p:spPr>
          <a:xfrm>
            <a:off x="2181240" y="3878280"/>
            <a:ext cx="4857840" cy="1015920"/>
          </a:xfrm>
          <a:prstGeom prst="pie">
            <a:avLst/>
          </a:prstGeom>
          <a:solidFill>
            <a:srgbClr val="fada7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8120" rIns="88812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3000" spc="-1" strike="noStrike">
                <a:solidFill>
                  <a:srgbClr val="955e4b"/>
                </a:solidFill>
                <a:latin typeface="Gill Sans MT"/>
              </a:rPr>
              <a:t>Soundn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Freihandform 16"/>
          <p:cNvSpPr/>
          <p:nvPr/>
        </p:nvSpPr>
        <p:spPr>
          <a:xfrm>
            <a:off x="1371600" y="4894200"/>
            <a:ext cx="6477120" cy="1015920"/>
          </a:xfrm>
          <a:prstGeom prst="pie">
            <a:avLst/>
          </a:prstGeom>
          <a:solidFill>
            <a:srgbClr val="fada7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71440" rIns="1171440" tIns="38160" bIns="3816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en-US" sz="3000" spc="-1" strike="noStrike">
                <a:solidFill>
                  <a:srgbClr val="955e4b"/>
                </a:solidFill>
                <a:latin typeface="Gill Sans MT"/>
              </a:rPr>
              <a:t>Syntax Conform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Textfeld 4"/>
          <p:cNvSpPr/>
          <p:nvPr/>
        </p:nvSpPr>
        <p:spPr>
          <a:xfrm>
            <a:off x="2990880" y="3457440"/>
            <a:ext cx="32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5e4b"/>
                </a:solidFill>
                <a:latin typeface="Arial"/>
              </a:rPr>
              <a:t>(semantic correctness</a:t>
            </a: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feld 6"/>
          <p:cNvSpPr/>
          <p:nvPr/>
        </p:nvSpPr>
        <p:spPr>
          <a:xfrm>
            <a:off x="2995560" y="4448160"/>
            <a:ext cx="32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955e4b"/>
                </a:solidFill>
                <a:latin typeface="Arial"/>
              </a:rPr>
              <a:t>behavioral</a:t>
            </a: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55e4b"/>
                </a:solidFill>
                <a:latin typeface="Arial"/>
              </a:rPr>
              <a:t>correctness</a:t>
            </a: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Textfeld 7"/>
          <p:cNvSpPr/>
          <p:nvPr/>
        </p:nvSpPr>
        <p:spPr>
          <a:xfrm>
            <a:off x="2995560" y="5514840"/>
            <a:ext cx="32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955e4b"/>
                </a:solidFill>
                <a:latin typeface="Arial"/>
              </a:rPr>
              <a:t>structural</a:t>
            </a: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55e4b"/>
                </a:solidFill>
                <a:latin typeface="Arial"/>
              </a:rPr>
              <a:t>correctness</a:t>
            </a:r>
            <a:r>
              <a:rPr b="0" lang="de-DE" sz="2000" spc="-1" strike="noStrike">
                <a:solidFill>
                  <a:srgbClr val="955e4b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tivation – Layers of Correctnes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9" name="CasellaDiTesto 3"/>
          <p:cNvSpPr/>
          <p:nvPr/>
        </p:nvSpPr>
        <p:spPr>
          <a:xfrm>
            <a:off x="-274680" y="14810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0" name="Rettangolo 9" descr=""/>
          <p:cNvPicPr/>
          <p:nvPr/>
        </p:nvPicPr>
        <p:blipFill>
          <a:blip r:embed="rId1"/>
          <a:stretch/>
        </p:blipFill>
        <p:spPr>
          <a:xfrm>
            <a:off x="6510240" y="2627280"/>
            <a:ext cx="2371680" cy="140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Compliance Ru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6836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(Business Process) Compliance Rule: “A Compliance Rule is a semantic condition on the execution of business processes.”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F259-92B4-4096-9EE7-0A2972239141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Rechteck 7" descr=""/>
          <p:cNvPicPr/>
          <p:nvPr/>
        </p:nvPicPr>
        <p:blipFill>
          <a:blip r:embed="rId1"/>
          <a:stretch/>
        </p:blipFill>
        <p:spPr>
          <a:xfrm>
            <a:off x="890640" y="4022640"/>
            <a:ext cx="786276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Examples for Medical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809640" y="1752480"/>
          <a:ext cx="7543800" cy="4156200"/>
        </p:xfrm>
        <a:graphic>
          <a:graphicData uri="http://schemas.openxmlformats.org/drawingml/2006/table">
            <a:tbl>
              <a:tblPr/>
              <a:tblGrid>
                <a:gridCol w="522360"/>
                <a:gridCol w="7021440"/>
              </a:tblGrid>
              <a:tr h="213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a surgery may be performed, first the patient has to be prepared for it and then be sent to the surgical su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examining the patient a decision has to be made. However, this must not be done before the examin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the examination, the patient has to be informed about the risks of the planned surger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scheduling the surgery the patient has to be informed about anesthes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6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surgery has not been scheduled it must not be perfom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6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a patient is discharged a discharge letter has to be writt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performing the surgery and before writing the discharge letter, a surgery report must be created and a lab test mad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30040"/>
            <a:ext cx="793620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48" name="Inhaltsplatzhalter 5" descr=""/>
          <p:cNvPicPr/>
          <p:nvPr/>
        </p:nvPicPr>
        <p:blipFill>
          <a:blip r:embed="rId1"/>
          <a:stretch/>
        </p:blipFill>
        <p:spPr>
          <a:xfrm>
            <a:off x="762120" y="1457280"/>
            <a:ext cx="76071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00000" y="230040"/>
            <a:ext cx="78631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64653"/>
                </a:solidFill>
                <a:latin typeface="Bookman Old Style"/>
              </a:rPr>
              <a:t>Modeling Compliance Rul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50" name="Inhaltsplatzhalter 5" descr=""/>
          <p:cNvPicPr/>
          <p:nvPr/>
        </p:nvPicPr>
        <p:blipFill>
          <a:blip r:embed="rId1"/>
          <a:stretch/>
        </p:blipFill>
        <p:spPr>
          <a:xfrm>
            <a:off x="762120" y="1311120"/>
            <a:ext cx="7607160" cy="97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1" name=""/>
          <p:cNvGraphicFramePr/>
          <p:nvPr/>
        </p:nvGraphicFramePr>
        <p:xfrm>
          <a:off x="611280" y="2637000"/>
          <a:ext cx="7904160" cy="3294000"/>
        </p:xfrm>
        <a:graphic>
          <a:graphicData uri="http://schemas.openxmlformats.org/drawingml/2006/table">
            <a:tbl>
              <a:tblPr/>
              <a:tblGrid>
                <a:gridCol w="546120"/>
                <a:gridCol w="7358040"/>
              </a:tblGrid>
              <a:tr h="18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cc2e"/>
                    </a:solidFill>
                  </a:tcPr>
                </a:tc>
              </a:tr>
              <a:tr h="55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a surgery may be performed, first the patient has to be prepared for it and then be sent to the surgical sui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55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examining the patient a decision has to be made. However, this must not be done before the examin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5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the examination, the patient has to be informed about the risks of the planned surger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43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scheduling the surgery the patient has to be informed about anesthes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32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a surgery has not been scheduled it must not be perfom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  <a:tr h="3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a patient is discharged a discharge letter has to be writte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6e8"/>
                    </a:solidFill>
                  </a:tcPr>
                </a:tc>
              </a:tr>
              <a:tr h="55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performing the surgery and before writing the discharge letter, a surgery report must be created and a lab test mad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ccd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9:02:22Z</dcterms:created>
  <dc:creator>Barbara Re</dc:creator>
  <dc:description/>
  <dc:language>en-US</dc:language>
  <cp:lastModifiedBy>Barbara Re</cp:lastModifiedBy>
  <cp:lastPrinted>2014-09-13T18:02:50Z</cp:lastPrinted>
  <dcterms:modified xsi:type="dcterms:W3CDTF">2015-01-21T15:31:55Z</dcterms:modified>
  <cp:revision>246</cp:revision>
  <dc:subject>Lezioni Laboratorio Informatico per i database turistici</dc:subject>
  <dc:title>Presentazione corso</dc:title>
</cp:coreProperties>
</file>