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wmf" ContentType="image/x-wmf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dt" idx="2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ftr" idx="2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 type="sldNum" idx="2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BF9B554-2AC7-40CD-8192-CAD10D89A2C3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F8B1E26-D1A2-401E-81A2-06F55D33A287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3C425FC-796C-4FB3-937F-9EDA7ED1CCA5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E281-BAD1-4130-9C90-48304B6B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72C1-BAB1-4793-8DD6-ADD42A16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EC68-1FAF-43DA-AD49-AA4A2B81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F74E-200C-4032-A82D-900C4498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474E-61A1-4E14-8BC6-26736E45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E7B3-F97E-458B-BDD1-8252AF21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083E-D1F9-471F-98D0-FF8E0C94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E3E5-A776-4227-9E00-D59667F9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AEAB-7AA6-4D0C-A595-8E2C89B1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DD17-8490-4F6E-A80F-1EDC49F0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518C-268A-4568-9875-DFA45133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8132-271A-41D5-813A-47A4D123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7707-8379-4493-8727-9E7A7A86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227A-29C6-457C-82DF-98E7D9DD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1E78-5724-4C85-AE5F-B60EDBC2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6828-8257-4AA8-8A4B-7E2E7D2E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D808-8583-467B-A99D-60B82096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AEBCA-9889-451C-9389-825D63B9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BCA65-37AB-47BF-A425-85B97592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32A37-D521-4C43-8F8F-AB484AD2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B0A72-4995-453E-976E-CBEC093F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ACBCD-F4F5-41CB-9B40-693144A1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B1D0-D714-489C-B704-28C7A371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B910E-A3A2-47DB-86D3-7FE6D8F6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73ED5-061E-4F43-A1A7-2FF29911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F7562-8182-48EC-90C6-36776076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D0BC3-39E1-45EB-88B4-A01F568C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BEEC4-F2D5-4368-96C2-9B91D86A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0FC23-17DD-47DD-B640-5B5BE087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3BCE8-1C4F-4213-AF93-ED251543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E90FF-B556-428B-B7C8-1CE8180F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AFCA3-C592-4D27-94C2-C322966B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DB167-03EF-4615-A194-84A36068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3081-78D9-430B-B9BD-1EC892F0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BF169-2053-493C-995D-4D5E36A0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DE6BD-24DB-48BE-9CAD-B8258062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42A13-FBF5-418C-9EA1-8602C825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2C4F7-C879-4371-A865-12141835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A4FD3-1AC9-435C-B202-07D58FFF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7366E-D7F5-48A6-90F5-169CC289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49875-386F-4138-84FE-E343D34E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F9DD4-429B-44E8-AC30-C99270F3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3BD9B-B0E5-4483-AC30-CED43284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B7E01-A4E7-4A59-A36F-970F8577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6B06-BD13-4F97-AE6C-2358C3CB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8C7D7-3840-4F16-AFD3-9A78C8FE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B16B6-14F0-41C0-92CF-EE79E475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7DCB4-C137-4D20-9CE3-790ED2CC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E777D-51C8-4CE8-A3C5-70824E39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E4254-8F50-453B-A068-7FDF84CD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F08BE-FE60-4AFE-97BE-01DEDAAB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1525C-CD4F-4201-A0CC-8B16F286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7E6BE-FB1B-465F-962F-00EA29C8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19044-CEA5-4059-A410-9662EEF3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F4603-486B-4788-8163-99123201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AC9D-FEB6-4DB1-B0C0-E8799D5F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C206B-A693-4C95-8C12-B788D86F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718F9-3464-4DBB-9D70-B911D20B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A77B7-F957-4000-90AF-DA64DC20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0F391-B7FB-411C-8004-91E53390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6701C-87BE-4116-883C-137947AF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A32B9-2EF0-4851-AAF8-89198D4A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1B05E-9B89-45AF-8323-7E56D3AA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3F449-BE58-462C-ACA1-3D3D7197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E2004-4070-4751-B4FA-4CDF4E51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2B790-7453-429A-929A-FE7BDECD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73B4-1DB0-4B2E-A8B3-84821FEF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B7EFD-5A95-49E5-8F4F-632D5165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AE541-56B0-4C6A-A2C0-E66585F5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81345-C61E-47D0-A732-0D35B4D5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649C9-FCAB-43B2-BA5D-48541F9B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29003-EEE2-4775-B160-9FE00B95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EA7F3-7459-4459-8339-B8CFCBEE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77E0E-CCC5-447A-9EB0-9A4C1AA6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E522C-2F6C-49C8-BCD6-07A9BA92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1EF17-A03A-4A1B-AC9C-E65E604D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CA52B-BE16-4F73-8A13-FD0C75D6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3E9-2FFB-43A1-BB4C-D7627B3A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16C3F-27D1-4583-ABC9-5E20F327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9A8AE-C106-41F8-8E2E-FBCC128D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E60E9-85C8-42B3-90D3-47044D7F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DDB06-B4DC-4097-AD6E-09D0A2F2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82D07-3541-47BB-B103-2BA2840E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42182-A1D9-48B5-9F97-C3285CD2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C4B89-D883-4A91-A92A-F4A4D49C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93123-8B05-48BA-94E2-2ECE7C75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4049B-7672-4055-8253-0760DB28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FD7B8-11EF-4273-961E-B4C7EF31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D858-EC44-475A-B06C-06ACB43D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E95ED-8F8B-4A82-B428-DC745051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53AB5-CEF1-4B97-B5A8-27C720F0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45459-AAA2-47AC-AD32-BB75DC3F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71976-1CFD-4FA7-9CED-98244407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EA5F4-BA8C-4595-B0CE-036CD9E0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6E2B8-C92E-4908-9AC9-2E9E89D3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653A3-8E71-406F-9341-809724B9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0EF9-9678-4C07-809F-F87F9DF5E1AF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" name="Object 2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179280" y="115920"/>
          <a:ext cx="952560" cy="117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9525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687C-AFC6-49E8-8499-A27320677612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D400-412F-4D69-80A6-D8C183EE101A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traight Connector 11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B0D9-4782-4093-9272-45567F4CEC88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40B0-61D4-4FE2-BE9A-9FEF2AD28B2A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A428-6A31-47FC-8CE0-7BAB5E9ADDD0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5A2A-CE3E-4958-A889-297AC8035057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2B5F-4CE2-41A7-8F32-4ADAA44CF06E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19320" y="373356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rocess Orchestra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Bookman Old Style"/>
              </a:rPr>
              <a:t>Advanced Business Process Managemen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Bookman Old Style"/>
              </a:rPr>
              <a:t>Barbara Re, Ph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1332000" y="4365720"/>
            <a:ext cx="71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" descr="bpm-book-weske_080.png"/>
          <p:cNvPicPr/>
          <p:nvPr/>
        </p:nvPicPr>
        <p:blipFill>
          <a:blip r:embed="rId1"/>
          <a:srcRect l="0" t="0" r="0" b="8236"/>
          <a:stretch/>
        </p:blipFill>
        <p:spPr>
          <a:xfrm>
            <a:off x="1042920" y="1197000"/>
            <a:ext cx="7070760" cy="50338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Or split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C00B-9DC2-4F55-BC0E-07E04905A8CF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1" descr="bpm-book-weske_081.png"/>
          <p:cNvPicPr/>
          <p:nvPr/>
        </p:nvPicPr>
        <p:blipFill>
          <a:blip r:embed="rId1"/>
          <a:srcRect l="0" t="0" r="0" b="6149"/>
          <a:stretch/>
        </p:blipFill>
        <p:spPr>
          <a:xfrm>
            <a:off x="1763640" y="1197000"/>
            <a:ext cx="5602320" cy="514836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Or join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F67A-5C2A-4B2F-9FB8-C37B61EFF548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1" descr="bpm-book-weske_082.png"/>
          <p:cNvPicPr/>
          <p:nvPr/>
        </p:nvPicPr>
        <p:blipFill>
          <a:blip r:embed="rId1"/>
          <a:srcRect l="0" t="0" r="0" b="10024"/>
          <a:stretch/>
        </p:blipFill>
        <p:spPr>
          <a:xfrm>
            <a:off x="372960" y="1628640"/>
            <a:ext cx="8447040" cy="402768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ulti-merge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4948-0027-4F9A-99AA-9152D6D9B510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CasellaDiTesto 1"/>
          <p:cNvSpPr/>
          <p:nvPr/>
        </p:nvSpPr>
        <p:spPr>
          <a:xfrm>
            <a:off x="655200" y="5805360"/>
            <a:ext cx="75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The activity following the merge is started for every activation of every incoming bran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1" descr="bpm-book-weske_083.png"/>
          <p:cNvPicPr/>
          <p:nvPr/>
        </p:nvPicPr>
        <p:blipFill>
          <a:blip r:embed="rId1"/>
          <a:stretch/>
        </p:blipFill>
        <p:spPr>
          <a:xfrm>
            <a:off x="755640" y="1268280"/>
            <a:ext cx="7772400" cy="29340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ulti-merge examp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C461-8921-4F15-A524-DCCBA7A36B31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1" descr="bpm-book-weske_084.png"/>
          <p:cNvPicPr/>
          <p:nvPr/>
        </p:nvPicPr>
        <p:blipFill>
          <a:blip r:embed="rId2"/>
          <a:srcRect l="0" t="0" r="9649" b="14138"/>
          <a:stretch/>
        </p:blipFill>
        <p:spPr>
          <a:xfrm>
            <a:off x="755640" y="3429000"/>
            <a:ext cx="7272360" cy="2922480"/>
          </a:xfrm>
          <a:prstGeom prst="rect">
            <a:avLst/>
          </a:prstGeom>
          <a:ln w="0">
            <a:noFill/>
          </a:ln>
        </p:spPr>
      </p:pic>
      <p:sp>
        <p:nvSpPr>
          <p:cNvPr id="413" name="CasellaDiTesto 5"/>
          <p:cNvSpPr/>
          <p:nvPr/>
        </p:nvSpPr>
        <p:spPr>
          <a:xfrm>
            <a:off x="216720" y="134136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ocess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CasellaDiTesto 6"/>
          <p:cNvSpPr/>
          <p:nvPr/>
        </p:nvSpPr>
        <p:spPr>
          <a:xfrm>
            <a:off x="246600" y="37893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vent Diagr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bpm-book-weske_085.png"/>
          <p:cNvPicPr/>
          <p:nvPr/>
        </p:nvPicPr>
        <p:blipFill>
          <a:blip r:embed="rId1"/>
          <a:stretch/>
        </p:blipFill>
        <p:spPr>
          <a:xfrm>
            <a:off x="685800" y="1701720"/>
            <a:ext cx="7772400" cy="345456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Discriminator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8173-C84A-4E0F-9955-68A653DEAB8E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ttangolo 4"/>
          <p:cNvSpPr/>
          <p:nvPr/>
        </p:nvSpPr>
        <p:spPr>
          <a:xfrm>
            <a:off x="826920" y="4797360"/>
            <a:ext cx="70581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" descr="bpm-book-weske_086.png"/>
          <p:cNvPicPr/>
          <p:nvPr/>
        </p:nvPicPr>
        <p:blipFill>
          <a:blip r:embed="rId1"/>
          <a:stretch/>
        </p:blipFill>
        <p:spPr>
          <a:xfrm>
            <a:off x="611280" y="1341360"/>
            <a:ext cx="8281800" cy="2448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Discriminator Examp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176D-41DA-46AC-AAAA-B7F93ECD5F2A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CasellaDiTesto 4"/>
          <p:cNvSpPr/>
          <p:nvPr/>
        </p:nvSpPr>
        <p:spPr>
          <a:xfrm>
            <a:off x="216720" y="134136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ocess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CasellaDiTesto 5"/>
          <p:cNvSpPr/>
          <p:nvPr/>
        </p:nvSpPr>
        <p:spPr>
          <a:xfrm>
            <a:off x="246600" y="37893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vent Diagr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1" descr="bpm-book-weske_087.png"/>
          <p:cNvPicPr/>
          <p:nvPr/>
        </p:nvPicPr>
        <p:blipFill>
          <a:blip r:embed="rId2"/>
          <a:srcRect l="0" t="0" r="9130" b="14052"/>
          <a:stretch/>
        </p:blipFill>
        <p:spPr>
          <a:xfrm>
            <a:off x="2124000" y="3500280"/>
            <a:ext cx="61088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" descr="bpm-book-weske_088.png"/>
          <p:cNvPicPr/>
          <p:nvPr/>
        </p:nvPicPr>
        <p:blipFill>
          <a:blip r:embed="rId1"/>
          <a:stretch/>
        </p:blipFill>
        <p:spPr>
          <a:xfrm>
            <a:off x="179280" y="1628640"/>
            <a:ext cx="8650440" cy="41864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N-out-of-M join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669C-322F-48E6-91F8-77F410787BA4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Rettangolo 4"/>
          <p:cNvSpPr/>
          <p:nvPr/>
        </p:nvSpPr>
        <p:spPr>
          <a:xfrm>
            <a:off x="1042920" y="5300640"/>
            <a:ext cx="70581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1" descr="bpm-book-weske_089.png"/>
          <p:cNvPicPr/>
          <p:nvPr/>
        </p:nvPicPr>
        <p:blipFill>
          <a:blip r:embed="rId1"/>
          <a:stretch/>
        </p:blipFill>
        <p:spPr>
          <a:xfrm>
            <a:off x="250920" y="2060640"/>
            <a:ext cx="8661240" cy="326556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Arbitrary cycles pattern – graphical represent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F744-9877-4640-969E-BBDB57AD4E94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Rettangolo 4"/>
          <p:cNvSpPr/>
          <p:nvPr/>
        </p:nvSpPr>
        <p:spPr>
          <a:xfrm>
            <a:off x="611280" y="4149720"/>
            <a:ext cx="7056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" descr="bpm-book-weske_090.png"/>
          <p:cNvPicPr/>
          <p:nvPr/>
        </p:nvPicPr>
        <p:blipFill>
          <a:blip r:embed="rId1"/>
          <a:stretch/>
        </p:blipFill>
        <p:spPr>
          <a:xfrm>
            <a:off x="685800" y="1770120"/>
            <a:ext cx="7772400" cy="33163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Arbitrary cycles example – using multiple merge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01F1-6014-45DB-95D8-F968D62C4925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Rettangolo 4"/>
          <p:cNvSpPr/>
          <p:nvPr/>
        </p:nvSpPr>
        <p:spPr>
          <a:xfrm>
            <a:off x="755640" y="4581360"/>
            <a:ext cx="7056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1" descr="bpm-book-weske_092.png"/>
          <p:cNvPicPr/>
          <p:nvPr/>
        </p:nvPicPr>
        <p:blipFill>
          <a:blip r:embed="rId1"/>
          <a:stretch/>
        </p:blipFill>
        <p:spPr>
          <a:xfrm>
            <a:off x="15840" y="1916280"/>
            <a:ext cx="9124920" cy="396072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Example for multiple instances with a priori design time knowledg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70A8-30B1-4026-BDC2-4257CEB666AA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ttangolo 4"/>
          <p:cNvSpPr/>
          <p:nvPr/>
        </p:nvSpPr>
        <p:spPr>
          <a:xfrm>
            <a:off x="179280" y="5373720"/>
            <a:ext cx="8353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ntrol flow pattern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rol flow patterns 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… </a:t>
            </a:r>
            <a:r>
              <a:rPr b="0" lang="en-US" sz="19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provide a way for expressing process behaviour</a:t>
            </a:r>
            <a:endParaRPr b="0" lang="en-US" sz="1900" spc="-1" strike="noStrike">
              <a:solidFill>
                <a:srgbClr val="464653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… </a:t>
            </a:r>
            <a:r>
              <a:rPr b="0" lang="en-US" sz="22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are </a:t>
            </a:r>
            <a:r>
              <a:rPr b="1" lang="en-US" sz="22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independent of concrete process languages</a:t>
            </a:r>
            <a:r>
              <a:rPr b="0" lang="en-US" sz="22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, so that each pattern can be expressed in </a:t>
            </a:r>
            <a:r>
              <a:rPr b="1" lang="en-US" sz="22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different process languages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rol flow patterns can also be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used to compare the expressiveness of process languag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Basic control flow patterns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clude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sequence, and split,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d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 and join,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s well as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 exclusive or split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d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 exclusive or joi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ese control flow patterns are supported by virtually any process meta-mod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rol flow patterns are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defined at the process model level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d their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execution semantics is applies at process instanc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C72F-4E11-4F97-BF61-494125C3EB07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1" descr="bpm-book-weske_093.png"/>
          <p:cNvPicPr/>
          <p:nvPr/>
        </p:nvPicPr>
        <p:blipFill>
          <a:blip r:embed="rId1"/>
          <a:srcRect l="0" t="0" r="0" b="12646"/>
          <a:stretch/>
        </p:blipFill>
        <p:spPr>
          <a:xfrm>
            <a:off x="250920" y="1484280"/>
            <a:ext cx="8656560" cy="39006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464653"/>
                </a:solidFill>
                <a:latin typeface="Bookman Old Style"/>
              </a:rPr>
              <a:t>Example for multiple instances without a priori run time knowledge patter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C369-42B9-496A-BC3A-D21F17796C4E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1" descr="bpm-book-weske_094.png"/>
          <p:cNvPicPr/>
          <p:nvPr/>
        </p:nvPicPr>
        <p:blipFill>
          <a:blip r:embed="rId1"/>
          <a:srcRect l="0" t="0" r="0" b="15552"/>
          <a:stretch/>
        </p:blipFill>
        <p:spPr>
          <a:xfrm>
            <a:off x="0" y="1557360"/>
            <a:ext cx="9132840" cy="43862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64653"/>
                </a:solidFill>
                <a:latin typeface="Bookman Old Style"/>
              </a:rPr>
              <a:t>Multiple instance without a priori run time knowledge pattern, including management task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8D46-C7BC-42E2-A7E1-34545EC17E2A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1" descr="bpm-book-weske_096.png"/>
          <p:cNvPicPr/>
          <p:nvPr/>
        </p:nvPicPr>
        <p:blipFill>
          <a:blip r:embed="rId1"/>
          <a:srcRect l="0" t="0" r="0" b="10930"/>
          <a:stretch/>
        </p:blipFill>
        <p:spPr>
          <a:xfrm>
            <a:off x="684360" y="1389240"/>
            <a:ext cx="7772400" cy="484812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equential execution without a priori design time knowle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9004-9B99-4AF2-B801-21C4CEC36E65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Other types of patter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Dat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Exception Handl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Present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65F9-9BE0-4FC8-A1DE-57D1317110A2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ore on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http://www.workflowpatterns.com/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ACFA-4221-4C76-BF89-02694C34DD19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6" name="Immagine 4" descr="Schermata 2013-10-05 a 12.13.25.png"/>
          <p:cNvPicPr/>
          <p:nvPr/>
        </p:nvPicPr>
        <p:blipFill>
          <a:blip r:embed="rId1"/>
          <a:stretch/>
        </p:blipFill>
        <p:spPr>
          <a:xfrm>
            <a:off x="1547640" y="1341360"/>
            <a:ext cx="59835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9785-D1B7-4CD1-866F-DCAB946D8DBB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58" name="Object 2"/>
          <p:cNvGraphicFramePr/>
          <p:nvPr/>
        </p:nvGraphicFramePr>
        <p:xfrm>
          <a:off x="1371600" y="1752480"/>
          <a:ext cx="1857240" cy="39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1857240" cy="39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Text Box 3"/>
          <p:cNvSpPr/>
          <p:nvPr/>
        </p:nvSpPr>
        <p:spPr>
          <a:xfrm>
            <a:off x="3731760" y="3200400"/>
            <a:ext cx="25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1" descr="bpm-book-weske_073.png"/>
          <p:cNvPicPr/>
          <p:nvPr/>
        </p:nvPicPr>
        <p:blipFill>
          <a:blip r:embed="rId1"/>
          <a:stretch/>
        </p:blipFill>
        <p:spPr>
          <a:xfrm>
            <a:off x="539640" y="2060640"/>
            <a:ext cx="8256600" cy="36766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tate transition diagram for activity inst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E387-F562-45CA-9AB7-EE995D206FA4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ttangolo 4"/>
          <p:cNvSpPr/>
          <p:nvPr/>
        </p:nvSpPr>
        <p:spPr>
          <a:xfrm>
            <a:off x="611280" y="5157720"/>
            <a:ext cx="7056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1" descr="bpm-book-weske_074.png"/>
          <p:cNvPicPr/>
          <p:nvPr/>
        </p:nvPicPr>
        <p:blipFill>
          <a:blip r:embed="rId1"/>
          <a:stretch/>
        </p:blipFill>
        <p:spPr>
          <a:xfrm>
            <a:off x="900000" y="1628640"/>
            <a:ext cx="7772400" cy="42735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equence pattern, with event diagram process inst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9849-A403-4F7C-8D94-61319B0432BD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Rettangolo 4"/>
          <p:cNvSpPr/>
          <p:nvPr/>
        </p:nvSpPr>
        <p:spPr>
          <a:xfrm>
            <a:off x="900000" y="5373720"/>
            <a:ext cx="70567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1" descr="bpm-book-weske_075.png"/>
          <p:cNvPicPr/>
          <p:nvPr/>
        </p:nvPicPr>
        <p:blipFill>
          <a:blip r:embed="rId1"/>
          <a:stretch/>
        </p:blipFill>
        <p:spPr>
          <a:xfrm>
            <a:off x="685800" y="1976400"/>
            <a:ext cx="7772400" cy="29034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equence pattern as part of loop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53E7-DE2E-48EC-A138-1BF1AF7E7ACE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ttangolo 4"/>
          <p:cNvSpPr/>
          <p:nvPr/>
        </p:nvSpPr>
        <p:spPr>
          <a:xfrm>
            <a:off x="324000" y="4292640"/>
            <a:ext cx="763272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" descr="bpm-book-weske_076.png"/>
          <p:cNvPicPr/>
          <p:nvPr/>
        </p:nvPicPr>
        <p:blipFill>
          <a:blip r:embed="rId1"/>
          <a:stretch/>
        </p:blipFill>
        <p:spPr>
          <a:xfrm>
            <a:off x="250920" y="1844640"/>
            <a:ext cx="8434440" cy="334008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And-split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7145-EA02-4BF3-A9AF-627605BED197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Rettangolo 4"/>
          <p:cNvSpPr/>
          <p:nvPr/>
        </p:nvSpPr>
        <p:spPr>
          <a:xfrm>
            <a:off x="611280" y="4508640"/>
            <a:ext cx="7056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1" descr="bpm-book-weske_077.png"/>
          <p:cNvPicPr/>
          <p:nvPr/>
        </p:nvPicPr>
        <p:blipFill>
          <a:blip r:embed="rId1"/>
          <a:stretch/>
        </p:blipFill>
        <p:spPr>
          <a:xfrm>
            <a:off x="388800" y="2060640"/>
            <a:ext cx="8755200" cy="35290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And join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1C53-98E8-4B6F-B0A2-16466A59A8D1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Rettangolo 4"/>
          <p:cNvSpPr/>
          <p:nvPr/>
        </p:nvSpPr>
        <p:spPr>
          <a:xfrm>
            <a:off x="900000" y="5157720"/>
            <a:ext cx="70567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1" descr="bpm-book-weske_078.png"/>
          <p:cNvPicPr/>
          <p:nvPr/>
        </p:nvPicPr>
        <p:blipFill>
          <a:blip r:embed="rId1"/>
          <a:stretch/>
        </p:blipFill>
        <p:spPr>
          <a:xfrm>
            <a:off x="108000" y="1341360"/>
            <a:ext cx="8891640" cy="41036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Xor split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066F-E3AC-4702-90A4-AF4E4108ADC9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Rettangolo 4"/>
          <p:cNvSpPr/>
          <p:nvPr/>
        </p:nvSpPr>
        <p:spPr>
          <a:xfrm>
            <a:off x="684360" y="4941720"/>
            <a:ext cx="7056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1" descr="bpm-book-weske_079.png"/>
          <p:cNvPicPr/>
          <p:nvPr/>
        </p:nvPicPr>
        <p:blipFill>
          <a:blip r:embed="rId1"/>
          <a:stretch/>
        </p:blipFill>
        <p:spPr>
          <a:xfrm>
            <a:off x="103320" y="1341360"/>
            <a:ext cx="8861400" cy="473076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Xor join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0E02-0EB4-4642-94A2-6EC0E5CEED2F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Rettangolo 4"/>
          <p:cNvSpPr/>
          <p:nvPr/>
        </p:nvSpPr>
        <p:spPr>
          <a:xfrm>
            <a:off x="755640" y="5445000"/>
            <a:ext cx="7056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9:02:22Z</dcterms:created>
  <dc:creator>Barbara Re</dc:creator>
  <dc:description/>
  <dc:language>en-US</dc:language>
  <cp:lastModifiedBy>Barbara Re</cp:lastModifiedBy>
  <cp:lastPrinted>2013-10-16T07:00:00Z</cp:lastPrinted>
  <dcterms:modified xsi:type="dcterms:W3CDTF">2015-09-19T13:10:22Z</dcterms:modified>
  <cp:revision>214</cp:revision>
  <dc:subject>Lezioni Laboratorio Informatico per i database turistici</dc:subject>
  <dc:title>Presentazione corso</dc:title>
</cp:coreProperties>
</file>