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25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.wmf" ContentType="image/x-wmf"/>
  <Override PartName="/ppt/media/image6.png" ContentType="image/png"/>
  <Override PartName="/ppt/media/image14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485CF9-AE7B-43D9-BB2D-7592A4B5654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the currently enabled tran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them, which state would their firing lead t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C7D726-009F-4E89-8EC4-7EACF99BA9E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questo caso non è possibi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DE1A19-9F95-4A40-B8E9-E1CBA5DFE15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581EC8EB-CE4A-429D-8E2B-9B80BA548B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Espace réservé du pied de page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46CAF5E1-C9AE-4E99-A1C5-F0CB6C3BAD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Espace réservé du pied de page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4C8-3D9E-4860-8073-594219CD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935-5961-4980-86D4-E015D06F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FB1-5AF6-4B2E-8D5D-2950B3C2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0C6-7C08-4DF5-97C8-774E891A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7978-2969-44C3-BE16-6C4C6472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29CB-64DF-4BCC-81FB-3AEFFA0A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5BB0-0B79-4FC4-A20F-8FD64731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C247-7C48-44FE-AE90-1BC81AF0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6D3A-18BF-45FC-8C14-4DD9BA94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DD49-3B13-4FE5-9BC8-7AAD0674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7115-4A7F-455C-8FB4-CE38CB62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897-BE12-4219-B466-FD38308F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C51C-1E0B-4F39-BA36-D1474692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94A2-0858-4BD2-AA57-66E3630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CC52-D669-4702-AA2B-699EFE4F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AEDA-BF8B-4E12-A937-D960A404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21DD-5956-4A2D-B0DF-76DF15C2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B63F-26C9-4367-8AB9-A1A0F3B6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F9B46-0C6B-4799-92BD-1AC613E2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CC6D-961C-498E-A033-79FA1A00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74C5-4F18-4C4C-B753-1DA9CFA7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5A960-D8DB-40FC-80E8-8480229E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ABE-8DFD-46D4-83D3-7DCCA968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4AC85-5F95-4447-B39F-82CDFA91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9033A-40E5-49CB-A63D-62C9DAA5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5299-06A2-4A15-BE89-EDF2E2E1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04544-649F-4DBD-BDF0-EF449D76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64A9-913C-43EC-80C3-C596BC84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D1F71-2B4B-4771-BAC1-5159576F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9AED-F02A-48D2-931C-F61A1BBF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EA60-F550-42DE-BD8E-D5781F16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85168-D236-4762-936F-B96A7076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EFF34-FF32-4A6F-B920-7FAB3E43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FEA-E77F-4521-8206-3B611D14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3A3C-5596-4D52-B547-0CE1990E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76727-FE05-4447-ADA1-2E88CFF1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20975-290B-4B46-816B-4FC4BE0C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BA942-2A78-46BF-A1DA-F1ADE740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A25DC-6CE6-4E06-9285-0E277F58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4B37F-4DD3-40FD-B5A9-EC89877D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5E237-0585-4ADE-9625-C3D7B9D4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BEEA4-E8FB-4285-BB03-C8983BB5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4D803-A512-4263-98F0-F56CCC1F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59193-992E-4588-B825-6AB4FCC5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E26-4699-46B8-ACDE-74EC54C1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C0F2F-4F9F-41FD-8506-B16C9D2E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AD27E-26DA-4E29-9E4E-1F78CA40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AB7AB-3616-4DD6-8E9A-958DA39A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E95BA-0861-4FD7-BD74-48A0E434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C1953-6CBD-4E1C-A6C4-2A5D3F1E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D1794-BC39-4ED4-B4CE-FE539F3D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6B9AC-5F2E-4F18-A68F-2FDE58AB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DC8D8-DEF5-4168-8A09-110AC43A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C8ECC-192A-498A-BF57-9F95A7F8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9381E-D0EC-4A89-B659-C5504CC1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120-0ECD-4AA3-B3A8-9986AA51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789C9-386F-4B57-BF65-A36CAC8F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2B49F-2583-40E1-842F-761BDDF1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8076F-B437-467B-8D86-43FDC657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0E9AF-308B-4601-81A2-83D390C8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437E3-E67A-45FF-ADB7-8C4F5204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39EC7-D6CB-45B7-ADC7-282494FB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18924-BB09-406C-B9DD-07F6C257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7ABBD-7943-4DBA-986C-2EF825EB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0B825-E91A-4EF1-BCA4-41B0A682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FF7F7-611D-4533-BB3C-4B5C6007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E72-DFFA-4D4D-9B89-2CBC7245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C8D4B-513B-49BE-B5C9-B9D5D94F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76E3A-A7E4-4225-84BC-D5450E3E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139C3-AFB2-4527-9B28-0939A3A5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22D22-48A7-42CB-9460-CDABAEE9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DD0FC-AE3D-4E6F-ADBB-C45D811C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48306-096A-482C-A7F4-A5995B31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71A17-627E-4FED-863A-4078C60C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35F9F-1C9E-431D-89AE-0A418581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68557-2D6B-46DF-AE6B-D17EC722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2D72B-591D-4E43-A013-04AE8DA9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0EB-02C8-4506-A23E-59A67991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9154A-00A4-4A03-B6FF-149407B6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44C24-E9CD-47E6-9121-3A0F33A8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2E7F2-730B-42D4-8298-7D9CFACB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7B4DD-7BB0-4158-A265-82A4397A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4F98E-2F5F-4964-8632-53976D8D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28505-C956-4A40-BDA3-2FD71E24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821C7-8CF1-44D3-A0A0-FB4B26F5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49F9B-AFB6-4B84-B1F6-0739C39B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1BF12-3599-468B-9603-0AD00482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D14CD-5DA9-4608-9C2F-61540BD2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5AF-6CA7-484E-888E-B8D24539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90E49-C25E-42E5-B28C-20ABFBFD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89F87-DB50-40BB-822E-1DEF24B9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EF17F-842D-43EE-A022-0CAD94F7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9C9D4-5D00-441F-8FC1-9E8AE331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226BE-C639-45AF-BC6F-91145447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BDCFB-632F-4798-9714-D697F7CC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D74C7-8044-4675-B8E1-FAA9E1DD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15A0-6B9D-4DFB-A15B-B1D0439942DF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42EE-44D0-445D-BE46-3C2186A40E19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B448-EF4A-4C1B-900B-B2668404C6D9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02F3-DF24-4A2C-823F-A61B0A618293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01EC-0D54-4F59-93B2-230F39A4A612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932E-2068-441B-BAEA-81D0C3C935CC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15C2-8317-49F5-8742-D948C4383D1C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A737-A779-49A5-9523-17CDD7631F5B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Petri Ne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Segnaposto numero diapositiva 1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FF0A-8665-43C4-AFCB-3A181A1E724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bpm-book-weske_098.png"/>
          <p:cNvPicPr/>
          <p:nvPr/>
        </p:nvPicPr>
        <p:blipFill>
          <a:blip r:embed="rId1"/>
          <a:stretch/>
        </p:blipFill>
        <p:spPr>
          <a:xfrm>
            <a:off x="685800" y="1914480"/>
            <a:ext cx="7772400" cy="3029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sing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3E5E-2890-4CF6-BD9F-B3F2E08E96AB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ttangolo 3"/>
          <p:cNvSpPr/>
          <p:nvPr/>
        </p:nvSpPr>
        <p:spPr>
          <a:xfrm>
            <a:off x="900000" y="4076640"/>
            <a:ext cx="6840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CasellaDiTesto 4"/>
          <p:cNvSpPr/>
          <p:nvPr/>
        </p:nvSpPr>
        <p:spPr>
          <a:xfrm>
            <a:off x="2176200" y="4941720"/>
            <a:ext cx="500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FORMAL DEFINITION OF THE PET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in term of set T, P, F, pre-set e post-set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" descr="bpm-book-weske_099.png"/>
          <p:cNvPicPr/>
          <p:nvPr/>
        </p:nvPicPr>
        <p:blipFill>
          <a:blip r:embed="rId1"/>
          <a:stretch/>
        </p:blipFill>
        <p:spPr>
          <a:xfrm>
            <a:off x="685800" y="1920960"/>
            <a:ext cx="7772400" cy="3016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multip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FEFC-CDC9-4387-B0D0-9720D2CBA8EA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ttangolo 6"/>
          <p:cNvSpPr/>
          <p:nvPr/>
        </p:nvSpPr>
        <p:spPr>
          <a:xfrm>
            <a:off x="900000" y="4076640"/>
            <a:ext cx="6840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CasellaDiTesto 7"/>
          <p:cNvSpPr/>
          <p:nvPr/>
        </p:nvSpPr>
        <p:spPr>
          <a:xfrm>
            <a:off x="2298240" y="4941720"/>
            <a:ext cx="47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What are the instance activ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marking for earch active instanc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" descr="bpm-book-weske_100.png"/>
          <p:cNvPicPr/>
          <p:nvPr/>
        </p:nvPicPr>
        <p:blipFill>
          <a:blip r:embed="rId1"/>
          <a:stretch/>
        </p:blipFill>
        <p:spPr>
          <a:xfrm>
            <a:off x="2050920" y="1371600"/>
            <a:ext cx="5880240" cy="4800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fe-petri net or 1-bound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8E2B-E97A-4AEB-838D-B1B13AD3DADD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bpm-book-weske_101.png"/>
          <p:cNvPicPr/>
          <p:nvPr/>
        </p:nvPicPr>
        <p:blipFill>
          <a:blip r:embed="rId1"/>
          <a:stretch/>
        </p:blipFill>
        <p:spPr>
          <a:xfrm>
            <a:off x="685800" y="1932120"/>
            <a:ext cx="7772400" cy="29923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multip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BA38-0BAE-47E0-A64D-5D4AA2A56289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itolo 1"/>
          <p:cNvSpPr/>
          <p:nvPr/>
        </p:nvSpPr>
        <p:spPr>
          <a:xfrm>
            <a:off x="1066680" y="304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CasellaDiTesto 6"/>
          <p:cNvSpPr/>
          <p:nvPr/>
        </p:nvSpPr>
        <p:spPr>
          <a:xfrm>
            <a:off x="2267640" y="494172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MARKING FOR EACH INSTANCE!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bpm-book-weske_102.png"/>
          <p:cNvPicPr/>
          <p:nvPr/>
        </p:nvPicPr>
        <p:blipFill>
          <a:blip r:embed="rId1"/>
          <a:stretch/>
        </p:blipFill>
        <p:spPr>
          <a:xfrm>
            <a:off x="685800" y="1584360"/>
            <a:ext cx="7772400" cy="368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olured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4941720"/>
            <a:ext cx="822960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In the context of colured petri net tokens are typed so that difference instances are always address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BF9A-1BF7-49BC-8B86-8DA6141D1FFD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4" name="Segnaposto contenuto 4" descr="semaforo.gif"/>
          <p:cNvPicPr/>
          <p:nvPr/>
        </p:nvPicPr>
        <p:blipFill>
          <a:blip r:embed="rId1"/>
          <a:srcRect l="-57288" t="0" r="-5728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2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8017-5588-4140-9231-6A49ADF445E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CasellaDiTesto 5"/>
          <p:cNvSpPr/>
          <p:nvPr/>
        </p:nvSpPr>
        <p:spPr>
          <a:xfrm>
            <a:off x="324000" y="184464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Modelling using petri net the traffic light scena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8" name="Segnaposto contenuto 4" descr="semaforo.gif"/>
          <p:cNvPicPr/>
          <p:nvPr/>
        </p:nvPicPr>
        <p:blipFill>
          <a:blip r:embed="rId1"/>
          <a:srcRect l="-57288" t="0" r="-5728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2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C3AD-F812-40FA-8CC8-1D291162354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CasellaDiTesto 5"/>
          <p:cNvSpPr/>
          <p:nvPr/>
        </p:nvSpPr>
        <p:spPr>
          <a:xfrm>
            <a:off x="324000" y="1844640"/>
            <a:ext cx="302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Modelling using petri net tw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traffic l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plete the net in such a way that the two lights can never be green at the same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Immagine 2" descr="semaforo.gif"/>
          <p:cNvPicPr/>
          <p:nvPr/>
        </p:nvPicPr>
        <p:blipFill>
          <a:blip r:embed="rId2"/>
          <a:stretch/>
        </p:blipFill>
        <p:spPr>
          <a:xfrm>
            <a:off x="6516720" y="1916280"/>
            <a:ext cx="20318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4"/>
          <p:cNvSpPr/>
          <p:nvPr/>
        </p:nvSpPr>
        <p:spPr>
          <a:xfrm>
            <a:off x="539640" y="1484280"/>
            <a:ext cx="771048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:  The reachability tree, also called marking graph, of a Petri net (N, M0) is a graph in whi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nodes corresponds to reachable marking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arcs correpond to feasible transi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Remark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: the reachability tree of an unbounded PN is unlimi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3" name="Object 2"/>
          <p:cNvGraphicFramePr/>
          <p:nvPr/>
        </p:nvGraphicFramePr>
        <p:xfrm>
          <a:off x="755640" y="3500280"/>
          <a:ext cx="436248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500280"/>
                    <a:ext cx="4362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3"/>
          <p:cNvGraphicFramePr/>
          <p:nvPr/>
        </p:nvGraphicFramePr>
        <p:xfrm>
          <a:off x="684360" y="4292640"/>
          <a:ext cx="403848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292640"/>
                    <a:ext cx="40384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4"/>
          <p:cNvGraphicFramePr/>
          <p:nvPr/>
        </p:nvGraphicFramePr>
        <p:xfrm>
          <a:off x="611280" y="5661000"/>
          <a:ext cx="584820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661000"/>
                    <a:ext cx="5848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0" y="27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achability tre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539640" y="1484280"/>
            <a:ext cx="813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Symbol "w"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implying « as great as possible » with the following propert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w &gt; n, w ± n = w, for all integer n and w ≥ 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verability tre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5" name="Espace réservé du pied de page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6176-B204-4119-A5BC-1FB1675F719B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11397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9" name="Object 5"/>
          <p:cNvGraphicFramePr/>
          <p:nvPr/>
        </p:nvGraphicFramePr>
        <p:xfrm>
          <a:off x="324000" y="2205000"/>
          <a:ext cx="214308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05000"/>
                    <a:ext cx="21430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2" name="Object 7"/>
          <p:cNvGraphicFramePr/>
          <p:nvPr/>
        </p:nvGraphicFramePr>
        <p:xfrm>
          <a:off x="3564000" y="2565360"/>
          <a:ext cx="191448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565360"/>
                    <a:ext cx="19144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ZoneTexte 16"/>
          <p:cNvSpPr/>
          <p:nvPr/>
        </p:nvSpPr>
        <p:spPr>
          <a:xfrm>
            <a:off x="5292720" y="242100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1 covers M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peat t1 leads  to w tokens in p2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place M1 by [0, w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10"/>
          <p:cNvGraphicFramePr/>
          <p:nvPr/>
        </p:nvGraphicFramePr>
        <p:xfrm>
          <a:off x="3564000" y="3573360"/>
          <a:ext cx="2827440" cy="257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3573360"/>
                    <a:ext cx="28274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ZoneTexte 18"/>
          <p:cNvSpPr/>
          <p:nvPr/>
        </p:nvSpPr>
        <p:spPr>
          <a:xfrm>
            <a:off x="2627280" y="2708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2627280" y="407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248436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aw the reachability graph of the 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632D-0F67-439D-BBA0-F31BD4D1011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Immagine 5" descr="semaforo.gif"/>
          <p:cNvPicPr/>
          <p:nvPr/>
        </p:nvPicPr>
        <p:blipFill>
          <a:blip r:embed="rId1"/>
          <a:stretch/>
        </p:blipFill>
        <p:spPr>
          <a:xfrm>
            <a:off x="6516720" y="1916280"/>
            <a:ext cx="2031840" cy="2616120"/>
          </a:xfrm>
          <a:prstGeom prst="rect">
            <a:avLst/>
          </a:prstGeom>
          <a:ln w="0">
            <a:noFill/>
          </a:ln>
        </p:spPr>
      </p:pic>
      <p:pic>
        <p:nvPicPr>
          <p:cNvPr id="464" name="Immagine 6" descr="semaforo.gif"/>
          <p:cNvPicPr/>
          <p:nvPr/>
        </p:nvPicPr>
        <p:blipFill>
          <a:blip r:embed="rId2"/>
          <a:stretch/>
        </p:blipFill>
        <p:spPr>
          <a:xfrm>
            <a:off x="4067280" y="2997360"/>
            <a:ext cx="20318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arl Adam Pet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418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roduced in 1962 (Petri’s PhD thesis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60’s and 70’s main focus on theory 80‘s focus on tools and applicat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w applied in several fiel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ccess due to simple and clean graphical and conceptual represen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537B-34B8-4EDE-952B-175A3C6D54A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Immagine 4" descr="Carl_adam_petri.jpg"/>
          <p:cNvPicPr/>
          <p:nvPr/>
        </p:nvPicPr>
        <p:blipFill>
          <a:blip r:embed="rId1"/>
          <a:stretch/>
        </p:blipFill>
        <p:spPr>
          <a:xfrm>
            <a:off x="5580000" y="1916280"/>
            <a:ext cx="2705040" cy="3225600"/>
          </a:xfrm>
          <a:prstGeom prst="rect">
            <a:avLst/>
          </a:prstGeom>
          <a:ln w="0">
            <a:noFill/>
          </a:ln>
        </p:spPr>
      </p:pic>
      <p:sp>
        <p:nvSpPr>
          <p:cNvPr id="372" name="CasellaDiTesto 5"/>
          <p:cNvSpPr/>
          <p:nvPr/>
        </p:nvSpPr>
        <p:spPr>
          <a:xfrm>
            <a:off x="601200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1926 – 201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Mapping from BPMN to Petri Ne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apping a Need for Verifi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siness Processes are typically defined by business experts which ask for graphical and user-friendly not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Most notations such as BPMN 2.0 used typically lack precisely defined semantics limiting the possibility of analysi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 order to formally analysis Business Process we need to derive a formal model  of the Business Process being verifi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From BPMN 2.0 to Petri Net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From BPMN 2.0 to Process Algebra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From ... To … 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6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C240-4AF8-4855-9F93-0EA26B3CD33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rom BPMN 2.0 to Petri Net (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10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Raedts et. al, 2007 -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Raedts, I., Petkovic, M., Usenko, Y. S., van der Werf, J. M., Groote, J. F., and Somers, L. J. (2007). Transformation of BPMN models for Behaviour Analysi, In MSVVEIS, pages 126-137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converts BPMN 2.0 to Petri Nets extended with inhibitor and reset arc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The proposed mapping is not comprehensive enough in order to clearly address all the BPMN 2.0 elements (i.e. messages, sub-process and loop activity are not included)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Awad, 2010 -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Awad, A., Decker, G., and Lohmann, N. (2010). Diagnosing and repairing data anomalies in process models. BPM Workshops, vol. 43 of Lecture Notes in Business Information Processing, pp. 5-16. Springer.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formalizes the basic data object together with the more traditional control flow element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is missed a more general and complex mapping on the BPMN 2.0 elements such as sub-process, messages, etc.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rom BPMN 2.0 to Petri Net (I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40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  <a:ea typeface="Gill Sans"/>
              </a:rPr>
              <a:t>Dijkman, R. M., Dumas, M., and Ouyang, C. (2008). Semantics and analysis of business process models in BPMN. Inf. Softw.  Technol., 50(12):1281-1294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p to our review it the most complete methodology to transform BPMN 2.0 models into Petri 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It starts from the basic elements and introduces some more details regarding multiple instances, sub-process and exception handling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It can be easy extended  to the whole specification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FF6B-2104-4032-9660-14337A947EE0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Immagine 4" descr="SelectedMapping.png"/>
          <p:cNvPicPr/>
          <p:nvPr/>
        </p:nvPicPr>
        <p:blipFill>
          <a:blip r:embed="rId1"/>
          <a:stretch/>
        </p:blipFill>
        <p:spPr>
          <a:xfrm>
            <a:off x="2050920" y="2924280"/>
            <a:ext cx="47642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cro expansions for repeated activiti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77" name="Segnaposto contenuto 4" descr="Schermata 2015-01-13 alle 23.01.27.png"/>
          <p:cNvPicPr/>
          <p:nvPr/>
        </p:nvPicPr>
        <p:blipFill>
          <a:blip r:embed="rId1"/>
          <a:srcRect l="0" t="-108685" r="0" b="-108685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7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C7A2-DF37-4BDD-AE44-DE5A4D0476C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64653"/>
                </a:solidFill>
                <a:latin typeface="Bookman Old Style"/>
              </a:rPr>
              <a:t>Macro expansion for a multi-instance activity where n is known at design time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0" name="Segnaposto contenuto 4" descr="Schermata 2015-01-13 alle 23.01.34.png"/>
          <p:cNvPicPr/>
          <p:nvPr/>
        </p:nvPicPr>
        <p:blipFill>
          <a:blip r:embed="rId1"/>
          <a:srcRect l="0" t="-47673" r="0" b="-47673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7C0D-6924-489E-9B04-FF5C61EB6B43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pping of a task with an exception flow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3" name="Segnaposto contenuto 4" descr="Schermata 2015-01-13 alle 22.59.40.png"/>
          <p:cNvPicPr/>
          <p:nvPr/>
        </p:nvPicPr>
        <p:blipFill>
          <a:blip r:embed="rId1"/>
          <a:srcRect l="0" t="-115496" r="0" b="-115496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FF97-5EC5-42D1-8E4E-B85829408DB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pping of message flows between BPMN proce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6" name="Segnaposto contenuto 4" descr="Schermata 2015-01-13 alle 22.58.03.png"/>
          <p:cNvPicPr/>
          <p:nvPr/>
        </p:nvPicPr>
        <p:blipFill>
          <a:blip r:embed="rId1"/>
          <a:srcRect l="0" t="-11046" r="0" b="-11046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BAB8-6CB0-4A81-8DA5-12EF311487C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9" name="Segnaposto contenuto 4" descr="mapping1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89C1-BA5D-4C86-8301-EA4661B7500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1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2" name="Segnaposto contenuto 4" descr="step-ab.png"/>
          <p:cNvPicPr/>
          <p:nvPr/>
        </p:nvPicPr>
        <p:blipFill>
          <a:blip r:embed="rId1"/>
          <a:srcRect l="-8028" t="0" r="-802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D70A-221C-4CFE-874D-263BC3BDB7AC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l and abstract business process specifi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orma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the semantics of process becomes well defined and not ambiguo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bstrac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execution environment is disregarded (Remind about separation of concern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tri Net can be used to model dynamic system with a static structur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static structure is represented by a Petri Net (process level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dynamic behavior is capture by the token play of the Petri Net (instance level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3BF0-D7A5-4D77-955C-71A321356AB4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2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5" name="Segnaposto contenuto 4" descr="step-cd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6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4A20-9617-454A-A1DC-C09FAB0C904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3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8" name="Segnaposto contenuto 4" descr="step-e.png"/>
          <p:cNvPicPr/>
          <p:nvPr/>
        </p:nvPicPr>
        <p:blipFill>
          <a:blip r:embed="rId1"/>
          <a:srcRect l="0" t="-17903" r="0" b="-17903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F63E-CF9B-41D3-A5D0-A430FFCAE250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1" name="Segnaposto contenuto 4" descr="MappingB.png"/>
          <p:cNvPicPr/>
          <p:nvPr/>
        </p:nvPicPr>
        <p:blipFill>
          <a:blip r:embed="rId1"/>
          <a:srcRect l="0" t="-15509" r="0" b="-15509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50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1D08-5DDA-41BD-A85B-296B7189AB8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4" name="Segnaposto contenuto 4" descr="mapping2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50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3E13-FC11-456D-8359-1388C3B36426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228600"/>
            <a:ext cx="7859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lem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lace can stand for a state a medium a buffer a condition a repository of resources a type 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ransition can stand for an event an operation a transformation a transportation a task an activity 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22FB-71BC-45FE-806B-F1471908717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Segnaposto contenuto 8"/>
          <p:cNvSpPr/>
          <p:nvPr/>
        </p:nvSpPr>
        <p:spPr>
          <a:xfrm>
            <a:off x="468360" y="5084640"/>
            <a:ext cx="8370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oken can stand for a physical object a piece of data a resource an activation mark a message a document a case 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egnaposto testo 7"/>
          <p:cNvSpPr/>
          <p:nvPr/>
        </p:nvSpPr>
        <p:spPr>
          <a:xfrm>
            <a:off x="2484360" y="4437000"/>
            <a:ext cx="404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Petri Net is a tuple (P, T, F, M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) wh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P is a finite set of places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T is a finite set of transitions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F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⊆ (P X T) U (T X U) is a flow relation;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M : P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N is the initial marking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86" name="Segnaposto numero diapositiva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DBDC-19A4-4289-A04D-F3299C616B0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rk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Marking M: P → N denotes the number of tokens in each pla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The marking of a Petri net represents its st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Gill Sans MT"/>
              </a:rPr>
              <a:t>M (a) = 0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 denotes the absence of tokens in a place </a:t>
            </a:r>
            <a:r>
              <a:rPr b="0" i="1" lang="it-IT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4F3E-30C5-4D73-8C83-163DCE1C5296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iring a trasi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Let (P,  T,  F) be a Petri net and M a marking. The firing of a transition is represented by a state change of the Petri 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 indicates that by firing t, the state of the Petri net changes from M to 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 indicates that there is a transition t such that M →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M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  <a:ea typeface="ＭＳ Ｐゴシック"/>
              </a:rPr>
              <a:t>1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</a:t>
            </a:r>
            <a:r>
              <a:rPr b="0" lang="it-IT" sz="2300" spc="-1" strike="noStrike" baseline="-25000">
                <a:solidFill>
                  <a:srgbClr val="464653"/>
                </a:solidFill>
                <a:latin typeface="Gill Sans MT"/>
                <a:ea typeface="ＭＳ Ｐゴシック"/>
              </a:rPr>
              <a:t>n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 means that there is a sequence of transition          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1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,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2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, … ,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n-1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for 1&lt;= i &lt; 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A state M’ is reachable from a state M if and only if 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92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FE26-719C-4B6C-BBC1-6B5299C6095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CasellaDiTesto 2"/>
          <p:cNvSpPr/>
          <p:nvPr/>
        </p:nvSpPr>
        <p:spPr>
          <a:xfrm>
            <a:off x="715140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CasellaDiTesto 6"/>
          <p:cNvSpPr/>
          <p:nvPr/>
        </p:nvSpPr>
        <p:spPr>
          <a:xfrm>
            <a:off x="1534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re-set and Post-set - Transi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A7E6-507C-40DD-B89D-1BEE2C9A95E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Immagine 3" descr="Schermata 2013-10-21 a 17.05.28.png"/>
          <p:cNvPicPr/>
          <p:nvPr/>
        </p:nvPicPr>
        <p:blipFill>
          <a:blip r:embed="rId1"/>
          <a:stretch/>
        </p:blipFill>
        <p:spPr>
          <a:xfrm>
            <a:off x="826920" y="1844640"/>
            <a:ext cx="742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re-set and Post-set - Pla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1A6C-2EDC-4BB6-82BC-96C0C6E4C34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Immagine 3" descr="Schermata 2013-10-21 a 17.06.52.png"/>
          <p:cNvPicPr/>
          <p:nvPr/>
        </p:nvPicPr>
        <p:blipFill>
          <a:blip r:embed="rId1"/>
          <a:stretch/>
        </p:blipFill>
        <p:spPr>
          <a:xfrm>
            <a:off x="266760" y="1914480"/>
            <a:ext cx="8610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4-09-13T18:02:50Z</cp:lastPrinted>
  <dcterms:modified xsi:type="dcterms:W3CDTF">2015-01-22T13:34:06Z</dcterms:modified>
  <cp:revision>250</cp:revision>
  <dc:subject>Lezioni Laboratorio Informatico per i database turistici</dc:subject>
  <dc:title>Presentazione corso</dc:title>
</cp:coreProperties>
</file>