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.wmf" ContentType="image/x-wmf"/>
  <Override PartName="/ppt/media/image6.png" ContentType="image/png"/>
  <Override PartName="/ppt/media/image14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dt" idx="2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ftr" idx="2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 type="sldNum" idx="2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9CE18F-4ACC-4ABE-9D93-23FD9E74A97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the currently enabled tran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them, which state would their firing lead t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BFDE4A-13A0-45D7-860A-AF877EC05517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questo caso non è possibi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27AE8C-5279-42E3-8BA7-4DE613052C3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A80A2A97-C948-44D5-AAA6-58C414721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fld id="{6A9AC7EC-59C6-4048-9B97-0D92DE089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Espace réservé du pied de page 4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36A-5101-40E6-BBF2-DA23543F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00E-796E-4610-BFF2-435AFB33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DE6-569F-4F77-ACD3-40BAF4B8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7C4-A636-4073-A8F3-6491F776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002A-5958-450D-B05F-336F25C7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1054-2300-482B-A0F4-DB3BD18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EBF6-0EC5-4FE6-BDB6-69A93D42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2888-F792-483B-B1FA-C750D1D1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84F8-B03D-4632-ABBC-2FB9AE37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D3E6-652E-43AC-9A49-2BE441A6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3D2D-85E7-457E-B8F0-1E916AD3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9C7-0B5D-49DF-A456-DB56F926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1FE6-AD6F-4193-A4D6-0EEE78A3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CD60-4FD0-4D74-B9F1-DB7C50F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31A5-76C5-4DCB-BCC6-19252A2F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E84C-2578-4652-8FE3-2A9A8DD0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B52C-65DE-4378-8D4F-F9D41469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4EF4A-5B6F-4236-82CD-51FE626D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580B-CE34-4E6D-A304-7900450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0B19-D29A-440D-BAB9-E4589CBE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BD79-8C9B-417B-ACBB-739CCFAE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1397-8D4A-422C-AB5E-362BF837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C95-A74A-4DE2-B22E-6E3135B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ADE25-BED9-4D74-BEAC-51133CDD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AE4D-31F0-4FEF-91C2-92EC01A1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30E4-C586-458D-A817-EE94C637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14D7-17B1-442B-B55D-F6943A5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30009-8894-40D7-80B6-F2AD5B87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1737C-0E58-4EF2-B96D-26D81C08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17C2-4E3C-4B57-AE0F-258E6569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B5AC-404D-43C6-89C1-99CBA80E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2A532-98AA-4755-A721-C05AC3B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5081-F419-4C81-805E-582F31D5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63D-0A35-411B-BE35-D1083383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DC311-C039-4DBE-A540-D1FD84BB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09D8-65B7-4B81-8E08-ED15732D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B65C-F066-4E82-8297-8A6A2163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DB56-EB4C-4A8D-967D-F0D3476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516C3-68F6-4616-9C0B-AEC4D9FD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E06BC-F589-4D23-BAA8-D796BD93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3084-A057-491C-874C-7BE8DFB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7CA2E-36E5-4832-B326-493235C6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37DD5-BB4E-4448-84F3-1A9CC276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35D34-B9C9-4A5E-B4D8-E6C1117A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0F3-D136-4019-9E0E-F20003C4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256B5-69CD-448C-A75A-4C6B79C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40F6-A19D-43D3-AF5F-BEBDDB3A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2622-CDFC-41DF-B3D4-BEC76777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93B5-5924-4929-9729-B164654C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E0E70-417F-4924-9E99-738E14C8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F93B-7901-4B9B-A1B9-4463D908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19E3E-4EC4-4CE3-BDD2-2729C86E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A299A-82A8-4286-B88D-B1BBB6E7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B3FB-52E3-4C1E-9D41-C4A161C3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B09F0-78F4-47E3-BB6F-46B72CAA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8B4-795E-46BD-A13A-A8F276FC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0AED-1F3D-4C52-85CC-F297D853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4892-87E4-471D-B948-2AA856C5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50D39-D2E8-49CB-AC71-2A706BF7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2A92-ED1E-4592-87FF-D3ADCA65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8993A-A997-49F4-ACC5-90948DA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FC58F-4686-4AAF-A3F9-07B2AC83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58876-DA39-41ED-818D-3A4B8F0B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45329-D2E2-4C57-9CA7-2B97C215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4813-88EF-47C9-9B28-13E82B4F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847F8-E174-4BB5-AAC5-81D70FD8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208-6FA9-4D01-9D3D-F86A8C8B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80A7F-7645-467C-AAF8-B9128061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28DC-AC0F-4044-8207-A665F613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6F74F-FFE9-4D87-876A-2BDA3B5F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7F65-D32C-4731-82C8-C87AF498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32318-9670-4748-8DF1-F1F39DD3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239BC-46D9-4F86-9705-FBAF9E04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1DD0-6066-4E43-9103-F8DBCBC8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1407E-67EC-4E33-93C5-23D52510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DB2A3-06C5-48F7-9588-53A54CA8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67B6C-3299-4603-B9E7-A00D99B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D52-3E3A-4DFC-9BD4-95301B3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C766-91DD-40E9-B8EC-DDF438F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E52C-BF62-45C8-BCE8-C3FE84B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BDDB-F187-48C5-B4B1-4BA672B0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A2E2-431C-4558-9D84-BD2B3AC9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931F1-2647-4D92-8BE3-BDB4BCD9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733B8-40FE-4A84-B4AB-59B75583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0190-C819-4A54-8B99-4C240084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0D4DC-E34E-462F-8A8A-7B6B8485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04C00-20B5-47F8-858C-9402C26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46308-75D7-4AE5-9EC2-71C98D48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D5C-1E0C-4165-B025-B7F3427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0D6E-8ABE-4ADB-9DDA-B73E5B5E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DC9B-5C6A-4C52-8EBD-00002601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FFF2F-B97A-46F6-A238-1E37A938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64C83-5B7B-4E6D-B1B7-0D0185C9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8E56C-2605-4012-B55C-053447D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96135-9D49-4A67-B47D-15E77C2C8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E3BB8-C754-4405-A629-6073C62D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73BD-271A-465E-ADD8-76E5C238F4D6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" name="Object 2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179280" y="115920"/>
          <a:ext cx="952560" cy="117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9525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C348-367B-4864-87FB-AD6F390801BD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6544-6804-4117-BAEA-967DDA325304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Object 3"/>
          <p:cNvGraphicFramePr/>
          <p:nvPr/>
        </p:nvGraphicFramePr>
        <p:xfrm>
          <a:off x="179280" y="115920"/>
          <a:ext cx="468360" cy="5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5920"/>
                    <a:ext cx="46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BA2E-7F18-45A9-A0D6-A94EFAD79F3F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C0B-2524-40FD-83AB-EAE0B6F2B91A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957A-2429-4A77-8898-27048F5291E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9C4A-5C4B-47A4-A710-58385501C7C5}" type="slidenum">
              <a:rPr b="0" lang="it-IT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Barbara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DDE1-9606-4BBB-A57C-EA546540BD12}" type="slidenum">
              <a:rPr b="0" lang="it-IT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Segnaposto numero diapositiva 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9E02-463B-4D16-A3D6-B158F02AF2A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bpm-book-weske_098.png"/>
          <p:cNvPicPr/>
          <p:nvPr/>
        </p:nvPicPr>
        <p:blipFill>
          <a:blip r:embed="rId1"/>
          <a:stretch/>
        </p:blipFill>
        <p:spPr>
          <a:xfrm>
            <a:off x="685800" y="1914480"/>
            <a:ext cx="7772400" cy="302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sing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112A-CB40-4E5F-967E-AACF97AF4899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ttangolo 3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CasellaDiTesto 4"/>
          <p:cNvSpPr/>
          <p:nvPr/>
        </p:nvSpPr>
        <p:spPr>
          <a:xfrm>
            <a:off x="2176200" y="4941720"/>
            <a:ext cx="500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FORMAL DEFINITION OF THE PET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in term of set T, P, F, pre-set e post-set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" descr="bpm-book-weske_099.png"/>
          <p:cNvPicPr/>
          <p:nvPr/>
        </p:nvPicPr>
        <p:blipFill>
          <a:blip r:embed="rId1"/>
          <a:stretch/>
        </p:blipFill>
        <p:spPr>
          <a:xfrm>
            <a:off x="685800" y="1920960"/>
            <a:ext cx="7772400" cy="3016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1B64-9D10-4492-8E7D-CD59EE923BC3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ttangolo 6"/>
          <p:cNvSpPr/>
          <p:nvPr/>
        </p:nvSpPr>
        <p:spPr>
          <a:xfrm>
            <a:off x="900000" y="4076640"/>
            <a:ext cx="684072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CasellaDiTesto 7"/>
          <p:cNvSpPr/>
          <p:nvPr/>
        </p:nvSpPr>
        <p:spPr>
          <a:xfrm>
            <a:off x="2298240" y="494172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What are the instance activ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rch active insta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" descr="bpm-book-weske_100.png"/>
          <p:cNvPicPr/>
          <p:nvPr/>
        </p:nvPicPr>
        <p:blipFill>
          <a:blip r:embed="rId1"/>
          <a:stretch/>
        </p:blipFill>
        <p:spPr>
          <a:xfrm>
            <a:off x="2050920" y="1371600"/>
            <a:ext cx="5880240" cy="4800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fe-petri net or 1-bound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F3C4-7E67-48FA-8A75-D15217016A17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bpm-book-weske_101.png"/>
          <p:cNvPicPr/>
          <p:nvPr/>
        </p:nvPicPr>
        <p:blipFill>
          <a:blip r:embed="rId1"/>
          <a:stretch/>
        </p:blipFill>
        <p:spPr>
          <a:xfrm>
            <a:off x="685800" y="1932120"/>
            <a:ext cx="7772400" cy="29923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Sample Petri net – multiple instan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DB3D-2530-459F-8CB7-BAB341DB8FE5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itolo 1"/>
          <p:cNvSpPr/>
          <p:nvPr/>
        </p:nvSpPr>
        <p:spPr>
          <a:xfrm>
            <a:off x="106668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CasellaDiTesto 6"/>
          <p:cNvSpPr/>
          <p:nvPr/>
        </p:nvSpPr>
        <p:spPr>
          <a:xfrm>
            <a:off x="2267640" y="494172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GIVE THE MARKING FOR EACH INSTANCE!!!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bpm-book-weske_102.png"/>
          <p:cNvPicPr/>
          <p:nvPr/>
        </p:nvPicPr>
        <p:blipFill>
          <a:blip r:embed="rId1"/>
          <a:stretch/>
        </p:blipFill>
        <p:spPr>
          <a:xfrm>
            <a:off x="685800" y="1584360"/>
            <a:ext cx="7772400" cy="368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olured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4941720"/>
            <a:ext cx="8229600" cy="12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In the context of colured petri net tokens are typed so that difference instances are always address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2753-2D8C-45A6-B7C7-CE0585023FAC}" type="slidenum">
              <a:rPr b="0" lang="en-US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4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3B2-3BD0-46E9-93E6-9F23D2E7DE93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CasellaDiTesto 5"/>
          <p:cNvSpPr/>
          <p:nvPr/>
        </p:nvSpPr>
        <p:spPr>
          <a:xfrm>
            <a:off x="324000" y="184464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he traffic light scen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28" name="Segnaposto contenuto 4" descr="semaforo.gif"/>
          <p:cNvPicPr/>
          <p:nvPr/>
        </p:nvPicPr>
        <p:blipFill>
          <a:blip r:embed="rId1"/>
          <a:srcRect l="-57288" t="0" r="-5728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2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D832-925D-495D-8E4E-FFAD1C34F48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CasellaDiTesto 5"/>
          <p:cNvSpPr/>
          <p:nvPr/>
        </p:nvSpPr>
        <p:spPr>
          <a:xfrm>
            <a:off x="324000" y="1844640"/>
            <a:ext cx="30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Modelling using petri net tw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traffic 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mplete the net in such a way that the two lights can never be green at the sam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Immagine 2" descr="semaforo.gif"/>
          <p:cNvPicPr/>
          <p:nvPr/>
        </p:nvPicPr>
        <p:blipFill>
          <a:blip r:embed="rId2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539640" y="1484280"/>
            <a:ext cx="771048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 The reachability tree, also called marking graph, of a Petri net (N, M0) is a graph in whi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nodes corresponds to reachable marking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arcs correpond to feasible trans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emark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: the reachability tree of an unbounded PN is unlimit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3" name="Object 2"/>
          <p:cNvGraphicFramePr/>
          <p:nvPr/>
        </p:nvGraphicFramePr>
        <p:xfrm>
          <a:off x="755640" y="3500280"/>
          <a:ext cx="43624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4362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684360" y="4292640"/>
          <a:ext cx="40384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40384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4"/>
          <p:cNvGraphicFramePr/>
          <p:nvPr/>
        </p:nvGraphicFramePr>
        <p:xfrm>
          <a:off x="611280" y="5661000"/>
          <a:ext cx="584820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661000"/>
                    <a:ext cx="5848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0" y="27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ach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539640" y="1484280"/>
            <a:ext cx="8136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Symbol "w"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implying « as great as possible » with the following propert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w &gt; n, w ± n = w, for all integer n and w ≥ 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verability tre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Espace réservé du pied de page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B696-4B0D-421F-9564-12695EAD8636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11397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9" name="Object 5"/>
          <p:cNvGraphicFramePr/>
          <p:nvPr/>
        </p:nvGraphicFramePr>
        <p:xfrm>
          <a:off x="324000" y="2205000"/>
          <a:ext cx="214308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1430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2" name="Object 7"/>
          <p:cNvGraphicFramePr/>
          <p:nvPr/>
        </p:nvGraphicFramePr>
        <p:xfrm>
          <a:off x="3564000" y="2565360"/>
          <a:ext cx="191448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565360"/>
                    <a:ext cx="19144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ZoneTexte 16"/>
          <p:cNvSpPr/>
          <p:nvPr/>
        </p:nvSpPr>
        <p:spPr>
          <a:xfrm>
            <a:off x="5292720" y="242100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1 covers M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eat t1 leads  to w tokens in p2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eplace M1 by [0, w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10"/>
          <p:cNvGraphicFramePr/>
          <p:nvPr/>
        </p:nvGraphicFramePr>
        <p:xfrm>
          <a:off x="3564000" y="3573360"/>
          <a:ext cx="2827440" cy="257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573360"/>
                    <a:ext cx="282744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ZoneTexte 18"/>
          <p:cNvSpPr/>
          <p:nvPr/>
        </p:nvSpPr>
        <p:spPr>
          <a:xfrm>
            <a:off x="2627280" y="2708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2627280" y="407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2484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Step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Exercis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 the reachability graph of the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7FED-C6AE-4E31-B1FC-A57672BDC185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Immagine 5" descr="semaforo.gif"/>
          <p:cNvPicPr/>
          <p:nvPr/>
        </p:nvPicPr>
        <p:blipFill>
          <a:blip r:embed="rId1"/>
          <a:stretch/>
        </p:blipFill>
        <p:spPr>
          <a:xfrm>
            <a:off x="6516720" y="1916280"/>
            <a:ext cx="2031840" cy="2616120"/>
          </a:xfrm>
          <a:prstGeom prst="rect">
            <a:avLst/>
          </a:prstGeom>
          <a:ln w="0">
            <a:noFill/>
          </a:ln>
        </p:spPr>
      </p:pic>
      <p:pic>
        <p:nvPicPr>
          <p:cNvPr id="464" name="Immagine 6" descr="semaforo.gif"/>
          <p:cNvPicPr/>
          <p:nvPr/>
        </p:nvPicPr>
        <p:blipFill>
          <a:blip r:embed="rId2"/>
          <a:stretch/>
        </p:blipFill>
        <p:spPr>
          <a:xfrm>
            <a:off x="4067280" y="2997360"/>
            <a:ext cx="20318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Carl Adam Pet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4186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troduced in 1962 (Petri’s PhD thesis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60’s and 70’s main focus on theory 80‘s focus on tools and application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w applied in several fiel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uccess due to simple and clean graphical and conceptual represen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6826-9C02-419A-8C67-213515EF7EC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Immagine 4" descr="Carl_adam_petri.jpg"/>
          <p:cNvPicPr/>
          <p:nvPr/>
        </p:nvPicPr>
        <p:blipFill>
          <a:blip r:embed="rId1"/>
          <a:stretch/>
        </p:blipFill>
        <p:spPr>
          <a:xfrm>
            <a:off x="5580000" y="1916280"/>
            <a:ext cx="2705040" cy="3225600"/>
          </a:xfrm>
          <a:prstGeom prst="rect">
            <a:avLst/>
          </a:prstGeom>
          <a:ln w="0">
            <a:noFill/>
          </a:ln>
        </p:spPr>
      </p:pic>
      <p:sp>
        <p:nvSpPr>
          <p:cNvPr id="372" name="CasellaDiTesto 5"/>
          <p:cNvSpPr/>
          <p:nvPr/>
        </p:nvSpPr>
        <p:spPr>
          <a:xfrm>
            <a:off x="601200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926 – 201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man Old Style"/>
              </a:rPr>
              <a:t>Mapping from BPMN to Petri Ne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Mapping a Need for Ver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usiness Processes are typically defined by business experts which ask for graphical and user-friendly notat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Most notations such as BPMN 2.0 used typically lack precisely defined semantics limiting the possibility of analysi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In order to formally analysis Business Process we need to derive a formal model  of the Business Process being verifi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etri Net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</a:rPr>
              <a:t>From BPMN 2.0 to Process Algebra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From ... To … 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46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5905-56AA-479B-9EC2-4B3874DCC9A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10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 et. al, 2007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Raedts, I., Petkovic, M., Usenko, Y. S., van der Werf, J. M., Groote, J. F., and Somers, L. J. (2007). Transformation of BPMN models for Behaviour Analysi, In MSVVEIS, pages 126-137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converts BPMN 2.0 to Petri Nets extended with inhibitor and reset arcs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The proposed mapping is not comprehensive enough in order to clearly address all the BPMN 2.0 elements (i.e. messages, sub-process and loop activity are not included)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2010 -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Awad, A., Decker, G., and Lohmann, N. (2010). Diagnosing and repairing data anomalies in process models. BPM Workshops, vol. 43 of Lecture Notes in Business Information Processing, pp. 5-16. Springer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formalizes the basic data object together with the more traditional control flow elements 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It is missed a more general and complex mapping on the BPMN 2.0 elements such as sub-process, messages, etc.</a:t>
            </a: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rom BPMN 2.0 to Petri Net (II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326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"/>
                <a:ea typeface="Gill Sans"/>
              </a:rPr>
              <a:t>Dijkman, R. M., Dumas, M., and Ouyang, C. (2008). Semantics and analysis of business process models in BPMN. Inf. Softw.  Technol., 50(12):1281-1294.</a:t>
            </a: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p to our review it the most complete methodology to transform BPMN 2.0 models into Petri 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starts from the basic elements and introduces some more details regarding multiple instances, sub-process and exception handling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743040" indent="-285840">
              <a:spcBef>
                <a:spcPts val="326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ill Sans MT"/>
              </a:rPr>
              <a:t>It can be easy extended  to the whole specification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814-3AE8-4512-86B6-AABD9A191CB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Immagine 4" descr="SelectedMapping.png"/>
          <p:cNvPicPr/>
          <p:nvPr/>
        </p:nvPicPr>
        <p:blipFill>
          <a:blip r:embed="rId1"/>
          <a:stretch/>
        </p:blipFill>
        <p:spPr>
          <a:xfrm>
            <a:off x="2050920" y="2924280"/>
            <a:ext cx="476424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cro expansions for repeated activities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77" name="Segnaposto contenuto 4" descr="Schermata 2015-01-13 alle 23.01.27.png"/>
          <p:cNvPicPr/>
          <p:nvPr/>
        </p:nvPicPr>
        <p:blipFill>
          <a:blip r:embed="rId1"/>
          <a:srcRect l="0" t="-108685" r="0" b="-108685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78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2251-3FF5-4758-B0BC-4BF0FAC1D9B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64653"/>
                </a:solidFill>
                <a:latin typeface="Bookman Old Style"/>
              </a:rPr>
              <a:t>Macro expansion for a multi-instance activity where n is known at design tim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0" name="Segnaposto contenuto 4" descr="Schermata 2015-01-13 alle 23.01.34.png"/>
          <p:cNvPicPr/>
          <p:nvPr/>
        </p:nvPicPr>
        <p:blipFill>
          <a:blip r:embed="rId1"/>
          <a:srcRect l="0" t="-47673" r="0" b="-4767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30AB-AF74-4835-B533-C5045BD9F08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a task with an exception flow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3" name="Segnaposto contenuto 4" descr="Schermata 2015-01-13 alle 22.59.40.png"/>
          <p:cNvPicPr/>
          <p:nvPr/>
        </p:nvPicPr>
        <p:blipFill>
          <a:blip r:embed="rId1"/>
          <a:srcRect l="0" t="-115496" r="0" b="-11549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4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CA17-52DB-489F-8D75-2C736C6162A6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pping of message flows between BPMN process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6" name="Segnaposto contenuto 4" descr="Schermata 2015-01-13 alle 22.58.03.png"/>
          <p:cNvPicPr/>
          <p:nvPr/>
        </p:nvPicPr>
        <p:blipFill>
          <a:blip r:embed="rId1"/>
          <a:srcRect l="0" t="-11046" r="0" b="-11046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87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B6E-E09B-46AC-B29C-0F37ECEAA5EB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89" name="Segnaposto contenuto 4" descr="mapping1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0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1CA8-B308-44E3-A291-C73AE4B43A19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1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2" name="Segnaposto contenuto 4" descr="step-ab.png"/>
          <p:cNvPicPr/>
          <p:nvPr/>
        </p:nvPicPr>
        <p:blipFill>
          <a:blip r:embed="rId1"/>
          <a:srcRect l="-8028" t="0" r="-8028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3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C143-7A44-4398-AC73-2825DE87FDA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l and abstract business process specific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ormal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the semantics of process becomes well defined and not ambiguo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stract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 execution environment is disregarded (Remind about separation of concern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tri Net can be used to model dynamic system with a static structur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static structure is represented by a Petri Net (process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The dynamic behavior is capture by the token play of the Petri Net (instance level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6007-5C57-49FB-8A52-C348C72F96C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2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5" name="Segnaposto contenuto 4" descr="step-cd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6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E6D6-81F3-4D74-ABED-648773FCC1F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step 3 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98" name="Segnaposto contenuto 4" descr="step-e.png"/>
          <p:cNvPicPr/>
          <p:nvPr/>
        </p:nvPicPr>
        <p:blipFill>
          <a:blip r:embed="rId1"/>
          <a:srcRect l="0" t="-17903" r="0" b="-17903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499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2AD8-7183-44D7-8286-EC189483F9AD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 (participant B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1" name="Segnaposto contenuto 4" descr="MappingB.png"/>
          <p:cNvPicPr/>
          <p:nvPr/>
        </p:nvPicPr>
        <p:blipFill>
          <a:blip r:embed="rId1"/>
          <a:srcRect l="0" t="-15509" r="0" b="-15509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2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F552-767F-4C60-AB3E-CF7C41139BA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xample of Mapping BP into 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04" name="Segnaposto contenuto 4" descr="mapping2.jpg"/>
          <p:cNvPicPr/>
          <p:nvPr/>
        </p:nvPicPr>
        <p:blipFill>
          <a:blip r:embed="rId1"/>
          <a:srcRect l="-12496" t="0" r="-12496" b="0"/>
          <a:stretch/>
        </p:blipFill>
        <p:spPr>
          <a:xfrm>
            <a:off x="457200" y="1219320"/>
            <a:ext cx="8229600" cy="4937040"/>
          </a:xfrm>
          <a:prstGeom prst="rect">
            <a:avLst/>
          </a:prstGeom>
          <a:ln w="0">
            <a:noFill/>
          </a:ln>
        </p:spPr>
      </p:pic>
      <p:sp>
        <p:nvSpPr>
          <p:cNvPr id="505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4230-61B0-4260-9411-BC57BA041784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859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Basic Element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ransi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can stand for a state a medium a buffer a condition a repository of resources a type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ransition can stand for an event an operation a transformation a transportation a task an activity 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Segnaposto numero diapositiva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AB15-073A-47EF-8E29-64B56FC8C661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Segnaposto contenuto 8"/>
          <p:cNvSpPr/>
          <p:nvPr/>
        </p:nvSpPr>
        <p:spPr>
          <a:xfrm>
            <a:off x="468360" y="5084640"/>
            <a:ext cx="8370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token can stand for a physical object a piece of data a resource an activation mark a message a document a case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egnaposto testo 7"/>
          <p:cNvSpPr/>
          <p:nvPr/>
        </p:nvSpPr>
        <p:spPr>
          <a:xfrm>
            <a:off x="2484360" y="4437000"/>
            <a:ext cx="404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b8cd"/>
                </a:solidFill>
                <a:latin typeface="Gill Sans MT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etri N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Petri Net is a tuple (P, T, F, M</a:t>
            </a:r>
            <a:r>
              <a:rPr b="0" lang="it-IT" sz="2600" spc="-1" strike="noStrike" baseline="-25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) wh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P is a finite set of place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T is a finite set of transitions;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F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⊆ (P X T) U (T X U) is a flow relation;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M : P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N is the initial marking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</a:rPr>
              <a:t> 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86" name="Segnaposto numero diapositiva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E88D-6389-4526-9D0F-872998ADFA3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Marking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A Marking M: P → N denotes the number of tokens in each pl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The marking of a Petri net represents its st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M (a) = 0</a:t>
            </a: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 denotes the absence of tokens in a place </a:t>
            </a:r>
            <a:r>
              <a:rPr b="0" i="1" lang="it-IT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C3D-1079-4869-A322-506526CD4A67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Firing a trasi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Gill Sans MT"/>
              </a:rPr>
              <a:t>Let (P,  T,  F) be a Petri net and M a marking. The firing of a transition is represented by a state change of the Petri ne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by firing t, the state of the Petri net changes from M to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 indicates that there is a transition t such that M →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M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</a:t>
            </a:r>
            <a:r>
              <a:rPr b="0" lang="it-IT" sz="2300" spc="-1" strike="noStrike" baseline="-25000">
                <a:solidFill>
                  <a:srgbClr val="464653"/>
                </a:solidFill>
                <a:latin typeface="Gill Sans MT"/>
                <a:ea typeface="ＭＳ Ｐゴシック"/>
              </a:rPr>
              <a:t>n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 means that there is a sequence of transition          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1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2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, … , t</a:t>
            </a:r>
            <a:r>
              <a:rPr b="0" i="1" lang="it-IT" sz="2300" spc="-1" strike="noStrike" baseline="-25000">
                <a:solidFill>
                  <a:srgbClr val="464653"/>
                </a:solidFill>
                <a:latin typeface="Gill Sans MT"/>
              </a:rPr>
              <a:t>n-1 </a:t>
            </a: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for 1&lt;= i &lt; 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64653"/>
                </a:solidFill>
                <a:latin typeface="Gill Sans MT"/>
              </a:rPr>
              <a:t>A state M’ is reachable from a state M if and only if M </a:t>
            </a:r>
            <a:r>
              <a:rPr b="0" lang="it-IT" sz="2300" spc="-1" strike="noStrike">
                <a:solidFill>
                  <a:srgbClr val="464653"/>
                </a:solidFill>
                <a:latin typeface="Gill Sans MT"/>
                <a:ea typeface="ＭＳ Ｐゴシック"/>
              </a:rPr>
              <a:t>→ M’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92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BC9C-8493-427B-8378-0F974B7FD6C8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CasellaDiTesto 2"/>
          <p:cNvSpPr/>
          <p:nvPr/>
        </p:nvSpPr>
        <p:spPr>
          <a:xfrm>
            <a:off x="715140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CasellaDiTesto 6"/>
          <p:cNvSpPr/>
          <p:nvPr/>
        </p:nvSpPr>
        <p:spPr>
          <a:xfrm>
            <a:off x="1534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Trans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6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3A0C-3749-4845-9DA1-61B3B6F9023F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7" name="Immagine 3" descr="Schermata 2013-10-21 a 17.05.28.png"/>
          <p:cNvPicPr/>
          <p:nvPr/>
        </p:nvPicPr>
        <p:blipFill>
          <a:blip r:embed="rId1"/>
          <a:stretch/>
        </p:blipFill>
        <p:spPr>
          <a:xfrm>
            <a:off x="826920" y="1844640"/>
            <a:ext cx="742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64653"/>
                </a:solidFill>
                <a:latin typeface="Bookman Old Style"/>
              </a:rPr>
              <a:t>Pre-set and Post-set - Plac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Segnaposto numero diapositiva 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F9C9-01D1-4899-9374-C76CD4BCDA32}" type="slidenum">
              <a:rPr b="0" lang="it-IT" sz="1400" spc="-1" strike="noStrike">
                <a:solidFill>
                  <a:srgbClr val="46465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Immagine 3" descr="Schermata 2013-10-21 a 17.06.52.png"/>
          <p:cNvPicPr/>
          <p:nvPr/>
        </p:nvPicPr>
        <p:blipFill>
          <a:blip r:embed="rId1"/>
          <a:stretch/>
        </p:blipFill>
        <p:spPr>
          <a:xfrm>
            <a:off x="266760" y="1914480"/>
            <a:ext cx="8610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02:22Z</dcterms:created>
  <dc:creator>Barbara Re</dc:creator>
  <dc:description/>
  <dc:language>en-US</dc:language>
  <cp:lastModifiedBy>Barbara Re</cp:lastModifiedBy>
  <cp:lastPrinted>2014-09-13T18:02:50Z</cp:lastPrinted>
  <dcterms:modified xsi:type="dcterms:W3CDTF">2015-01-22T13:34:06Z</dcterms:modified>
  <cp:revision>250</cp:revision>
  <dc:subject>Lezioni Laboratorio Informatico per i database turistici</dc:subject>
  <dc:title>Presentazione corso</dc:title>
</cp:coreProperties>
</file>