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25.png" ContentType="image/png"/>
  <Override PartName="/ppt/media/image24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1.wmf" ContentType="image/x-wmf"/>
  <Override PartName="/ppt/media/image6.png" ContentType="image/png"/>
  <Override PartName="/ppt/media/image14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dt" idx="2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ftr" idx="2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 type="sldNum" idx="2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FC6769-DC2E-44A4-B0C8-F47E3E1A25B0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the currently enabled tran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of them, which state would their firing lead to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584C56-46F3-49ED-BD0C-C50AE256DEA9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questo caso non è possibi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CB08B7-D484-4C3C-8A80-6E484F7D4A83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1709A985-A87F-4456-9DF0-1BC3D021D4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Espace réservé du pied de page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1BD0F24F-7CFB-4CE2-B80E-6175EF2649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Espace réservé du pied de page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F9D5-3CDF-493B-A5BD-7D79CC61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E7C3-2F1D-460A-81FF-78692175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36B4-662A-4604-BCF8-B2C63301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73DF-223A-46E1-9BA2-CC97DBC0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3B84-31BB-4268-B7DC-9446ED35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8CA9-5001-41BD-A146-6310B16E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484E-4A2F-4691-9A39-3261EF13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6B02-0533-4E9D-B212-7A87D66E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EC7C-BD7B-4E8E-AA7F-206C1E79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45CB-F866-409F-A57B-EEFF24D8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B4C4-DC86-4092-A545-D7EB34B9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A1E2-BBFC-4000-A8DE-27282113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A12F-5E08-4BFB-9A46-495562D5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A58A-F9EC-46A6-AD52-39B42E1C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1EB5-D7AE-4EFD-90D4-D77029B3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DFF5-2AF7-41D5-976B-D79AD7A0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4E3D-A3B8-4606-8E0E-4FD6C51E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841A3-D7F3-44AE-968D-BE9F50FC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8625D-B604-4A5A-852E-C13F8E3B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5A6EE-59C7-41EF-8FEE-612B38BC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420FD-AE9D-4E0E-8797-9025B91A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B53E3-BD21-4251-A6F4-36C5AF1A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E89-BFC1-4CCC-9F78-9477CB88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C7AA6-59C9-4803-919D-8A18DBBB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66E02-E58C-477A-A498-E530025B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ACACE-E929-4700-B98C-8AD052A4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F69A0-97C6-4F42-875D-73408BE5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C6CD3-D00C-4464-A966-D9E1C7A1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8F0E2-7B17-48E9-82A0-5096700C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2A7C4-3F5F-4829-B9A0-4DCFBF46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7B333-0F3B-4CD9-B0A7-CFFC091C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861AB-C2C9-4598-ADF0-3F3F3846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42FF2-D2F4-4545-A04A-BCC16022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AC22-2432-488F-800D-C208D67A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0A06C-D4C2-4881-906B-15F0BE29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2A521-DACB-4450-BC11-7C22B84D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C8C6A-2337-4952-83F5-BBE64B4E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8F190-9651-43FE-A844-4A4BAEA6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F8430-2D54-485C-BFEB-675B0BAC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30930-61BD-4A98-95C5-CA31CF8B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04580-719D-4884-A0C7-77E19E2F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A162B-AA7D-4453-872F-B3076CF7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726A2-68A5-47A5-92D1-AD43ADDD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7B96C-F44B-4983-BAE2-A560F40E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8A7A-523B-4AF5-BC3A-E8EAB7EA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02A6B-FE50-49C4-BE60-1845B4F3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7CA08-E218-443B-978F-B0F6C082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425C7-001D-46F0-A76D-3F3A3D52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ACD26-C812-46CE-881B-4A114A7A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E3EB7-985B-4113-9C43-80332EF6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00AED-03CE-454C-939A-76717519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90B7E-AC32-47AD-9E27-098B89D0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4B8C7-48E9-4F22-9F88-4563D57E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838A6-FE71-4F27-8AC6-5D2EDB1C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CDF2E-A51B-4B90-AE77-E634BBED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8C00-B3A6-4DA5-BA99-851636E8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D7154-7F62-46EE-B916-47412FCC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DBD7A-E7DF-4270-A925-06708FBB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2D50B-EDC0-4032-91B8-EF94C821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D6820-B924-4518-9CC6-5470DD05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2438D-FC7A-4F21-AB5B-57737EEC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E7570-314C-423C-A3EA-7425C1ED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F9E33-2331-4B13-89A0-F1533B3C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8866F-B68F-4F9C-B890-9F439628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E17E8-0733-4FA7-87A6-AC9C63A6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DA894-E235-41C6-8A2E-61A2622B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917A-B2A1-430F-AD8E-E3D08D0E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AB27D-217C-4724-B4D9-9D3499CD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AA395-2EEE-4955-AEE5-31A6C8B6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90558-4F3A-4D3B-96FE-823560E3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D1301-4CE2-4D44-85B1-E7D9CB7B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9FCC1-5CC1-4EC7-9165-A877DA0C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00AC5-33B6-413C-A27F-F638C0CC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61E9E-1DA6-4B5B-A542-3EAECA9B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BE62F-E1F3-4F6A-BCE6-909A32D8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4841A-3389-4188-B67F-4AF899B3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D7D5F-6E4B-4920-8B07-B4250126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F04E-EEEB-4A4F-A4A9-CED5F52B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5A530-ECD6-4F99-BDAA-D3310E6B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C0CA1-95B2-412C-8088-B5B3CDF0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28B98-DDFA-4038-84DC-538A059C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686F7-6CED-48A3-A307-524B6020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1CFCA-394F-4AE2-B7E9-10DFAA06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E9257-76A3-40F1-8DDE-F053254B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BA950-2842-4F64-87CF-14564E21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EF687-1BC1-4E05-B24E-23A10F06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87AB5-7937-488C-A1E3-705FCFE9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6C556-B54F-4B13-BC25-C1BDF45A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61E7-EC92-410F-821D-1A71D539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E2B9A-78A2-451D-B899-6DC9B2D0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30499-5EBC-43E1-AFE7-CAD2C460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7A666-4085-4A45-8576-D7334836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20B68-3CCC-44AF-979E-1E14299B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1F05D-E0D6-44CD-A9F9-4D81C351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CF4CA-3773-47B0-A5FE-99890C28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4C7B9-8E4E-4F95-87EC-0AA9DF23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3178-9C00-4093-9E8C-7FF7E68BD35C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" name="Object 2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179280" y="115920"/>
          <a:ext cx="952560" cy="117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9525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5DCE-8512-44A2-B6B0-268800B246B4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143D-F2A8-4698-80A7-DC12BA1A0D69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traight Connector 11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DF99-2CEE-48C3-B08C-1E2BAEAC8C84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677D-0E6D-4D77-8027-4D63E88E0316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F2B6-9378-474B-BF55-E2BE9E455A9E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AD17-674F-4903-BAC8-ED9605C59893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C4E8-37C0-414E-9AB5-1876A4DF3362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man Old Style"/>
              </a:rPr>
              <a:t>Petri Ne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Segnaposto numero diapositiva 1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A89B-EF51-4391-B487-8EF1CAEA9533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" descr="bpm-book-weske_098.png"/>
          <p:cNvPicPr/>
          <p:nvPr/>
        </p:nvPicPr>
        <p:blipFill>
          <a:blip r:embed="rId1"/>
          <a:stretch/>
        </p:blipFill>
        <p:spPr>
          <a:xfrm>
            <a:off x="685800" y="1914480"/>
            <a:ext cx="7772400" cy="30290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ample petri net – single inst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1ABF-C86D-4EA4-B24A-B08E53D46DDF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ttangolo 3"/>
          <p:cNvSpPr/>
          <p:nvPr/>
        </p:nvSpPr>
        <p:spPr>
          <a:xfrm>
            <a:off x="900000" y="4076640"/>
            <a:ext cx="684072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CasellaDiTesto 4"/>
          <p:cNvSpPr/>
          <p:nvPr/>
        </p:nvSpPr>
        <p:spPr>
          <a:xfrm>
            <a:off x="2176200" y="4941720"/>
            <a:ext cx="500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GIVE THE FORMAL DEFINITION OF THE PET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in term of set T, P, F, pre-set e post-set!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1" descr="bpm-book-weske_099.png"/>
          <p:cNvPicPr/>
          <p:nvPr/>
        </p:nvPicPr>
        <p:blipFill>
          <a:blip r:embed="rId1"/>
          <a:stretch/>
        </p:blipFill>
        <p:spPr>
          <a:xfrm>
            <a:off x="685800" y="1920960"/>
            <a:ext cx="7772400" cy="30160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ample petri net – multiple inst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1417-6C16-4221-B513-4056553134A0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ttangolo 6"/>
          <p:cNvSpPr/>
          <p:nvPr/>
        </p:nvSpPr>
        <p:spPr>
          <a:xfrm>
            <a:off x="900000" y="4076640"/>
            <a:ext cx="684072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CasellaDiTesto 7"/>
          <p:cNvSpPr/>
          <p:nvPr/>
        </p:nvSpPr>
        <p:spPr>
          <a:xfrm>
            <a:off x="2298240" y="4941720"/>
            <a:ext cx="47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What are the instance activ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Give the marking for earch active instanc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" descr="bpm-book-weske_100.png"/>
          <p:cNvPicPr/>
          <p:nvPr/>
        </p:nvPicPr>
        <p:blipFill>
          <a:blip r:embed="rId1"/>
          <a:stretch/>
        </p:blipFill>
        <p:spPr>
          <a:xfrm>
            <a:off x="2050920" y="1371600"/>
            <a:ext cx="5880240" cy="48006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afe-petri net or 1-bounde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5CB9-0184-473B-A1AF-960668F3D09B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" descr="bpm-book-weske_101.png"/>
          <p:cNvPicPr/>
          <p:nvPr/>
        </p:nvPicPr>
        <p:blipFill>
          <a:blip r:embed="rId1"/>
          <a:stretch/>
        </p:blipFill>
        <p:spPr>
          <a:xfrm>
            <a:off x="685800" y="1932120"/>
            <a:ext cx="7772400" cy="299232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ample Petri net – multiple inst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BFB5-9449-4649-9397-15A554969C5B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Titolo 1"/>
          <p:cNvSpPr/>
          <p:nvPr/>
        </p:nvSpPr>
        <p:spPr>
          <a:xfrm>
            <a:off x="1066680" y="304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CasellaDiTesto 6"/>
          <p:cNvSpPr/>
          <p:nvPr/>
        </p:nvSpPr>
        <p:spPr>
          <a:xfrm>
            <a:off x="2267640" y="4941720"/>
            <a:ext cx="48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GIVE THE MARKING FOR EACH INSTANCE!!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" descr="bpm-book-weske_102.png"/>
          <p:cNvPicPr/>
          <p:nvPr/>
        </p:nvPicPr>
        <p:blipFill>
          <a:blip r:embed="rId1"/>
          <a:stretch/>
        </p:blipFill>
        <p:spPr>
          <a:xfrm>
            <a:off x="685800" y="1584360"/>
            <a:ext cx="7772400" cy="368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Colured Petri N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4941720"/>
            <a:ext cx="8229600" cy="121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In the context of colured petri net tokens are typed so that difference instances are always address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E2E7-4350-44F6-B237-1DE0DB06BB90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xerci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24" name="Segnaposto contenuto 4" descr="semaforo.gif"/>
          <p:cNvPicPr/>
          <p:nvPr/>
        </p:nvPicPr>
        <p:blipFill>
          <a:blip r:embed="rId1"/>
          <a:srcRect l="-57288" t="0" r="-57288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25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B45D-F0DD-4F97-9E9F-4FD9D5326EDC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CasellaDiTesto 5"/>
          <p:cNvSpPr/>
          <p:nvPr/>
        </p:nvSpPr>
        <p:spPr>
          <a:xfrm>
            <a:off x="324000" y="184464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Modelling using petri net the traffic light scenar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xerci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28" name="Segnaposto contenuto 4" descr="semaforo.gif"/>
          <p:cNvPicPr/>
          <p:nvPr/>
        </p:nvPicPr>
        <p:blipFill>
          <a:blip r:embed="rId1"/>
          <a:srcRect l="-57288" t="0" r="-57288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29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B007-507C-49DE-AA70-B62728AFE8B6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CasellaDiTesto 5"/>
          <p:cNvSpPr/>
          <p:nvPr/>
        </p:nvSpPr>
        <p:spPr>
          <a:xfrm>
            <a:off x="324000" y="1844640"/>
            <a:ext cx="302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Modelling using petri net tw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traffic l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mplete the net in such a way that the two lights can never be green at the same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Immagine 2" descr="semaforo.gif"/>
          <p:cNvPicPr/>
          <p:nvPr/>
        </p:nvPicPr>
        <p:blipFill>
          <a:blip r:embed="rId2"/>
          <a:stretch/>
        </p:blipFill>
        <p:spPr>
          <a:xfrm>
            <a:off x="6516720" y="1916280"/>
            <a:ext cx="20318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4"/>
          <p:cNvSpPr/>
          <p:nvPr/>
        </p:nvSpPr>
        <p:spPr>
          <a:xfrm>
            <a:off x="539640" y="1484280"/>
            <a:ext cx="771048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Definition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:  The reachability tree, also called marking graph, of a Petri net (N, M0) is a graph in whi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nodes corresponds to reachable marking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arcs correpond to feasible transi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Remark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: the reachability tree of an unbounded PN is unlimi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33" name="Object 2"/>
          <p:cNvGraphicFramePr/>
          <p:nvPr/>
        </p:nvGraphicFramePr>
        <p:xfrm>
          <a:off x="755640" y="3500280"/>
          <a:ext cx="436248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500280"/>
                    <a:ext cx="43624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3"/>
          <p:cNvGraphicFramePr/>
          <p:nvPr/>
        </p:nvGraphicFramePr>
        <p:xfrm>
          <a:off x="684360" y="4292640"/>
          <a:ext cx="403848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292640"/>
                    <a:ext cx="40384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4"/>
          <p:cNvGraphicFramePr/>
          <p:nvPr/>
        </p:nvGraphicFramePr>
        <p:xfrm>
          <a:off x="611280" y="5661000"/>
          <a:ext cx="584820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5661000"/>
                    <a:ext cx="58482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1095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0" y="27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achability tre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"/>
          <p:cNvSpPr/>
          <p:nvPr/>
        </p:nvSpPr>
        <p:spPr>
          <a:xfrm>
            <a:off x="539640" y="1484280"/>
            <a:ext cx="8136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Symbol "w"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implying « as great as possible » with the following properti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w &gt; n, w ± n = w, for all integer n and w ≥ 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verability tre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5" name="Espace réservé du pied de page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83BE-F5A3-4B7F-95DD-C4D1B38A3777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0" y="11397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49" name="Object 5"/>
          <p:cNvGraphicFramePr/>
          <p:nvPr/>
        </p:nvGraphicFramePr>
        <p:xfrm>
          <a:off x="324000" y="2205000"/>
          <a:ext cx="214308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05000"/>
                    <a:ext cx="214308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Rectangle 8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2" name="Object 7"/>
          <p:cNvGraphicFramePr/>
          <p:nvPr/>
        </p:nvGraphicFramePr>
        <p:xfrm>
          <a:off x="3564000" y="2565360"/>
          <a:ext cx="1914480" cy="10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2565360"/>
                    <a:ext cx="19144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ZoneTexte 16"/>
          <p:cNvSpPr/>
          <p:nvPr/>
        </p:nvSpPr>
        <p:spPr>
          <a:xfrm>
            <a:off x="5292720" y="242100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M1 covers M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Repeat t1 leads  to w tokens in p2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Replace M1 by [0, w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5" name="Object 10"/>
          <p:cNvGraphicFramePr/>
          <p:nvPr/>
        </p:nvGraphicFramePr>
        <p:xfrm>
          <a:off x="3564000" y="3573360"/>
          <a:ext cx="2827440" cy="257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3573360"/>
                    <a:ext cx="282744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ZoneTexte 18"/>
          <p:cNvSpPr/>
          <p:nvPr/>
        </p:nvSpPr>
        <p:spPr>
          <a:xfrm>
            <a:off x="2627280" y="2708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Step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2627280" y="4076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Step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248436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Step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xerci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raw the reachability graph of the n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2CB4-833D-4818-8BF0-FC02181CD0C7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Immagine 5" descr="semaforo.gif"/>
          <p:cNvPicPr/>
          <p:nvPr/>
        </p:nvPicPr>
        <p:blipFill>
          <a:blip r:embed="rId1"/>
          <a:stretch/>
        </p:blipFill>
        <p:spPr>
          <a:xfrm>
            <a:off x="6516720" y="1916280"/>
            <a:ext cx="2031840" cy="2616120"/>
          </a:xfrm>
          <a:prstGeom prst="rect">
            <a:avLst/>
          </a:prstGeom>
          <a:ln w="0">
            <a:noFill/>
          </a:ln>
        </p:spPr>
      </p:pic>
      <p:pic>
        <p:nvPicPr>
          <p:cNvPr id="464" name="Immagine 6" descr="semaforo.gif"/>
          <p:cNvPicPr/>
          <p:nvPr/>
        </p:nvPicPr>
        <p:blipFill>
          <a:blip r:embed="rId2"/>
          <a:stretch/>
        </p:blipFill>
        <p:spPr>
          <a:xfrm>
            <a:off x="4067280" y="2997360"/>
            <a:ext cx="20318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Carl Adam Pet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4186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roduced in 1962 (Petri’s PhD thesis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60’s and 70’s main focus on theory 80‘s focus on tools and application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w applied in several field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ccess due to simple and clean graphical and conceptual represent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5C10-8F96-4249-9D1F-35DD23FE57C5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Immagine 4" descr="Carl_adam_petri.jpg"/>
          <p:cNvPicPr/>
          <p:nvPr/>
        </p:nvPicPr>
        <p:blipFill>
          <a:blip r:embed="rId1"/>
          <a:stretch/>
        </p:blipFill>
        <p:spPr>
          <a:xfrm>
            <a:off x="5580000" y="1916280"/>
            <a:ext cx="2705040" cy="3225600"/>
          </a:xfrm>
          <a:prstGeom prst="rect">
            <a:avLst/>
          </a:prstGeom>
          <a:ln w="0">
            <a:noFill/>
          </a:ln>
        </p:spPr>
      </p:pic>
      <p:sp>
        <p:nvSpPr>
          <p:cNvPr id="372" name="CasellaDiTesto 5"/>
          <p:cNvSpPr/>
          <p:nvPr/>
        </p:nvSpPr>
        <p:spPr>
          <a:xfrm>
            <a:off x="601200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1926 – 201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man Old Style"/>
              </a:rPr>
              <a:t>Mapping from BPMN to Petri Ne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Mapping a Need for Verific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usiness Processes are typically defined by business experts which ask for graphical and user-friendly notatio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Most notations such as BPMN 2.0 used typically lack precisely defined semantics limiting the possibility of analysi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In order to formally analysis Business Process we need to derive a formal model  of the Business Process being verifi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From BPMN 2.0 to Petri Net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From BPMN 2.0 to Process Algebra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From ... To … 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469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8985-A15D-46AA-91A9-157650DCB775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From BPMN 2.0 to Petri Net (I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10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Raedts et. al, 2007 -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Raedts, I., Petkovic, M., Usenko, Y. S., van der Werf, J. M., Groote, J. F., and Somers, L. J. (2007). Transformation of BPMN models for Behaviour Analysi, In MSVVEIS, pages 126-137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It converts BPMN 2.0 to Petri Nets extended with inhibitor and reset arcs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The proposed mapping is not comprehensive enough in order to clearly address all the BPMN 2.0 elements (i.e. messages, sub-process and loop activity are not included)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Awad, 2010 -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Awad, A., Decker, G., and Lohmann, N. (2010). Diagnosing and repairing data anomalies in process models. BPM Workshops, vol. 43 of Lecture Notes in Business Information Processing, pp. 5-16. Springer.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It formalizes the basic data object together with the more traditional control flow elements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It is missed a more general and complex mapping on the BPMN 2.0 elements such as sub-process, messages, etc.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From BPMN 2.0 to Petri Net (II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2400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326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  <a:ea typeface="Gill Sans"/>
              </a:rPr>
              <a:t>Dijkman, R. M., Dumas, M., and Ouyang, C. (2008). Semantics and analysis of business process models in BPMN. Inf. Softw.  Technol., 50(12):1281-1294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326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p to our review it the most complete methodology to transform BPMN 2.0 models into Petri 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743040" indent="-285840">
              <a:spcBef>
                <a:spcPts val="326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It starts from the basic elements and introduces some more details regarding multiple instances, sub-process and exception handling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743040" indent="-285840">
              <a:spcBef>
                <a:spcPts val="326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It can be easy extended  to the whole specification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890D-95DC-46F3-B382-D35AA29A6A0F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5" name="Immagine 4" descr="SelectedMapping.png"/>
          <p:cNvPicPr/>
          <p:nvPr/>
        </p:nvPicPr>
        <p:blipFill>
          <a:blip r:embed="rId1"/>
          <a:stretch/>
        </p:blipFill>
        <p:spPr>
          <a:xfrm>
            <a:off x="2050920" y="2924280"/>
            <a:ext cx="476424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acro expansions for repeated activitie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77" name="Segnaposto contenuto 4" descr="Schermata 2015-01-13 alle 23.01.27.png"/>
          <p:cNvPicPr/>
          <p:nvPr/>
        </p:nvPicPr>
        <p:blipFill>
          <a:blip r:embed="rId1"/>
          <a:srcRect l="0" t="-108685" r="0" b="-108685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78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ED5C-06B0-43F6-B6AE-0A0B4FBE4923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64653"/>
                </a:solidFill>
                <a:latin typeface="Bookman Old Style"/>
              </a:rPr>
              <a:t>Macro expansion for a multi-instance activity where n is known at design time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80" name="Segnaposto contenuto 4" descr="Schermata 2015-01-13 alle 23.01.34.png"/>
          <p:cNvPicPr/>
          <p:nvPr/>
        </p:nvPicPr>
        <p:blipFill>
          <a:blip r:embed="rId1"/>
          <a:srcRect l="0" t="-47673" r="0" b="-47673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81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90A4-64F0-44F0-A718-2B9C5E2727D2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apping of a task with an exception flow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83" name="Segnaposto contenuto 4" descr="Schermata 2015-01-13 alle 22.59.40.png"/>
          <p:cNvPicPr/>
          <p:nvPr/>
        </p:nvPicPr>
        <p:blipFill>
          <a:blip r:embed="rId1"/>
          <a:srcRect l="0" t="-115496" r="0" b="-115496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84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FFD8-6BEC-4C62-A4BF-804FD9BC2521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apping of message flows between BPMN process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86" name="Segnaposto contenuto 4" descr="Schermata 2015-01-13 alle 22.58.03.png"/>
          <p:cNvPicPr/>
          <p:nvPr/>
        </p:nvPicPr>
        <p:blipFill>
          <a:blip r:embed="rId1"/>
          <a:srcRect l="0" t="-11046" r="0" b="-11046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87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E1D1-193A-4BD7-8319-F1CE37B43DE4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89" name="Segnaposto contenuto 4" descr="mapping1.jpg"/>
          <p:cNvPicPr/>
          <p:nvPr/>
        </p:nvPicPr>
        <p:blipFill>
          <a:blip r:embed="rId1"/>
          <a:srcRect l="-12496" t="0" r="-12496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9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0388-76C9-40A3-9899-52EEA215862D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 (step 1 participant B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92" name="Segnaposto contenuto 4" descr="step-ab.png"/>
          <p:cNvPicPr/>
          <p:nvPr/>
        </p:nvPicPr>
        <p:blipFill>
          <a:blip r:embed="rId1"/>
          <a:srcRect l="-8028" t="0" r="-8028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93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3877-B603-4C4E-8104-A4AB6D669B33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ormal and abstract business process specific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ormal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the semantics of process becomes well defined and not ambiguou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Abstrac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execution environment is disregarded (Remind about separation of concern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tri Net can be used to model dynamic system with a static structur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static structure is represented by a Petri Net (process level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dynamic behavior is capture by the token play of the Petri Net (instance level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75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3480-C37D-4009-A044-8610CAD25372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 (step 2 participant B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95" name="Segnaposto contenuto 4" descr="step-cd.jpg"/>
          <p:cNvPicPr/>
          <p:nvPr/>
        </p:nvPicPr>
        <p:blipFill>
          <a:blip r:embed="rId1"/>
          <a:srcRect l="-12496" t="0" r="-12496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96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D9F3-5505-4D11-9347-E0C515130B15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 (step 3 participant B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98" name="Segnaposto contenuto 4" descr="step-e.png"/>
          <p:cNvPicPr/>
          <p:nvPr/>
        </p:nvPicPr>
        <p:blipFill>
          <a:blip r:embed="rId1"/>
          <a:srcRect l="0" t="-17903" r="0" b="-17903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99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30F1-99E8-4354-A0E1-FFBB1E15E356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 (participant B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01" name="Segnaposto contenuto 4" descr="MappingB.png"/>
          <p:cNvPicPr/>
          <p:nvPr/>
        </p:nvPicPr>
        <p:blipFill>
          <a:blip r:embed="rId1"/>
          <a:srcRect l="0" t="-15509" r="0" b="-15509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502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FF47-1C21-4CAA-95B2-0C83F1C6F39F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04" name="Segnaposto contenuto 4" descr="mapping2.jpg"/>
          <p:cNvPicPr/>
          <p:nvPr/>
        </p:nvPicPr>
        <p:blipFill>
          <a:blip r:embed="rId1"/>
          <a:srcRect l="-12496" t="0" r="-12496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505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A9A3-EB71-4274-AB63-AC69EAA8AF07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560" y="228600"/>
            <a:ext cx="7859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lemen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b8cd"/>
                </a:solidFill>
                <a:latin typeface="Gill Sans MT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b8cd"/>
                </a:solidFill>
                <a:latin typeface="Gill Sans MT"/>
              </a:rPr>
              <a:t>Trans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place can stand for a state a medium a buffer a condition a repository of resources a type 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transition can stand for an event an operation a transformation a transportation a task an activity 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A1BF-E537-4C16-8367-8057958B46E0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Segnaposto contenuto 8"/>
          <p:cNvSpPr/>
          <p:nvPr/>
        </p:nvSpPr>
        <p:spPr>
          <a:xfrm>
            <a:off x="468360" y="5084640"/>
            <a:ext cx="83707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token can stand for a physical object a piece of data a resource an activation mark a message a document a case .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egnaposto testo 7"/>
          <p:cNvSpPr/>
          <p:nvPr/>
        </p:nvSpPr>
        <p:spPr>
          <a:xfrm>
            <a:off x="2484360" y="4437000"/>
            <a:ext cx="404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b8cd"/>
                </a:solidFill>
                <a:latin typeface="Gill Sans MT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Petri N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A Petri Net is a tuple (P, T, F, M</a:t>
            </a:r>
            <a:r>
              <a:rPr b="0" lang="it-IT" sz="26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) whe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P is a finite set of places;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T is a finite set of transitions;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F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⊆ (P X T) U (T X U) is a flow relation;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M : P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→ N is the initial marking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 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86" name="Segnaposto numero diapositiva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C0B1-C1CD-4CE2-9DBC-DE676F938F66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ark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A Marking M: P → N denotes the number of tokens in each pla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The marking of a Petri net represents its sta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00"/>
                </a:solidFill>
                <a:latin typeface="Gill Sans MT"/>
              </a:rPr>
              <a:t>M (a) = 0</a:t>
            </a: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 denotes the absence of tokens in a place </a:t>
            </a:r>
            <a:r>
              <a:rPr b="0" i="1" lang="it-IT" sz="26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Segnaposto numero diapositiva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3DA9-60B7-4450-A935-CD14FD478812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Firing a trasi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Let (P,  T,  F) be a Petri net and M a marking. The firing of a transition is represented by a state change of the Petri n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M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→ M’ indicates that by firing t, the state of the Petri net changes from M to M’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M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→ M’ indicates that there is a transition t such that M →M’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M</a:t>
            </a:r>
            <a:r>
              <a:rPr b="0" i="1" lang="it-IT" sz="2300" spc="-1" strike="noStrike" baseline="-25000">
                <a:solidFill>
                  <a:srgbClr val="464653"/>
                </a:solidFill>
                <a:latin typeface="Gill Sans MT"/>
                <a:ea typeface="ＭＳ Ｐゴシック"/>
              </a:rPr>
              <a:t>1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→ M</a:t>
            </a:r>
            <a:r>
              <a:rPr b="0" lang="it-IT" sz="2300" spc="-1" strike="noStrike" baseline="-25000">
                <a:solidFill>
                  <a:srgbClr val="464653"/>
                </a:solidFill>
                <a:latin typeface="Gill Sans MT"/>
                <a:ea typeface="ＭＳ Ｐゴシック"/>
              </a:rPr>
              <a:t>n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 means that there is a sequence of transition           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 t</a:t>
            </a:r>
            <a:r>
              <a:rPr b="0" i="1" lang="it-IT" sz="2300" spc="-1" strike="noStrike" baseline="-25000">
                <a:solidFill>
                  <a:srgbClr val="464653"/>
                </a:solidFill>
                <a:latin typeface="Gill Sans MT"/>
              </a:rPr>
              <a:t>1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, t</a:t>
            </a:r>
            <a:r>
              <a:rPr b="0" i="1" lang="it-IT" sz="2300" spc="-1" strike="noStrike" baseline="-25000">
                <a:solidFill>
                  <a:srgbClr val="464653"/>
                </a:solidFill>
                <a:latin typeface="Gill Sans MT"/>
              </a:rPr>
              <a:t>2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, … , t</a:t>
            </a:r>
            <a:r>
              <a:rPr b="0" i="1" lang="it-IT" sz="2300" spc="-1" strike="noStrike" baseline="-25000">
                <a:solidFill>
                  <a:srgbClr val="464653"/>
                </a:solidFill>
                <a:latin typeface="Gill Sans MT"/>
              </a:rPr>
              <a:t>n-1 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for 1&lt;= i &lt; 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A state M’ is reachable from a state M if and only if M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→ M’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92" name="Segnaposto numero diapositiva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DE0A-0D5D-481A-8EF9-9A05EE79BC62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CasellaDiTesto 2"/>
          <p:cNvSpPr/>
          <p:nvPr/>
        </p:nvSpPr>
        <p:spPr>
          <a:xfrm>
            <a:off x="715140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CasellaDiTesto 6"/>
          <p:cNvSpPr/>
          <p:nvPr/>
        </p:nvSpPr>
        <p:spPr>
          <a:xfrm>
            <a:off x="15346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Pre-set and Post-set - Transi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Segnaposto numero diapositiva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5C30-7BB5-45EA-95B0-F8B1062412C9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Immagine 3" descr="Schermata 2013-10-21 a 17.05.28.png"/>
          <p:cNvPicPr/>
          <p:nvPr/>
        </p:nvPicPr>
        <p:blipFill>
          <a:blip r:embed="rId1"/>
          <a:stretch/>
        </p:blipFill>
        <p:spPr>
          <a:xfrm>
            <a:off x="826920" y="1844640"/>
            <a:ext cx="742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Pre-set and Post-set - Pla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Segnaposto numero diapositiva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52E8-495C-4788-9421-891BC93D1CB9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Immagine 3" descr="Schermata 2013-10-21 a 17.06.52.png"/>
          <p:cNvPicPr/>
          <p:nvPr/>
        </p:nvPicPr>
        <p:blipFill>
          <a:blip r:embed="rId1"/>
          <a:stretch/>
        </p:blipFill>
        <p:spPr>
          <a:xfrm>
            <a:off x="266760" y="1914480"/>
            <a:ext cx="8610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9:02:22Z</dcterms:created>
  <dc:creator>Barbara Re</dc:creator>
  <dc:description/>
  <dc:language>en-US</dc:language>
  <cp:lastModifiedBy>Barbara Re</cp:lastModifiedBy>
  <cp:lastPrinted>2014-09-13T18:02:50Z</cp:lastPrinted>
  <dcterms:modified xsi:type="dcterms:W3CDTF">2015-01-22T13:34:06Z</dcterms:modified>
  <cp:revision>250</cp:revision>
  <dc:subject>Lezioni Laboratorio Informatico per i database turistici</dc:subject>
  <dc:title>Presentazione corso</dc:title>
</cp:coreProperties>
</file>