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wmf" ContentType="image/x-wmf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2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 type="sldNum" idx="2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E4F9A9-3061-43A6-AA42-F12A173C046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CB70A2-D88A-4AA5-8C2F-206A12C91A7E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7773E4-E1E1-4472-A987-05F75434331A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6BC-4392-4F5F-B53A-17CDB9B7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DE9-615C-49D1-AC02-0495D371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849A-B1B5-448A-B865-00E098E1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6785-F89F-4A93-B37F-0D10E561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23A7-52BB-4378-8F7E-9B5F3B4F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1A3D-D315-4D30-992C-1C43F6D5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B885-6F17-47B4-B5D0-9FD1727D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7AEE-5591-4493-A96E-95785379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8135-B6DE-447B-8BAC-D853B365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7B1B-1E72-4E4C-B42C-7D0E923B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10F5-CDC6-464D-91D3-46BC2FA2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B11-B52F-499F-BA7E-ECD796FD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2674-71CB-4653-AF3B-17C84842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E586-84F5-4624-925C-4A2354F2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9D9D-A909-494F-A440-FAA3362A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3DB5-117D-417C-BB8E-E0721D92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DFE0-3C12-4C6B-91DE-00710682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0497C-9745-45E1-849F-FDD84C3F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D7D30-651C-43DD-B349-A7439F21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C33D8-983E-43E8-93D4-7B90100E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249F6-2D26-4BF8-B0B0-35D607EC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AA60D-7CE6-4AF9-AACC-05027F0E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1F6-2DCA-4BEB-B071-8061C30F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4FA38-A3D0-4F54-8879-0F0896C1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A979E-3CAF-45BE-BA82-D807A09B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6F617-E8A2-4A12-94AA-85E6BC9F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61A1A-8F97-487F-AA12-EB970A66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F1E70-8C03-47C4-AE72-2564456F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2C743-E91E-4CA5-82D2-3E994BAA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B9816-B948-40B9-8E29-2DBA59B1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8589D-77FD-4601-B649-C4FF7CEF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BE182-F69E-4296-8E06-3EB1195B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6284F-E75E-48B4-B3AD-40E03FC2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7EA-B7FB-4B28-9AB9-8043D315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E6AFF-FB37-4B2E-A02C-E54A29C5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31BA1-BDB5-4D44-827F-703CADE8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E85C8-C824-4E64-8C0A-811211F8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7BE2D-5C12-4B03-A430-19DED10A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7CA35-197A-4901-9C22-6E69EDED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4BC49-A542-4830-9E74-6D0B18B5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8BCBC-EA1E-435B-B218-C09D9B34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AC66A-13DF-4103-BECC-2109C4F6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A33E0-4CC3-4225-9559-6EEBBC4A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4C251-BC52-4EAB-87C8-2B2ECA48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F33-5F14-425A-A163-460E315D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5022D-B55D-4E10-A2FC-80F59920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3FB35-6804-424B-85B2-36D7EF6B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EACD4-B7C2-4FCB-A9FC-2777689A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A7D95-CA0D-4913-8031-8B3D5B25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D8F59-3AA7-47E0-8586-BD7FF91E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49469-D3A4-4C94-9885-FB5DDA10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187F5-09D6-4B00-9531-BE9EC7B3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FFC1B-3B96-4C68-BDC5-C73FA82D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FE6BC-4378-4A5F-961D-842A8F8D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B5FA7-8DA0-4C22-9249-56D9A24F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BB0-BF6E-4F4B-B84E-AF2C4920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09E3B-CDF5-45EB-B0F0-F3F2CB81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84035-41CF-4654-B8A5-8C760C1D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F72C5-F6E7-4F54-9166-9443A268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A2896-ABEF-4C20-A7A8-A622796D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8645D-92D0-4667-A70C-290DCB2B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DDAA7-374A-476A-9234-5A360AC4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679B6-EEF3-4ADB-A98C-E7D8690D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1DB8E-D072-4309-94E6-6828EA8D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D4E9B-34E6-4861-ABA9-826CA7CE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5663A-189F-45C4-BBA3-90E22E26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509-82D8-45BA-A6E7-583CAD43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5A3DB-4315-4278-BD53-FA0A8BB4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5DD28-9C07-441E-9B7F-6AD5814A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9C279-F738-4D0D-93F0-B6719707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65206-2A6F-4126-A1E9-7E66670C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A7709-96AA-4451-BB0B-3364606B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DD0FE-5F5A-46A7-AC9D-4EF90288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4DEDD-E7F2-4677-8F72-7A245FA8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3F827-9078-43CA-9BA6-52DE1E63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77F2D-93CD-4F15-A57D-A551F6A5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5BB3E-B82C-4B21-B4F9-7C0F003A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E447-AFB7-4F48-98F4-80A10BC4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463D2-832C-4352-B19D-7045C9F3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80014-7E3C-4DE7-92D0-88799F46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673CD-FEDB-48CF-83F0-4F47948F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755EF-6654-4ED5-8BC9-4ECC5D60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3B6EF-1D21-49D3-BE3F-5D0664CA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AACFB-70A5-4CB1-9580-5CA7CC7C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C6C1C-FD43-455D-A0CF-580195E1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0068A-6F28-41DE-993C-A015DB45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A7277-75EF-4865-B60F-985AC3CE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7881A-2129-4E8C-8C7B-C2259383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C44-EF3D-450C-9317-584D52C4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70FBE-9127-4B3D-AE7B-3794677A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B07A4-4FD6-4746-A3ED-AD5E1653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B4A86-9C55-4828-838C-B8D32D7E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F7014-EE79-45C6-9A02-81E13726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FB7F8-A1C8-41CD-987D-1DB9C187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2C4B1-FBBA-46DD-9994-53578D5D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73E1D-3AC7-4092-A0CC-34A504D1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356D-467C-4D05-9920-0C97745094EE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" name="Object 2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179280" y="115920"/>
          <a:ext cx="952560" cy="11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9525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E78B-DE4F-4E16-824D-260B3982B64A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4FB6-17E4-4477-8508-7B500797EF66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C93E-2054-4A40-BE8D-994360EAD939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0988-9F43-436D-9716-D560B87EED30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74A6-50E1-4494-B558-A06958A216E0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4BA4-02FB-49D6-93AF-8D9AED74B138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E9AB-3D2A-4C28-8EE6-C28DAF49070C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ocess Orchestra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Advanced Business Process Managemen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Barbara Re, Ph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332000" y="436572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" descr="bpm-book-weske_080.png"/>
          <p:cNvPicPr/>
          <p:nvPr/>
        </p:nvPicPr>
        <p:blipFill>
          <a:blip r:embed="rId1"/>
          <a:srcRect l="0" t="0" r="0" b="8236"/>
          <a:stretch/>
        </p:blipFill>
        <p:spPr>
          <a:xfrm>
            <a:off x="1042920" y="1197000"/>
            <a:ext cx="7070760" cy="50338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Or split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1318-B791-4317-A9B7-823BC1654A90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" descr="bpm-book-weske_081.png"/>
          <p:cNvPicPr/>
          <p:nvPr/>
        </p:nvPicPr>
        <p:blipFill>
          <a:blip r:embed="rId1"/>
          <a:srcRect l="0" t="0" r="0" b="6149"/>
          <a:stretch/>
        </p:blipFill>
        <p:spPr>
          <a:xfrm>
            <a:off x="1763640" y="1197000"/>
            <a:ext cx="5602320" cy="514836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Or joi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7186-DF35-488D-9404-E33019779B5C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" descr="bpm-book-weske_082.png"/>
          <p:cNvPicPr/>
          <p:nvPr/>
        </p:nvPicPr>
        <p:blipFill>
          <a:blip r:embed="rId1"/>
          <a:srcRect l="0" t="0" r="0" b="10024"/>
          <a:stretch/>
        </p:blipFill>
        <p:spPr>
          <a:xfrm>
            <a:off x="372960" y="1628640"/>
            <a:ext cx="8447040" cy="402768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ulti-merge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B33B-EA1E-4D0E-9BDF-D1A730A99D8C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CasellaDiTesto 1"/>
          <p:cNvSpPr/>
          <p:nvPr/>
        </p:nvSpPr>
        <p:spPr>
          <a:xfrm>
            <a:off x="655200" y="5805360"/>
            <a:ext cx="75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he activity following the merge is started for every activation of every incoming bran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" descr="bpm-book-weske_083.png"/>
          <p:cNvPicPr/>
          <p:nvPr/>
        </p:nvPicPr>
        <p:blipFill>
          <a:blip r:embed="rId1"/>
          <a:stretch/>
        </p:blipFill>
        <p:spPr>
          <a:xfrm>
            <a:off x="755640" y="1268280"/>
            <a:ext cx="7772400" cy="2934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ulti-merge examp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DE99-77F5-4D75-9B57-A362CF3EEE64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1" descr="bpm-book-weske_084.png"/>
          <p:cNvPicPr/>
          <p:nvPr/>
        </p:nvPicPr>
        <p:blipFill>
          <a:blip r:embed="rId2"/>
          <a:srcRect l="0" t="0" r="9649" b="14138"/>
          <a:stretch/>
        </p:blipFill>
        <p:spPr>
          <a:xfrm>
            <a:off x="755640" y="3429000"/>
            <a:ext cx="7272360" cy="2922480"/>
          </a:xfrm>
          <a:prstGeom prst="rect">
            <a:avLst/>
          </a:prstGeom>
          <a:ln w="0">
            <a:noFill/>
          </a:ln>
        </p:spPr>
      </p:pic>
      <p:sp>
        <p:nvSpPr>
          <p:cNvPr id="413" name="CasellaDiTesto 5"/>
          <p:cNvSpPr/>
          <p:nvPr/>
        </p:nvSpPr>
        <p:spPr>
          <a:xfrm>
            <a:off x="216720" y="1341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cess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CasellaDiTesto 6"/>
          <p:cNvSpPr/>
          <p:nvPr/>
        </p:nvSpPr>
        <p:spPr>
          <a:xfrm>
            <a:off x="246600" y="37893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vent Diagr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bpm-book-weske_085.png"/>
          <p:cNvPicPr/>
          <p:nvPr/>
        </p:nvPicPr>
        <p:blipFill>
          <a:blip r:embed="rId1"/>
          <a:stretch/>
        </p:blipFill>
        <p:spPr>
          <a:xfrm>
            <a:off x="685800" y="1701720"/>
            <a:ext cx="7772400" cy="345456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Discriminator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2114-480A-4E7D-9820-DFB79DBD035C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ttangolo 4"/>
          <p:cNvSpPr/>
          <p:nvPr/>
        </p:nvSpPr>
        <p:spPr>
          <a:xfrm>
            <a:off x="826920" y="4797360"/>
            <a:ext cx="70581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" descr="bpm-book-weske_086.png"/>
          <p:cNvPicPr/>
          <p:nvPr/>
        </p:nvPicPr>
        <p:blipFill>
          <a:blip r:embed="rId1"/>
          <a:stretch/>
        </p:blipFill>
        <p:spPr>
          <a:xfrm>
            <a:off x="611280" y="1341360"/>
            <a:ext cx="8281800" cy="2448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Discriminator Examp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6817-456D-4932-829B-BB7B0142B24B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CasellaDiTesto 4"/>
          <p:cNvSpPr/>
          <p:nvPr/>
        </p:nvSpPr>
        <p:spPr>
          <a:xfrm>
            <a:off x="216720" y="1341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cess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CasellaDiTesto 5"/>
          <p:cNvSpPr/>
          <p:nvPr/>
        </p:nvSpPr>
        <p:spPr>
          <a:xfrm>
            <a:off x="246600" y="37893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vent Diagr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1" descr="bpm-book-weske_087.png"/>
          <p:cNvPicPr/>
          <p:nvPr/>
        </p:nvPicPr>
        <p:blipFill>
          <a:blip r:embed="rId2"/>
          <a:srcRect l="0" t="0" r="9130" b="14052"/>
          <a:stretch/>
        </p:blipFill>
        <p:spPr>
          <a:xfrm>
            <a:off x="2124000" y="3500280"/>
            <a:ext cx="61088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" descr="bpm-book-weske_088.png"/>
          <p:cNvPicPr/>
          <p:nvPr/>
        </p:nvPicPr>
        <p:blipFill>
          <a:blip r:embed="rId1"/>
          <a:stretch/>
        </p:blipFill>
        <p:spPr>
          <a:xfrm>
            <a:off x="179280" y="1628640"/>
            <a:ext cx="8650440" cy="41864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N-out-of-M joi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BC66-7390-4D7F-9B0F-200BD5FC01C9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Rettangolo 4"/>
          <p:cNvSpPr/>
          <p:nvPr/>
        </p:nvSpPr>
        <p:spPr>
          <a:xfrm>
            <a:off x="1042920" y="5300640"/>
            <a:ext cx="70581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" descr="bpm-book-weske_089.png"/>
          <p:cNvPicPr/>
          <p:nvPr/>
        </p:nvPicPr>
        <p:blipFill>
          <a:blip r:embed="rId1"/>
          <a:stretch/>
        </p:blipFill>
        <p:spPr>
          <a:xfrm>
            <a:off x="250920" y="2060640"/>
            <a:ext cx="8661240" cy="326556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Arbitrary cycles pattern – graphical represent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7970-C72B-4937-B19E-5A429D6A9E19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Rettangolo 4"/>
          <p:cNvSpPr/>
          <p:nvPr/>
        </p:nvSpPr>
        <p:spPr>
          <a:xfrm>
            <a:off x="611280" y="414972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" descr="bpm-book-weske_090.png"/>
          <p:cNvPicPr/>
          <p:nvPr/>
        </p:nvPicPr>
        <p:blipFill>
          <a:blip r:embed="rId1"/>
          <a:stretch/>
        </p:blipFill>
        <p:spPr>
          <a:xfrm>
            <a:off x="685800" y="1770120"/>
            <a:ext cx="7772400" cy="33163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Arbitrary cycles example – using multiple merge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D209-F07A-4F6D-88B4-4CFA511F3A4F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Rettangolo 4"/>
          <p:cNvSpPr/>
          <p:nvPr/>
        </p:nvSpPr>
        <p:spPr>
          <a:xfrm>
            <a:off x="755640" y="458136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" descr="bpm-book-weske_092.png"/>
          <p:cNvPicPr/>
          <p:nvPr/>
        </p:nvPicPr>
        <p:blipFill>
          <a:blip r:embed="rId1"/>
          <a:stretch/>
        </p:blipFill>
        <p:spPr>
          <a:xfrm>
            <a:off x="15840" y="1916280"/>
            <a:ext cx="9124920" cy="396072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ample for multiple instances with a priori design time knowledg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C515-CE47-4514-9EEB-024D6FEA0021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ttangolo 4"/>
          <p:cNvSpPr/>
          <p:nvPr/>
        </p:nvSpPr>
        <p:spPr>
          <a:xfrm>
            <a:off x="179280" y="5373720"/>
            <a:ext cx="8353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ntrol flow pattern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rol flow patterns 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… </a:t>
            </a:r>
            <a:r>
              <a:rPr b="0" lang="en-US" sz="19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provide a way for expressing process behaviour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… </a:t>
            </a:r>
            <a:r>
              <a:rPr b="0" lang="en-US" sz="22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are </a:t>
            </a:r>
            <a:r>
              <a:rPr b="1" lang="en-US" sz="22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independent of concrete process languages</a:t>
            </a:r>
            <a:r>
              <a:rPr b="0" lang="en-US" sz="22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, so that each pattern can be expressed in </a:t>
            </a:r>
            <a:r>
              <a:rPr b="1" lang="en-US" sz="22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different process languages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rol flow patterns can also be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used to compare the expressiveness of process languag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Basic control flow patterns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clude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sequence, and split,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d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 and join,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s well as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 exclusive or split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d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 exclusive or joi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ese control flow patterns are supported by virtually any process meta-mod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rol flow patterns are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defined at the process model level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d their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execution semantics is applies at process instanc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70EE-8B0C-4029-BCED-0701ECC08791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" descr="bpm-book-weske_093.png"/>
          <p:cNvPicPr/>
          <p:nvPr/>
        </p:nvPicPr>
        <p:blipFill>
          <a:blip r:embed="rId1"/>
          <a:srcRect l="0" t="0" r="0" b="12646"/>
          <a:stretch/>
        </p:blipFill>
        <p:spPr>
          <a:xfrm>
            <a:off x="250920" y="1484280"/>
            <a:ext cx="8656560" cy="39006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464653"/>
                </a:solidFill>
                <a:latin typeface="Bookman Old Style"/>
              </a:rPr>
              <a:t>Example for multiple instances without a priori run time knowledge patter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E972-F1ED-44FB-9C16-02D6DA4E0EC6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" descr="bpm-book-weske_094.png"/>
          <p:cNvPicPr/>
          <p:nvPr/>
        </p:nvPicPr>
        <p:blipFill>
          <a:blip r:embed="rId1"/>
          <a:srcRect l="0" t="0" r="0" b="15552"/>
          <a:stretch/>
        </p:blipFill>
        <p:spPr>
          <a:xfrm>
            <a:off x="0" y="1557360"/>
            <a:ext cx="9132840" cy="43862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64653"/>
                </a:solidFill>
                <a:latin typeface="Bookman Old Style"/>
              </a:rPr>
              <a:t>Multiple instance without a priori run time knowledge pattern, including management task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A951-3CCE-4D32-95A0-BF794192D80D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1" descr="bpm-book-weske_096.png"/>
          <p:cNvPicPr/>
          <p:nvPr/>
        </p:nvPicPr>
        <p:blipFill>
          <a:blip r:embed="rId1"/>
          <a:srcRect l="0" t="0" r="0" b="10930"/>
          <a:stretch/>
        </p:blipFill>
        <p:spPr>
          <a:xfrm>
            <a:off x="684360" y="1389240"/>
            <a:ext cx="7772400" cy="48481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equential execution without a priori design time knowle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FA97-969D-4D48-83B5-2761B50F0A69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Other types of patter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Exception Hand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Present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D7F1-FA48-434A-88DF-030F42BA7C04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ore o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http://www.workflowpatterns.com/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B5A4-BDE1-445C-AA3B-797D5671DC5B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6" name="Immagine 4" descr="Schermata 2013-10-05 a 12.13.25.png"/>
          <p:cNvPicPr/>
          <p:nvPr/>
        </p:nvPicPr>
        <p:blipFill>
          <a:blip r:embed="rId1"/>
          <a:stretch/>
        </p:blipFill>
        <p:spPr>
          <a:xfrm>
            <a:off x="1547640" y="1341360"/>
            <a:ext cx="59835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DF24-F3CF-4E2A-9B69-A8B9E80763D6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8" name="Object 2"/>
          <p:cNvGraphicFramePr/>
          <p:nvPr/>
        </p:nvGraphicFramePr>
        <p:xfrm>
          <a:off x="1371600" y="1752480"/>
          <a:ext cx="1857240" cy="39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185724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Text Box 3"/>
          <p:cNvSpPr/>
          <p:nvPr/>
        </p:nvSpPr>
        <p:spPr>
          <a:xfrm>
            <a:off x="3731760" y="320040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" descr="bpm-book-weske_073.png"/>
          <p:cNvPicPr/>
          <p:nvPr/>
        </p:nvPicPr>
        <p:blipFill>
          <a:blip r:embed="rId1"/>
          <a:stretch/>
        </p:blipFill>
        <p:spPr>
          <a:xfrm>
            <a:off x="539640" y="2060640"/>
            <a:ext cx="8256600" cy="3676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tate transition diagram for activity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E8BC-CF87-40F5-A824-B93415EB0725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ttangolo 4"/>
          <p:cNvSpPr/>
          <p:nvPr/>
        </p:nvSpPr>
        <p:spPr>
          <a:xfrm>
            <a:off x="611280" y="515772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" descr="bpm-book-weske_074.png"/>
          <p:cNvPicPr/>
          <p:nvPr/>
        </p:nvPicPr>
        <p:blipFill>
          <a:blip r:embed="rId1"/>
          <a:stretch/>
        </p:blipFill>
        <p:spPr>
          <a:xfrm>
            <a:off x="900000" y="1628640"/>
            <a:ext cx="7772400" cy="42735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equence pattern, with event diagram process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7C4D-A671-46CE-9E86-F558CC8DA384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Rettangolo 4"/>
          <p:cNvSpPr/>
          <p:nvPr/>
        </p:nvSpPr>
        <p:spPr>
          <a:xfrm>
            <a:off x="900000" y="5373720"/>
            <a:ext cx="7056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1" descr="bpm-book-weske_075.png"/>
          <p:cNvPicPr/>
          <p:nvPr/>
        </p:nvPicPr>
        <p:blipFill>
          <a:blip r:embed="rId1"/>
          <a:stretch/>
        </p:blipFill>
        <p:spPr>
          <a:xfrm>
            <a:off x="685800" y="1976400"/>
            <a:ext cx="7772400" cy="29034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equence pattern as part of loo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842D-09E2-45B4-A455-1DCEE28D2854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ttangolo 4"/>
          <p:cNvSpPr/>
          <p:nvPr/>
        </p:nvSpPr>
        <p:spPr>
          <a:xfrm>
            <a:off x="324000" y="4292640"/>
            <a:ext cx="76327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bpm-book-weske_076.png"/>
          <p:cNvPicPr/>
          <p:nvPr/>
        </p:nvPicPr>
        <p:blipFill>
          <a:blip r:embed="rId1"/>
          <a:stretch/>
        </p:blipFill>
        <p:spPr>
          <a:xfrm>
            <a:off x="250920" y="1844640"/>
            <a:ext cx="8434440" cy="33400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And-split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9B63-922C-482D-A252-6854B6A7A194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ttangolo 4"/>
          <p:cNvSpPr/>
          <p:nvPr/>
        </p:nvSpPr>
        <p:spPr>
          <a:xfrm>
            <a:off x="611280" y="4508640"/>
            <a:ext cx="7056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" descr="bpm-book-weske_077.png"/>
          <p:cNvPicPr/>
          <p:nvPr/>
        </p:nvPicPr>
        <p:blipFill>
          <a:blip r:embed="rId1"/>
          <a:stretch/>
        </p:blipFill>
        <p:spPr>
          <a:xfrm>
            <a:off x="388800" y="2060640"/>
            <a:ext cx="8755200" cy="35290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And joi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3699-6EE9-4F4A-9DD4-F3AC4095F300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Rettangolo 4"/>
          <p:cNvSpPr/>
          <p:nvPr/>
        </p:nvSpPr>
        <p:spPr>
          <a:xfrm>
            <a:off x="900000" y="5157720"/>
            <a:ext cx="7056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" descr="bpm-book-weske_078.png"/>
          <p:cNvPicPr/>
          <p:nvPr/>
        </p:nvPicPr>
        <p:blipFill>
          <a:blip r:embed="rId1"/>
          <a:stretch/>
        </p:blipFill>
        <p:spPr>
          <a:xfrm>
            <a:off x="108000" y="1341360"/>
            <a:ext cx="8891640" cy="4103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Xor split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DEA3-0154-4116-9569-A9AD840EAD22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ttangolo 4"/>
          <p:cNvSpPr/>
          <p:nvPr/>
        </p:nvSpPr>
        <p:spPr>
          <a:xfrm>
            <a:off x="684360" y="494172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" descr="bpm-book-weske_079.png"/>
          <p:cNvPicPr/>
          <p:nvPr/>
        </p:nvPicPr>
        <p:blipFill>
          <a:blip r:embed="rId1"/>
          <a:stretch/>
        </p:blipFill>
        <p:spPr>
          <a:xfrm>
            <a:off x="103320" y="1341360"/>
            <a:ext cx="8861400" cy="47307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Xor joi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A722-AB9C-412F-8CE1-2A5670A88EFE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ttangolo 4"/>
          <p:cNvSpPr/>
          <p:nvPr/>
        </p:nvSpPr>
        <p:spPr>
          <a:xfrm>
            <a:off x="755640" y="5445000"/>
            <a:ext cx="7056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9:02:22Z</dcterms:created>
  <dc:creator>Barbara Re</dc:creator>
  <dc:description/>
  <dc:language>en-US</dc:language>
  <cp:lastModifiedBy>Barbara Re</cp:lastModifiedBy>
  <cp:lastPrinted>2013-10-16T07:00:00Z</cp:lastPrinted>
  <dcterms:modified xsi:type="dcterms:W3CDTF">2015-09-19T13:10:22Z</dcterms:modified>
  <cp:revision>214</cp:revision>
  <dc:subject>Lezioni Laboratorio Informatico per i database turistici</dc:subject>
  <dc:title>Presentazione corso</dc:title>
</cp:coreProperties>
</file>