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2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 type="sldNum" idx="2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8C0AAE-130C-4DE2-88C2-AE266196809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D727C3-AB27-4BA9-A52B-928AE5827FF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957D0B-6819-46E0-99E1-4BF3324E224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627DAF-61A8-41D0-A1C4-D7B0918E7A9A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C34873-4DFB-48C6-AE2A-FF2C74691EA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567CAB-86F0-4D9F-91BA-60DD6D85659E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4EFC62-E950-4015-B9C3-198C161C4011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53FAEB-2DC6-4867-867C-9825F1253CCC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156295-FA59-4CFE-8AEE-3699349E806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83D-6609-4DE7-98A7-F47C797C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31F-BCEC-4234-B66D-314C3A17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419-D1FB-4A3C-A83B-EAEC892A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D95-B802-4F8E-9F79-FEE07052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9D1B-AC61-4A25-85ED-65EB0E89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A27E-F98A-4329-B121-A4E10A25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BE83-2707-43F3-AF69-8709DDE6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80C7-0F2E-4EDB-B004-B9D376AA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3E04-EB37-46E1-A4F0-6655293B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A36F-4CA3-4A2F-8498-21678FDE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A3E3-5F20-4485-BB9C-7BAB32AB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DE1-2D0E-4066-8213-AB0598ED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B5CA-552F-43AC-B1CB-153D756E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CD71-F0D3-4705-9DC7-F06ADD47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E3A7-C9BD-4EBF-BD66-845BE989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CF08-1AAE-46D5-BCFD-89D0BCB4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16A7-4C22-48E3-AEB1-CE985D3B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028A9-A5C1-495A-BA84-3AD97738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CB5E1-8507-480F-80F0-990D014F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973A5-CBEE-4114-B1CB-90FCA270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818CE-F5B2-4AEE-8405-A1356EEB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48F21-AD61-48B6-A481-F8CB70F1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67C-C275-4F2C-B8C5-66931E2D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53147-5FA3-4D3F-A7F9-788A765E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59DEB-434D-472D-88F8-CA24F8FD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77B4D-08BF-4572-ABE2-60AFE379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37A20-A6D1-4347-8ABF-2DFF4CEB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42B05-7F83-494E-B756-032C0A01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3E207-F44F-408F-8631-B447B5A4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1DA07-D898-44F8-B8E4-8269589D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9BE41-04F9-45E3-9E38-FDDBA644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93657-0111-4949-ADFC-A624B7F5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83A58-3283-4826-AC06-D0F2148F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F42-5155-4D96-8982-8FFB2211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3CC50-D36B-4C53-AD47-874A403D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13348-55D9-45A1-AC5F-46479AC3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0088F-7A65-4EDB-8CED-1526A263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095D5-2F9A-41E5-B26B-B2460274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EA8EE-1350-4073-BC96-1759C876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64985-4C16-47E5-AAA3-381CE5AA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DF424-2B3D-450F-A11F-2A39E2A3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4BAAE-B719-4C96-81F1-EA55E1C8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90AD3-ED0B-4892-A396-FFD56967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FDB0F-F7C7-4A8D-9B85-4C8447F1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79D-6D1D-40FE-87FA-15072A18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EAEC7-A4A2-407A-9940-9E4183B9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4D941-5094-4404-A3CA-71473AE6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53A89-1F49-4768-AB4B-A5F47C95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6DC25-7215-403A-AF50-6561B3F2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227E3-33AA-412F-AF74-6EBFFBE9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F80C4-7898-43F0-9F73-FDBF0CE1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A903E-1DDA-44D1-8252-BE05E3FB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1A42E-0B54-4598-BEA0-BCFDE09F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6F1C4-454D-4082-BAD4-814CAEE6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095C0-CB8B-4C99-AF2D-277C6BFA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380-23FD-415D-B58E-0C7BD5C6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35F23-48BA-40AB-AAA8-E5240BDE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90AD8-7F50-4AEB-A321-2AE2722B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FF8D6-A58C-4D11-866C-75A21383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46E4A-A21B-4F30-A17B-AC4A9E9A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E44C0-015B-4113-BAED-3AF61642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3706C-5CAE-4FF4-A98F-B34B3D87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6CF44-2A26-4AEF-8F85-D46E3C4A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D96FF-B610-40D9-94AD-9A2737A8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BB44A-986D-4040-9F8D-19329FF3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2FF2B-FE78-4AEB-A2EA-C9FF90F6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EAC1-CDE3-4F29-8CAE-230FF314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BE3D0-7086-4C8A-844D-3D3B844F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9C226-865A-4438-BDF2-94DFC2B9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9A926-2C40-45DE-9370-E054DDE7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29CA4-7496-4EEF-BF6A-2046F1B4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6F393-3842-4C18-BD64-BCCCFEF6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0F72A-A432-4D8A-91A3-B55EC933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9B15E-7156-4E12-A5D7-C1B96F43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B00BA-27AC-431F-8A55-2C0ECE7F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150F8-784D-45D2-BCD2-39DF19D0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35B9B-013B-473F-B022-E6845B4F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66D5-17D6-44F2-960D-DE80B8FD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6FA60-9EE7-4692-A072-58065914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1C611-0005-4A83-BEB5-F6B885A7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CA57A-7F8D-402D-A132-0B9222C5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3308E-B453-497D-8FA7-1A27C565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204A5-3220-4531-9F11-5184A401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EF81A-31C8-4F51-82BA-44B55FF0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6C3C2-C9B6-46A3-8F60-71B2D442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67550-BE66-4A6D-8939-D5C71ABD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45E0C-D167-4454-9F13-00EF3A06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593D1-D23D-48A2-83FC-DFE46E0B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9B6-EA6A-4A55-A368-7BBB1F3A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699DC-F56C-4EFE-979E-5EA6D29B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06F72-9C58-4132-A3E2-6CBC02E5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089AF-99D3-452D-AE2E-C7E31DB4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41B74-F717-44D5-803C-4BD6ECD2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B7C84-807E-496C-8715-FC52AD6C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0CC3F-C59D-424D-B8BE-E688CF4D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0EAAE-5536-4087-B211-1E09CCB6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78CF-CC67-4AD2-B469-AA0BAF57E7A5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" name="Object 2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179280" y="115920"/>
          <a:ext cx="952560" cy="11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9525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7325-41CF-42BE-A832-01F19AD02B27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2FF4-ADBE-477D-808E-7F7CF45350B1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336B-CAE8-4AA4-B08A-FE463FDA86CC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10BB-6FFB-49C4-AA4A-899B27FAF64D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D92C-ECDD-40BF-949F-85AC5AA61814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957C-3713-4ED2-82D0-8A04E732E348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5A1B-4D57-4244-8764-930F735CD412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dvanced Topics in Business Process Manage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Barbara Re, Ph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332000" y="436572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cu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3" name="Segnaposto contenuto 4" descr=""/>
          <p:cNvPicPr/>
          <p:nvPr/>
        </p:nvPicPr>
        <p:blipFill>
          <a:blip r:embed="rId1"/>
          <a:stretch/>
        </p:blipFill>
        <p:spPr>
          <a:xfrm>
            <a:off x="1481040" y="2060640"/>
            <a:ext cx="5973840" cy="3736800"/>
          </a:xfrm>
          <a:prstGeom prst="rect">
            <a:avLst/>
          </a:prstGeom>
          <a:ln w="0">
            <a:noFill/>
          </a:ln>
        </p:spPr>
      </p:pic>
      <p:sp>
        <p:nvSpPr>
          <p:cNvPr id="394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ED57-16D7-48D5-865B-3B0639961D4C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ttangolo 7"/>
          <p:cNvSpPr/>
          <p:nvPr/>
        </p:nvSpPr>
        <p:spPr>
          <a:xfrm>
            <a:off x="684360" y="1413000"/>
            <a:ext cx="82803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fferent educational background and interests are in pl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Rettangolo 11"/>
          <p:cNvSpPr/>
          <p:nvPr/>
        </p:nvSpPr>
        <p:spPr>
          <a:xfrm>
            <a:off x="6084720" y="1989000"/>
            <a:ext cx="288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nsider information technology as a subordinate aspect in business process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Rettangolo 12"/>
          <p:cNvSpPr/>
          <p:nvPr/>
        </p:nvSpPr>
        <p:spPr>
          <a:xfrm>
            <a:off x="324000" y="5445000"/>
            <a:ext cx="3527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nsider business goal and organizational regulations as terms that do not deserve much thought, but require the appropriate level o abst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yllabu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219320"/>
            <a:ext cx="822960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Introduction to Business Process Managemen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Evolution of Enterprise Systems Architecture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Business Process and Business Process Model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Business Process Life-Cycle.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Flexibility Issues in Process-Aware Information System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Perspectives on a Process-Aware Information System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Pre-speciﬁed and Repetitive Processes and Knowledge-Intensive Processe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Variability, Looseness, Adaptation, Evolution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Process Modelling &amp; Flexibility-by-Design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Business Process Modelling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Conceptual models and abstraction mechanisms. 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Petri nets. Workflow nets and workflow modules. Workflow patterns. Event-driven Process Chains (EPC). </a:t>
            </a:r>
            <a:r>
              <a:rPr b="1" lang="en-GB" sz="1400" spc="-1" strike="noStrike">
                <a:solidFill>
                  <a:srgbClr val="464653"/>
                </a:solidFill>
                <a:latin typeface="Gill Sans MT"/>
              </a:rPr>
              <a:t>Business Process Modelling Notation 2.0 (BPMN)</a:t>
            </a: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. Yet Another Workflow Language (YAWL). Related Extension to support flexibility.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Analysing the Behaviour of Process Model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Verifying Pre-speciﬁed Process Model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Ensuring Correctness of Conﬁgured Process Variant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Unfolding technique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40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0380-C6D9-4BD5-B621-A622FCB7D840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Reference Textbook (I)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219320"/>
            <a:ext cx="51944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usiness Process Management. Concepts, Languages, Architectures.  Weske, Mathias 2007, XIV, 368 p. 265 illus.. ISBN: 9780321155559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1 – Introduc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2 - Evolution of Enterprise Systems Architectur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4 – Process Orchestration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4.1 Control Flow Pattern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4.2 Petri Net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4.7 Business Process Modeling Notation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6 – Properties of Business Process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6.1 Data Dependencie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6.2 Structural Soundnes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6.3 Soundness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00B3-8D5B-4055-930D-D28731C9168C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Immagine 1" descr="978-3-642-28615-5.png"/>
          <p:cNvPicPr/>
          <p:nvPr/>
        </p:nvPicPr>
        <p:blipFill>
          <a:blip r:embed="rId1"/>
          <a:stretch/>
        </p:blipFill>
        <p:spPr>
          <a:xfrm>
            <a:off x="5867280" y="1700280"/>
            <a:ext cx="2521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Reference Textbook (II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219320"/>
            <a:ext cx="54831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ichert, Manfred, and Barbara Weber. Enabling flexibility in process-aware information systems: challenges, methods, technologies. Springer, 2012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apter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1  Introduc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hapter 2  Process-Aware Information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 - Flexibility Issues in Process-Aware Information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hapter 4  Process Modeling and Flexibility-by-Design (already covered by Weske book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hapter 5 - Process Configuration Suppor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5.3 Structural Configuration Approaches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apter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10 - Business Process Complianc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C7F0-C6F6-4282-9083-DDA17984496B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Immagine 4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23367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urther materia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siness Process Model And Notation (BPMN) Version 2.0 - http://www.omg.org/spec/BPMN/2.0/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PMN 2.0 by example -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http://www.omg.org/spec/BPMN/20100601/10-06-02.pdf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ther lecture notes and research papers, selected during the course (some of them are already on the web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CAFF-56BD-4BA1-9377-2FC3A36C5C8B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eaching and Learning Method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42 h - lecture and exercise session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Wednesday:  9:00 am </a:t>
            </a:r>
            <a:r>
              <a:rPr b="0" lang="it-IT" sz="23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11:00 a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Thursday:  9:00 am </a:t>
            </a:r>
            <a:r>
              <a:rPr b="0" lang="it-IT" sz="23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11:00 a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 study: reading and explor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50BE-9D99-427E-A2E7-3F0E645C864B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ome more info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relevant information is available </a:t>
            </a: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on-li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ttp://barbarare.wordpress.com/teaching/advanced-topic-in-business-process-management/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1E84-5483-4DFD-A0E1-1BA201AD2FDD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464653"/>
                </a:solidFill>
                <a:latin typeface="Bookman Old Style"/>
              </a:rPr>
              <a:t>Assess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Writing Examinatio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on the topics of the syllab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pen or multiple-choice questions + Exercis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2 h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ill Sans MT"/>
              </a:rPr>
              <a:t>Date</a:t>
            </a:r>
            <a:r>
              <a:rPr b="0" lang="it-IT" sz="2800" spc="-1" strike="noStrike">
                <a:solidFill>
                  <a:srgbClr val="000000"/>
                </a:solidFill>
                <a:latin typeface="Gill Sans MT"/>
              </a:rPr>
              <a:t> (https://didattica.unicam.it/Home.d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01/02/2016 14:00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01/10/2015 14:00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15/09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01/07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16/06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31/03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23/02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03/02/2015 14:00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C984-8592-465C-866B-0F95D4999E71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8EE5-AF57-4DCF-A853-F7E1095DFA0B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22" name="Object 2"/>
          <p:cNvGraphicFramePr/>
          <p:nvPr/>
        </p:nvGraphicFramePr>
        <p:xfrm>
          <a:off x="1371600" y="1752480"/>
          <a:ext cx="1857240" cy="39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185724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Text Box 3"/>
          <p:cNvSpPr/>
          <p:nvPr/>
        </p:nvSpPr>
        <p:spPr>
          <a:xfrm>
            <a:off x="3731760" y="320040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ectur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9" name="Segnaposto contenuto 4" descr="me1.jpg"/>
          <p:cNvPicPr/>
          <p:nvPr/>
        </p:nvPicPr>
        <p:blipFill>
          <a:blip r:embed="rId1"/>
          <a:srcRect l="0" t="4193" r="0" b="4193"/>
          <a:stretch/>
        </p:blipFill>
        <p:spPr>
          <a:xfrm>
            <a:off x="457200" y="1219320"/>
            <a:ext cx="4041720" cy="49370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632480" y="1216080"/>
            <a:ext cx="43322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Barbara Re, Ph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000000"/>
                </a:solidFill>
                <a:uFillTx/>
                <a:latin typeface="Gill Sans MT"/>
              </a:rPr>
              <a:t>Computer Science Divis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CS 11 (Battibocca Palac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barbara.re@unicam.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//barbarare.wordpress.com/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88FA-A1C4-4A37-928D-BC028D2F10F1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Who I am?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0F60-9A80-426E-B066-2837362A1C0D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achelor and Master Degree in Computer Sci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hd in Information Science and Complex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Some Expirien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 was visiting Phd at the Information School of University of Washington working with Dr. Hans J (Jochen) Scho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 was visiting Phd at the School of Business of University of Applied Sciences Northwestern Swizerland FHNW working with Prof. Knut Hinkelman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Current Pos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ssistant Professor at University of Camerin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My Interes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6C29-E1B0-4CAB-96A2-FE5358C9B028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siness Process Management: from modeling to analy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thodologies and technologies for Smart Government development and related services delive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rojects I’m involved i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arn PAd (Model-Based Social Learning for Public Administrations) EU FP7 ICT projec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CP (Open City Platform) MIUR projec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ss (</a:t>
            </a:r>
            <a:r>
              <a:rPr b="0" lang="it-IT" sz="2800" spc="-1" strike="noStrike">
                <a:solidFill>
                  <a:srgbClr val="000000"/>
                </a:solidFill>
                <a:latin typeface="Gill Sans MT"/>
              </a:rPr>
              <a:t>Private Assisted House) Regione Marche projec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A200-7FCC-49E6-A478-6E459B6A0287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0920" y="297180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What about you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8AC2-9588-406D-890F-5AF2263703B8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dvanced Topics in Business Process Manage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Barbara Re, Ph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332000" y="436572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ourse Objectiv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course focuses on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nterprise information systems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at are driven by models, i.e., instead of constructing code these systems are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assembled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configured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or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generated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using a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model-driven approa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We will focus on the so-called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 "process-aware" information systems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o better understand the impact of the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modelling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of business processes both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in static and dynamic environ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course introduces all relevant state-of-the-art concepts, methods and technologies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nabling process flexibility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, e.g., process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configuration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xception handling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ad-hoc process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hanges, process schema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C51E-30E1-47B5-A1BF-A699242A2F6A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Learning Outco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Understand the importance of Business Process and Business Process Manage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Gain some familiarity with business process terminolo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Know most common techniques of Business Process modelling and be familiar with Business Process Management tools with a particular emphasis on Business Process flexibil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pply Business Process Management into practical case stud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97A5-7968-4DE6-82C2-60998282D3C6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7:18:36Z</dcterms:created>
  <dc:creator>Barbara Re</dc:creator>
  <dc:description/>
  <dc:language>en-US</dc:language>
  <cp:lastModifiedBy>Barbara Re</cp:lastModifiedBy>
  <cp:lastPrinted>2015-01-21T23:36:15Z</cp:lastPrinted>
  <dcterms:modified xsi:type="dcterms:W3CDTF">2015-01-21T23:36:35Z</dcterms:modified>
  <cp:revision>149</cp:revision>
  <dc:subject>Lezioni Laboratorio Informatico per i database turistici</dc:subject>
  <dc:title>Presentazione corso</dc:title>
</cp:coreProperties>
</file>