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D0410F-5953-4054-B994-B147A046876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77414A-0871-4C48-BDF9-F099FC84BB0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E76E25-1906-49DF-BE31-A11902EB6F4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848A1E-7037-40D2-A67A-B73BC447F3D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8F5F6F-0BEB-4E35-B0EC-0AADAAB87581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B59810-0A92-4C7D-8C05-FAA9C161973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7E771E-E03C-4E27-94AA-425BD8541E9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6DA184-5560-47C1-B815-D92260B3B4A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EE8D0E-D656-477B-8E16-B17C854C561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97B2-1F23-4041-8CBD-89C96113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DAE-EEE3-486B-84D3-F0EC3D8E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449-CC62-487D-A480-F800EA9C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ED2-A8CD-4D58-AB5D-1A369AE5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89A3-4F4C-4EAE-BDAF-7E616AB3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BCAA-3355-4D46-A0CE-C8A59EE1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F93F-FC55-4A53-BDAB-94BA8CB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AEEE-7349-4DCE-9D7F-991ADF51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6298-5CDC-475D-8D30-F67198D9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60E7-A935-401D-992B-90D88E0E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8EE4-D3D5-466B-B4C9-56DDC40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11F-3D5E-4169-8B20-A4D900D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9910-5E91-490D-B38F-2FC94872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0DEF-54A1-4348-AD2D-4943AF19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7DC9-E918-45B6-ACCC-08892B66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EFE-4361-4090-8F12-F0487C78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A928-3E5A-4F6B-9E63-ADDC8FBB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AA89-9895-4EAD-A2DD-CE6A1874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0052-E2CD-4880-8049-1C2FBB73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01D3-02B6-402D-93B2-2EBDF19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2E00-D3F9-40FE-9354-F788115D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20C6-8854-42F2-9D75-BD87ADC1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2DF-0EB4-4970-93F8-9D56700A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8C56-36E5-4A22-BD4E-14418543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544D-D5B9-4116-981B-9A45D021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D487-3821-4103-AE92-53BAA11A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AD86-D06D-4889-8AC1-513A4AD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C192-0DAE-4F44-AAA9-A45C2D8A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16E41-F04C-4E09-99F7-ECD9F2A8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09E40-61E0-44C3-BA19-BE9B352D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4DB3-4CA6-40C7-AFB0-B9EE76B2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5976-E706-418D-9775-592452C1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8D3A-120C-40D6-B648-7CC29A63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E31-1F88-49B2-B09F-A4C847F5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0921-1726-402B-8B54-57A2CD22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D504F-0719-4656-AE70-09D4E0A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48EE-159D-40CD-8815-96CCF659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646A-F67F-46E0-97C7-4AEE760D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1E1A-9098-4E48-AF44-BD5253ED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CBB1D-D298-4F09-8AEB-DB351DAC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AC74-1334-4176-9E61-9274247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62E9-8B10-4C2D-BB4B-3BB10917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CFBF-FDC4-456C-A3C3-BA9980C6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DA0A-B5B0-46E6-A43E-51AF6CDA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93A-0F52-430B-A9C3-8AAF7C3A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97F5A-2E99-4F19-9517-24E1F12F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2ED7-1F2C-461B-BC0A-74F7EAD5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C63A-CAD0-4E89-BBC5-7DF6B285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F03A-93BC-4A48-A0B5-40F3548D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286E6-BA02-4A5A-8A14-0C5E9F40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87E48-A7A4-4EB4-87B5-B9488B60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76FA-ABEA-4F4C-872E-5C82A947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95FDD-626D-40D5-8719-BBA53D7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24B59-B5E2-4780-A242-2F0BCF8B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0B92-F100-4BF0-BC64-5DE67E0E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43F-D36E-4D34-A9AF-BA33EF0A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1651-27F1-495B-90AB-BFA6890D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13E8-4C5C-4A0E-BEBE-62269DD8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0FF8-F0AD-44EC-9CFC-50ED7D24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580B6-FA86-49EC-A337-4E666F20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20DA-E977-457C-8A8A-D63298E6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41D5-6DCB-4BC0-875B-B78031FF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E1C18-5405-4817-82AD-46C12987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F82F4-E0ED-4BE1-84B4-17156B5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E3D4C-57D0-431F-B0DD-24578A80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730A5-A402-4FD1-A538-2E033FAB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24D-5303-4E67-B2E0-6D2CF9C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65873-445E-46B3-8C4A-2DBCDB7D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54EB1-FAA7-46A1-A229-7AC93A2D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076D6-775E-4B47-8F2E-36941CA7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9E222-7B09-4343-A06D-8BF55DD3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97284-6E91-4F5C-A852-A76FAEEE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A63E4-83B9-4E92-B107-4D26ED90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DABA1-7536-45EF-9D76-C4B0F027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49FEF-BDC3-4E92-9DDF-B36A06B9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CA896-B6F5-40C7-BC71-0142FE49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C2B5F-8444-495D-8D4E-5E7F500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896-51CB-4335-9B55-2412011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4FE2-DE0E-4807-B35D-E7322509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8AC8C-582D-4390-A16F-84129808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08118-346A-4A55-8D7B-E04C901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DF5BD-B935-4E93-BF89-7B5E7D850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4CDA5-0847-4F7E-8619-6BCF089E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1A592-B0A2-4C92-914F-C5D68F10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7AAD3-84F1-4F0E-9A29-BD05CB0D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2CDEA-49CE-40B4-935C-BC859DBE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FD61C-14EF-425B-A81B-DA4F8D21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25189-2021-43CC-82E6-E9F465A5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184-8DBC-4021-9B79-A2067BB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5FF14-80A1-46F3-B5F2-7BADC878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417E2-EB15-4691-A0E5-983DC7D9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100A-D17F-4B8A-A2A7-47BEFCBA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AECA0-B226-4BD7-BAAC-972A2152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C197E-B06B-4933-A34D-9ABC96A9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184E7-9545-4E51-BD54-92932166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FA1CE-646A-44CE-872A-8F9659DC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A1CA-A28C-4666-879D-F22A5E885CFD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EAFA-2F14-4269-82D9-0627DC751726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560D-1597-4E74-B5D9-59201351ABBC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1F4-5B6B-4FDE-964D-75D0FCF50F51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3434-2C78-430C-BCD5-EB0966D0737D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A610-8C72-44A5-82CE-2E6FAEEDC594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95D8-5AA4-4734-B70C-4DFAFEC14B30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2664-D3EF-4828-B85B-F54D1A505E04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c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3" name="Segnaposto contenuto 4" descr=""/>
          <p:cNvPicPr/>
          <p:nvPr/>
        </p:nvPicPr>
        <p:blipFill>
          <a:blip r:embed="rId1"/>
          <a:stretch/>
        </p:blipFill>
        <p:spPr>
          <a:xfrm>
            <a:off x="1481040" y="2060640"/>
            <a:ext cx="5973840" cy="3736800"/>
          </a:xfrm>
          <a:prstGeom prst="rect">
            <a:avLst/>
          </a:prstGeom>
          <a:ln w="0">
            <a:noFill/>
          </a:ln>
        </p:spPr>
      </p:pic>
      <p:sp>
        <p:nvSpPr>
          <p:cNvPr id="39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92E-8F77-4BE3-97D5-E6FA104EDD1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ttangolo 7"/>
          <p:cNvSpPr/>
          <p:nvPr/>
        </p:nvSpPr>
        <p:spPr>
          <a:xfrm>
            <a:off x="684360" y="1413000"/>
            <a:ext cx="82803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ferent educational background and interests are in 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Rettangolo 11"/>
          <p:cNvSpPr/>
          <p:nvPr/>
        </p:nvSpPr>
        <p:spPr>
          <a:xfrm>
            <a:off x="6084720" y="1989000"/>
            <a:ext cx="288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information technology as a subordinate aspect in business process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ttangolo 12"/>
          <p:cNvSpPr/>
          <p:nvPr/>
        </p:nvSpPr>
        <p:spPr>
          <a:xfrm>
            <a:off x="324000" y="5445000"/>
            <a:ext cx="352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Consider business goal and organizational regulations as terms that do not deserve much thought, but require the appropriate level o abst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yllabu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219320"/>
            <a:ext cx="8229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Introduction to Business Process Management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volution of Enterprise Systems Architectur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and Business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Business Process Life-Cycle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lexibility Issues in Process-Aware Information System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rspectives on a Process-Aware Information System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e-speciﬁed and Repetitive Processes and Knowledge-Intensive Process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ariability, Looseness, Adaptation, Evolutio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rocess Modelling &amp; Flexibility-by-Design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Business Process Modell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Conceptual models and abstraction mechanisms.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Petri nets. Workflow nets and workflow modules. Workflow patterns. Event-driven Process Chains (EPC). </a:t>
            </a:r>
            <a:r>
              <a:rPr b="1" lang="en-GB" sz="1400" spc="-1" strike="noStrike">
                <a:solidFill>
                  <a:srgbClr val="464653"/>
                </a:solidFill>
                <a:latin typeface="Gill Sans MT"/>
              </a:rPr>
              <a:t>Business Process Modelling Notation 2.0 (BPMN)</a:t>
            </a: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. Yet Another Workflow Language (YAWL). Related Extension to support flexibility.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Analysing the Behaviour of Process Model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Verifying Pre-speciﬁed Process Model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Ensuring Correctness of Conﬁgured Process Variant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Unfolding techniques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0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3721-545A-4A95-AD74-E5F5728EC3B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)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219320"/>
            <a:ext cx="51944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 Management. Concepts, Languages, Architectures.  Weske, Mathias 2007, XIV, 368 p. 265 illus.. ISBN: 9780321155559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1 – Introdu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2 - Evolution of Enterprise Systems Architectur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4 – Process Orchestration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1 Control Flow Pattern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2 Petri Ne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4.7 Business Process Modeling Notation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6 – Properties of Business Process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1 Data Dependencie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2 Structural Soundnes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Gill Sans MT"/>
              </a:rPr>
              <a:t>6.3 Soundnes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25600" indent="-2617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FD72-7B23-4ABD-92BC-ABB73D91638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Immagine 1" descr="978-3-642-28615-5.png"/>
          <p:cNvPicPr/>
          <p:nvPr/>
        </p:nvPicPr>
        <p:blipFill>
          <a:blip r:embed="rId1"/>
          <a:stretch/>
        </p:blipFill>
        <p:spPr>
          <a:xfrm>
            <a:off x="5867280" y="1700280"/>
            <a:ext cx="2521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 Textbook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219320"/>
            <a:ext cx="548316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Reichert, Manfred, and Barbara Weber. Enabling flexibility in process-aware information systems: challenges, methods, technologies. Springer, 2012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  Introduc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2  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 - Flexibility Issues in Process-Aware Information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4  Process Modeling and Flexibility-by-Design (already covered by Weske book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hapter 5 - Process Configuration Suppor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14440" indent="-2563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64653"/>
                </a:solidFill>
                <a:latin typeface="Gill Sans MT"/>
              </a:rPr>
              <a:t>5.3 Structural Configuration Approaches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hapter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0 - Business Process Complia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DDD1-E12E-410B-A28E-5CFF3032DD1E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Immagine 4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336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Further materi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odel And Notation (BPMN) Version 2.0 - http://www.omg.org/spec/BPMN/2.0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PMN 2.0 by example -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omg.org/spec/BPMN/20100601/10-06-02.pd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ther lecture notes and research papers, selected during the course (some of them are already on the web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027C-550E-43E1-8E47-56AFC146F15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aching and Learning Metho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42 h - lecture and exercise sess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Wedne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Thursday:  9:00 am </a:t>
            </a:r>
            <a:r>
              <a:rPr b="0" lang="it-IT" sz="23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Gill Sans MT"/>
              </a:rPr>
              <a:t> 11:00 a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vate study: reading and explorin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2B9E-B2F0-4077-B5C6-333722916E4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ome more inf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relevant information is available 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on-li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ttp://barbarare.wordpress.com/teaching/advanced-topic-in-business-process-management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373A-6566-45F7-88C7-D736D4E7E17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464653"/>
                </a:solidFill>
                <a:latin typeface="Bookman Old Style"/>
              </a:rPr>
              <a:t>Assess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Writing Examin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on the topics of the syllab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Open or multiple-choice questions + Exercis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2 h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ill Sans MT"/>
              </a:rPr>
              <a:t>Date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 (https://didattica.unicam.it/Home.d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2/2016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10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5/09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1/07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16/06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31/03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23/02/2015 14:00 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64653"/>
                </a:solidFill>
                <a:latin typeface="Gill Sans MT"/>
              </a:rPr>
              <a:t>03/02/2015 14:00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B08A-EF07-4387-89B1-1FE1C429E5C0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E785-E29E-4EE5-A429-4F9A04B837D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ectur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Segnaposto contenuto 4" descr="me1.jpg"/>
          <p:cNvPicPr/>
          <p:nvPr/>
        </p:nvPicPr>
        <p:blipFill>
          <a:blip r:embed="rId1"/>
          <a:srcRect l="0" t="4193" r="0" b="4193"/>
          <a:stretch/>
        </p:blipFill>
        <p:spPr>
          <a:xfrm>
            <a:off x="457200" y="1219320"/>
            <a:ext cx="4041720" cy="4937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632480" y="1216080"/>
            <a:ext cx="43322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arbara Re, Ph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000000"/>
                </a:solidFill>
                <a:uFillTx/>
                <a:latin typeface="Gill Sans MT"/>
              </a:rPr>
              <a:t>Computer Science Divis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CS 11 (Battibocca Pala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ill Sans MT"/>
              </a:rPr>
              <a:t>barbara.re@unicam.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//barbarare.wordpress.com/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F2B-4AA6-415B-846D-FAA31E52AF2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Who I am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EB6F-E957-4E3C-A33F-369EE35BF26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Bachelor and Master Degree in Computer Sci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hd in Information Science and Complex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Some Expiri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Information School of University of Washington working with Dr. Hans J (Jochen) Scho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I was visiting Phd at the School of Business of University of Applied Sciences Northwestern Swizerland FHNW working with Prof. Knut Hinkelman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urrent Po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ssistant Professor at University of Camerin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y Interes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4883-2286-4B68-9B1C-F7188BE1109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siness Process Management: from modeling to analy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thodologies and technologies for Smart Government development and related services deliv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Projects I’m involved i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rn PAd (Model-Based Social Learning for Public Administrations) EU FP7 ICT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CP (Open City Platform) MIUR projec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ss (</a:t>
            </a:r>
            <a:r>
              <a:rPr b="0" lang="it-IT" sz="2800" spc="-1" strike="noStrike">
                <a:solidFill>
                  <a:srgbClr val="000000"/>
                </a:solidFill>
                <a:latin typeface="Gill Sans MT"/>
              </a:rPr>
              <a:t>Private Assisted House) Regione Marche pro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5901-372C-444C-AA7C-2877CD367A0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0920" y="29718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What about you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77DC-DD12-48D5-A1CF-508A4E79A6E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dvanced Topics in Business Process Manage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Course Obje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focuses on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terprise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at are driven by models, i.e., instead of constructing code these systems ar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ssembl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generated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using 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-driven appro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We will focus on the so-called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 "process-aware" information system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o better understand the impact of the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model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business processes both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 static and dynamic environ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The course introduces all relevant state-of-the-art concepts, methods and technologie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nabling process flexibility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e.g., process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configuration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ad-hoc process 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changes, process schema </a:t>
            </a: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35D7-F6EB-457A-91B2-E63D4F41FEF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Learning Outco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Understand the importance of Business Process and Business Process Manag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Gain some familiarity with business process termin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Know most common techniques of Business Process modelling and be familiar with Business Process Management tools with a particular emphasis on Business Process flexi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Apply Business Process Management into practical case stud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FD8F-9B1F-41D8-81F3-EE9DBDFC445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7:18:36Z</dcterms:created>
  <dc:creator>Barbara Re</dc:creator>
  <dc:description/>
  <dc:language>en-US</dc:language>
  <cp:lastModifiedBy>Barbara Re</cp:lastModifiedBy>
  <cp:lastPrinted>2015-01-21T23:36:15Z</cp:lastPrinted>
  <dcterms:modified xsi:type="dcterms:W3CDTF">2015-01-21T23:36:35Z</dcterms:modified>
  <cp:revision>149</cp:revision>
  <dc:subject>Lezioni Laboratorio Informatico per i database turistici</dc:subject>
  <dc:title>Presentazione corso</dc:title>
</cp:coreProperties>
</file>