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B652EF-76A3-4D67-99B7-466F794ABD9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30B079-B236-4899-B199-31B0377C1D3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D34CD6-5B61-42E3-B25E-5F7E2774FD1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22B-99B6-47DB-967F-EDCEE6E0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91C-5CD1-4FEF-9EAA-FCB65CA4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F99F-5D9B-4C5A-9E7E-50C54C84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43E-DCB1-4823-8E76-F2BA027D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C202-D037-4F31-B8DF-4BB38D08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0AAF-F736-433A-9E54-DAD5BC14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862E-ACA2-49C0-ACE3-727E8C17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5702-1D96-4625-A9E5-2A815909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070C-1B34-43AE-A28F-DCAE5C29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20D2-ED01-415F-82C3-12D2C7C0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5394-0067-4469-BFB3-8B3906A3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EB1-908A-429E-8A89-8C36DECC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F813-65B1-46F9-A9F8-68927A3F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63F0-4D71-41F5-80EC-416B29A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6A9D-F129-403F-A1EC-F42CF8FE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7D46-7FAD-45A2-A917-E90CFF23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38FE-A3C8-4C93-8779-6BAD017B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F786-853B-4DE9-B9B1-EC810FEA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65F5-77DB-49F8-A68C-357DBD48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6F5D-70C4-4FEF-A1C3-80354044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CD427-3B4A-4C3C-8871-7BDBB9CA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C359F-6F00-469B-B724-1BC81E1C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57C-D9FD-4EB8-86F4-1D51B1BE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DA5E-4993-4AB0-BAA7-A90180EA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BA7E3-24D7-4C87-86CD-1CBA9F31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7C230-7025-4B03-874E-A901C4F4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05BC2-65BA-4C01-B48E-A73641C9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AE70-1CC7-4AD9-AEBC-092B109E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B4A3-554D-4F6D-9F5B-E5C67AAD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F685-1943-4B7E-AC26-3FD57E58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94C8-1BD5-46C4-AB1C-1FC4ADE8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B63BA-805D-4AE1-B03D-5971FB38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95048-B6D7-49F3-95C1-D5D87606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520-0620-48DA-8050-3F89618D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6A093-C452-4F5F-93DE-D49831B6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78D4-F47C-4D0E-8AAE-F9AC3AE5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1F3C1-86D5-4B9E-83D7-2B900E63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CECC5-8381-46D7-99CC-27264A69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CB9A9-5FB8-4BE7-8D9A-249B5A0F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FA62-B06C-4A9E-AB3A-F55C28C6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9FEE-7B68-470C-8093-21A0328D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969E7-F3D7-4B6B-B9DD-375B4E56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FE85E-62FF-4826-9B0C-6B464985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89BF8-2050-4B9B-B661-EC9CACF2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6D6-7989-4589-A66B-E00F0EFC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00772-B271-49C1-8493-CBBA1015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8CA9-34DB-4651-A5B2-0FA44470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12894-E08B-499C-84C5-6925BA1E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7ADF3-FF45-4FAA-A7F6-01A8C680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28D5-CA1D-4216-B3E3-02C1D91A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C10A9-8976-43FF-A8A9-3FBE88F4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8A52-5F57-472F-B5D8-FF77DE0C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13460-8095-4BD0-80DB-C5CDDABD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6056A-C9BE-4FD5-957F-6ACAA0CA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887E-0590-4B97-B34C-1EB605A1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726-46DC-4691-ABF0-2D723EB4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52715-8E7B-4DEF-9058-47ACCA84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55022-3D6C-4B95-88F4-FE9F8A78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DF2C-6D93-4586-A645-3DAC2B65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CE4DE-A759-4ACD-A166-96DFAC56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8109E-715D-44C9-B0DC-E654FA01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053E2-00F2-496C-A8B2-291268E3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CA2AC-166C-408F-B6F4-DB9A68A0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F1C28-E5CA-4DE7-9146-EE71E62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54752-C3B6-405C-89A5-C1596CF5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6FF1F-5889-40E7-9F41-9231EE66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386-019E-42F0-AD86-A8A82CD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68FDB-1A68-4E28-914D-B94673FB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24746-78D7-4785-864B-9BAFA408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D20D8-83D7-423A-98F4-D469FD3F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58D39-6494-4C5E-BD77-348D43F9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AEF94-E486-4C55-A556-B18E84E7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A5AAC-5306-4205-8E86-0A5F7EDC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A95AB-1760-4A1D-ADAC-CA49E94F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890D5-98C4-4DFB-9068-5EBADDE1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9A953-3FB6-4B50-9DD6-F829EC1E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925F3-5815-49A8-882E-ECF2F598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81D-3606-4E5F-A0EA-C7CD770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774DD-3428-4E38-B191-5D158714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DDC9C-FEE6-4EDB-A049-3E7C8B46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88085-9199-40BA-81DE-812573C7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62A19-328F-47F3-A135-C82EE77B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B903-5EF1-4234-91F5-9ED6DD55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A24E3-3E3E-4BA2-814E-3EB8E954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7BBC6-768C-43B2-8C42-FF8B2E6E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3CB02-DA86-49A3-ACA5-DDC40ECA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AAAF2-3663-4C82-BAF0-BA6BFC51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A399-DB5F-4346-9AC7-19E4374C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AAD-FDE9-4E4E-8471-1875C0B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583FD-0460-40C4-B16E-8044498D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8A9CE-41D6-474C-BE4C-2A153357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30845-423D-4940-8C75-4B77583C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A1853-ADE8-4F63-8628-E484A616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7DCB2-A47C-4D37-8268-E8955064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9CDE-4618-41BC-BCA9-C8124030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BE930-AE06-48AD-B6AB-17744EBE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39F1-4A60-442A-A364-317D16C8CF0A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929F-4CB3-4FF9-AED8-CE1DD4E97EF7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2EDA-7B16-4598-A4E2-8493A2C403C6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819C-E380-4A6A-BDA8-32197B39A2E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CA26-0283-4DDC-8283-E77A616C931C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E499-1815-44BA-ADFC-F95632B799E4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B658-E89A-4AFF-934C-BB766E17C1EB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D5EA-036C-4D8C-A17F-89B47D28E70A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cess Orchest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Advanced Business Process Managemen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Bookman Old Style"/>
              </a:rPr>
              <a:t>Barbara Re, Phd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332000" y="43657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bpm-book-weske_080.png"/>
          <p:cNvPicPr/>
          <p:nvPr/>
        </p:nvPicPr>
        <p:blipFill>
          <a:blip r:embed="rId1"/>
          <a:srcRect l="0" t="0" r="0" b="8236"/>
          <a:stretch/>
        </p:blipFill>
        <p:spPr>
          <a:xfrm>
            <a:off x="1042920" y="1197000"/>
            <a:ext cx="7070760" cy="50338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r 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789D-5C69-45F5-96C3-FCD405002ECF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" descr="bpm-book-weske_081.png"/>
          <p:cNvPicPr/>
          <p:nvPr/>
        </p:nvPicPr>
        <p:blipFill>
          <a:blip r:embed="rId1"/>
          <a:srcRect l="0" t="0" r="0" b="6149"/>
          <a:stretch/>
        </p:blipFill>
        <p:spPr>
          <a:xfrm>
            <a:off x="1763640" y="1197000"/>
            <a:ext cx="5602320" cy="51483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r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0778-F124-492B-8B23-CCA96EB0A091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bpm-book-weske_082.png"/>
          <p:cNvPicPr/>
          <p:nvPr/>
        </p:nvPicPr>
        <p:blipFill>
          <a:blip r:embed="rId1"/>
          <a:srcRect l="0" t="0" r="0" b="10024"/>
          <a:stretch/>
        </p:blipFill>
        <p:spPr>
          <a:xfrm>
            <a:off x="372960" y="1628640"/>
            <a:ext cx="8447040" cy="402768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ulti-merge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ECC-E8C8-413B-BD78-709F9521DBD1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CasellaDiTesto 1"/>
          <p:cNvSpPr/>
          <p:nvPr/>
        </p:nvSpPr>
        <p:spPr>
          <a:xfrm>
            <a:off x="655200" y="5805360"/>
            <a:ext cx="75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he activity following the merge is started for every activation of every incoming bran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1" descr="bpm-book-weske_083.png"/>
          <p:cNvPicPr/>
          <p:nvPr/>
        </p:nvPicPr>
        <p:blipFill>
          <a:blip r:embed="rId1"/>
          <a:stretch/>
        </p:blipFill>
        <p:spPr>
          <a:xfrm>
            <a:off x="755640" y="1268280"/>
            <a:ext cx="7772400" cy="2934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ulti-merge 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F99C-75F3-4CD2-98B7-BEF9C455BAED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1" descr="bpm-book-weske_084.png"/>
          <p:cNvPicPr/>
          <p:nvPr/>
        </p:nvPicPr>
        <p:blipFill>
          <a:blip r:embed="rId2"/>
          <a:srcRect l="0" t="0" r="9649" b="14138"/>
          <a:stretch/>
        </p:blipFill>
        <p:spPr>
          <a:xfrm>
            <a:off x="755640" y="3429000"/>
            <a:ext cx="7272360" cy="2922480"/>
          </a:xfrm>
          <a:prstGeom prst="rect">
            <a:avLst/>
          </a:prstGeom>
          <a:ln w="0">
            <a:noFill/>
          </a:ln>
        </p:spPr>
      </p:pic>
      <p:sp>
        <p:nvSpPr>
          <p:cNvPr id="413" name="CasellaDiTesto 5"/>
          <p:cNvSpPr/>
          <p:nvPr/>
        </p:nvSpPr>
        <p:spPr>
          <a:xfrm>
            <a:off x="216720" y="1341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CasellaDiTesto 6"/>
          <p:cNvSpPr/>
          <p:nvPr/>
        </p:nvSpPr>
        <p:spPr>
          <a:xfrm>
            <a:off x="246600" y="3789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vent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bpm-book-weske_085.png"/>
          <p:cNvPicPr/>
          <p:nvPr/>
        </p:nvPicPr>
        <p:blipFill>
          <a:blip r:embed="rId1"/>
          <a:stretch/>
        </p:blipFill>
        <p:spPr>
          <a:xfrm>
            <a:off x="685800" y="1701720"/>
            <a:ext cx="7772400" cy="34545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Discriminator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B2C1-4F63-4061-BF1A-CA61A03239DB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ttangolo 4"/>
          <p:cNvSpPr/>
          <p:nvPr/>
        </p:nvSpPr>
        <p:spPr>
          <a:xfrm>
            <a:off x="826920" y="4797360"/>
            <a:ext cx="70581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bpm-book-weske_086.png"/>
          <p:cNvPicPr/>
          <p:nvPr/>
        </p:nvPicPr>
        <p:blipFill>
          <a:blip r:embed="rId1"/>
          <a:stretch/>
        </p:blipFill>
        <p:spPr>
          <a:xfrm>
            <a:off x="611280" y="1341360"/>
            <a:ext cx="8281800" cy="2448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Discriminator 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A840-68CE-4335-9CC4-2773B0A5E8C5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CasellaDiTesto 4"/>
          <p:cNvSpPr/>
          <p:nvPr/>
        </p:nvSpPr>
        <p:spPr>
          <a:xfrm>
            <a:off x="216720" y="134136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CasellaDiTesto 5"/>
          <p:cNvSpPr/>
          <p:nvPr/>
        </p:nvSpPr>
        <p:spPr>
          <a:xfrm>
            <a:off x="246600" y="37893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vent Dia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1" descr="bpm-book-weske_087.png"/>
          <p:cNvPicPr/>
          <p:nvPr/>
        </p:nvPicPr>
        <p:blipFill>
          <a:blip r:embed="rId2"/>
          <a:srcRect l="0" t="0" r="9130" b="14052"/>
          <a:stretch/>
        </p:blipFill>
        <p:spPr>
          <a:xfrm>
            <a:off x="2124000" y="3500280"/>
            <a:ext cx="6108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" descr="bpm-book-weske_088.png"/>
          <p:cNvPicPr/>
          <p:nvPr/>
        </p:nvPicPr>
        <p:blipFill>
          <a:blip r:embed="rId1"/>
          <a:stretch/>
        </p:blipFill>
        <p:spPr>
          <a:xfrm>
            <a:off x="179280" y="1628640"/>
            <a:ext cx="8650440" cy="41864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N-out-of-M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93F9-AF89-4925-986A-5EF2D1FD5DF5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Rettangolo 4"/>
          <p:cNvSpPr/>
          <p:nvPr/>
        </p:nvSpPr>
        <p:spPr>
          <a:xfrm>
            <a:off x="1042920" y="5300640"/>
            <a:ext cx="7058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bpm-book-weske_089.png"/>
          <p:cNvPicPr/>
          <p:nvPr/>
        </p:nvPicPr>
        <p:blipFill>
          <a:blip r:embed="rId1"/>
          <a:stretch/>
        </p:blipFill>
        <p:spPr>
          <a:xfrm>
            <a:off x="250920" y="2060640"/>
            <a:ext cx="8661240" cy="32655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rbitrary cycles pattern – graphical represent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805B-E042-4ABE-A271-FDC0E2FA8558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ttangolo 4"/>
          <p:cNvSpPr/>
          <p:nvPr/>
        </p:nvSpPr>
        <p:spPr>
          <a:xfrm>
            <a:off x="611280" y="4149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" descr="bpm-book-weske_090.png"/>
          <p:cNvPicPr/>
          <p:nvPr/>
        </p:nvPicPr>
        <p:blipFill>
          <a:blip r:embed="rId1"/>
          <a:stretch/>
        </p:blipFill>
        <p:spPr>
          <a:xfrm>
            <a:off x="685800" y="1770120"/>
            <a:ext cx="7772400" cy="3316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rbitrary cycles example – using multiple merge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FE3B-2C72-4791-BE79-0348CB0CB472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ttangolo 4"/>
          <p:cNvSpPr/>
          <p:nvPr/>
        </p:nvSpPr>
        <p:spPr>
          <a:xfrm>
            <a:off x="755640" y="458136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bpm-book-weske_092.png"/>
          <p:cNvPicPr/>
          <p:nvPr/>
        </p:nvPicPr>
        <p:blipFill>
          <a:blip r:embed="rId1"/>
          <a:stretch/>
        </p:blipFill>
        <p:spPr>
          <a:xfrm>
            <a:off x="15840" y="1916280"/>
            <a:ext cx="9124920" cy="39607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ample for multiple instances with a priori design time knowled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01DC-856D-4259-82A6-4A2FB7AC02D6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ttangolo 4"/>
          <p:cNvSpPr/>
          <p:nvPr/>
        </p:nvSpPr>
        <p:spPr>
          <a:xfrm>
            <a:off x="179280" y="5373720"/>
            <a:ext cx="83534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ntrol flow pattern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… </a:t>
            </a: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provide a way for expressing process behaviour</a:t>
            </a:r>
            <a:endParaRPr b="0" lang="en-US" sz="1900" spc="-1" strike="noStrike">
              <a:solidFill>
                <a:srgbClr val="464653"/>
              </a:solidFill>
              <a:latin typeface="Gill Sans MT"/>
            </a:endParaRPr>
          </a:p>
          <a:p>
            <a:pPr lvl="1" marL="519840" indent="-25920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… </a:t>
            </a:r>
            <a:r>
              <a:rPr b="0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are </a:t>
            </a:r>
            <a:r>
              <a:rPr b="1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independent of concrete process languages</a:t>
            </a:r>
            <a:r>
              <a:rPr b="0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, so that each pattern can be expressed in </a:t>
            </a:r>
            <a:r>
              <a:rPr b="1" lang="en-US" sz="22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different process languages</a:t>
            </a:r>
            <a:endParaRPr b="0" lang="en-US" sz="2200" spc="-1" strike="noStrike">
              <a:solidFill>
                <a:srgbClr val="464653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can also be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used to compare the expressiveness of process languag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Basic control flow patterns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clude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sequence, and split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and join,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s well as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exclusive or split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 exclusive or joi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se control flow patterns are supported by virtually any process meta-mod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flow patterns are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defined at the process model level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d their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execution semantics is applies at process instan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7E04-A5B8-471E-B98B-41769C9F711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bpm-book-weske_093.png"/>
          <p:cNvPicPr/>
          <p:nvPr/>
        </p:nvPicPr>
        <p:blipFill>
          <a:blip r:embed="rId1"/>
          <a:srcRect l="0" t="0" r="0" b="12646"/>
          <a:stretch/>
        </p:blipFill>
        <p:spPr>
          <a:xfrm>
            <a:off x="250920" y="1484280"/>
            <a:ext cx="8656560" cy="39006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464653"/>
                </a:solidFill>
                <a:latin typeface="Bookman Old Style"/>
              </a:rPr>
              <a:t>Example for multiple instances without a priori run time knowledge patter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1E0D-6EAB-4B11-BF07-C7216BEE96DB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bpm-book-weske_094.png"/>
          <p:cNvPicPr/>
          <p:nvPr/>
        </p:nvPicPr>
        <p:blipFill>
          <a:blip r:embed="rId1"/>
          <a:srcRect l="0" t="0" r="0" b="15552"/>
          <a:stretch/>
        </p:blipFill>
        <p:spPr>
          <a:xfrm>
            <a:off x="0" y="1557360"/>
            <a:ext cx="9132840" cy="43862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64653"/>
                </a:solidFill>
                <a:latin typeface="Bookman Old Style"/>
              </a:rPr>
              <a:t>Multiple instance without a priori run time knowledge pattern, including management task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5C2-6EE1-45F3-B420-4D7EAC0FA7E8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1" descr="bpm-book-weske_096.png"/>
          <p:cNvPicPr/>
          <p:nvPr/>
        </p:nvPicPr>
        <p:blipFill>
          <a:blip r:embed="rId1"/>
          <a:srcRect l="0" t="0" r="0" b="10930"/>
          <a:stretch/>
        </p:blipFill>
        <p:spPr>
          <a:xfrm>
            <a:off x="684360" y="1389240"/>
            <a:ext cx="7772400" cy="48481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tial execution without a priori design time knowle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A01A-B89A-4EEA-9FDA-ABA156D7DE7A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Other types of patter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Exception Hand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9A70-EA31-4441-B1E6-A063C294DCB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ore o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http://www.workflowpatterns.com/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FD53-5C46-4CFC-BCD0-161CAC05EF2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Immagine 4" descr="Schermata 2013-10-05 a 12.13.25.png"/>
          <p:cNvPicPr/>
          <p:nvPr/>
        </p:nvPicPr>
        <p:blipFill>
          <a:blip r:embed="rId1"/>
          <a:stretch/>
        </p:blipFill>
        <p:spPr>
          <a:xfrm>
            <a:off x="1547640" y="1341360"/>
            <a:ext cx="59835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2F06-CAFC-4795-ACB5-E20D8CDFE43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8" name="Object 2"/>
          <p:cNvGraphicFramePr/>
          <p:nvPr/>
        </p:nvGraphicFramePr>
        <p:xfrm>
          <a:off x="1371600" y="17524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 Box 3"/>
          <p:cNvSpPr/>
          <p:nvPr/>
        </p:nvSpPr>
        <p:spPr>
          <a:xfrm>
            <a:off x="3731760" y="320040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bpm-book-weske_073.png"/>
          <p:cNvPicPr/>
          <p:nvPr/>
        </p:nvPicPr>
        <p:blipFill>
          <a:blip r:embed="rId1"/>
          <a:stretch/>
        </p:blipFill>
        <p:spPr>
          <a:xfrm>
            <a:off x="539640" y="2060640"/>
            <a:ext cx="8256600" cy="3676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tate transition diagram for activity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E0EC-7E28-496A-A6C0-88F17D7C7C37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ttangolo 4"/>
          <p:cNvSpPr/>
          <p:nvPr/>
        </p:nvSpPr>
        <p:spPr>
          <a:xfrm>
            <a:off x="611280" y="5157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bpm-book-weske_074.png"/>
          <p:cNvPicPr/>
          <p:nvPr/>
        </p:nvPicPr>
        <p:blipFill>
          <a:blip r:embed="rId1"/>
          <a:stretch/>
        </p:blipFill>
        <p:spPr>
          <a:xfrm>
            <a:off x="900000" y="1628640"/>
            <a:ext cx="7772400" cy="4273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ce pattern, with event diagram process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2B9-3DA2-42A5-A383-D82959B12C1E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ttangolo 4"/>
          <p:cNvSpPr/>
          <p:nvPr/>
        </p:nvSpPr>
        <p:spPr>
          <a:xfrm>
            <a:off x="900000" y="5373720"/>
            <a:ext cx="7056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bpm-book-weske_075.png"/>
          <p:cNvPicPr/>
          <p:nvPr/>
        </p:nvPicPr>
        <p:blipFill>
          <a:blip r:embed="rId1"/>
          <a:stretch/>
        </p:blipFill>
        <p:spPr>
          <a:xfrm>
            <a:off x="685800" y="1976400"/>
            <a:ext cx="7772400" cy="29034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equence pattern as part of loo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57F6-B37E-40FE-A34C-8D438ABF4D0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ttangolo 4"/>
          <p:cNvSpPr/>
          <p:nvPr/>
        </p:nvSpPr>
        <p:spPr>
          <a:xfrm>
            <a:off x="324000" y="4292640"/>
            <a:ext cx="7632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bpm-book-weske_076.png"/>
          <p:cNvPicPr/>
          <p:nvPr/>
        </p:nvPicPr>
        <p:blipFill>
          <a:blip r:embed="rId1"/>
          <a:stretch/>
        </p:blipFill>
        <p:spPr>
          <a:xfrm>
            <a:off x="250920" y="1844640"/>
            <a:ext cx="8434440" cy="33400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nd-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AA3C-1797-4B6C-9D2D-8BE34439763B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ttangolo 4"/>
          <p:cNvSpPr/>
          <p:nvPr/>
        </p:nvSpPr>
        <p:spPr>
          <a:xfrm>
            <a:off x="611280" y="4508640"/>
            <a:ext cx="705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bpm-book-weske_077.png"/>
          <p:cNvPicPr/>
          <p:nvPr/>
        </p:nvPicPr>
        <p:blipFill>
          <a:blip r:embed="rId1"/>
          <a:stretch/>
        </p:blipFill>
        <p:spPr>
          <a:xfrm>
            <a:off x="388800" y="2060640"/>
            <a:ext cx="8755200" cy="35290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And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DB68-4220-4D46-8091-92AF8B2E8DC1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ttangolo 4"/>
          <p:cNvSpPr/>
          <p:nvPr/>
        </p:nvSpPr>
        <p:spPr>
          <a:xfrm>
            <a:off x="900000" y="5157720"/>
            <a:ext cx="7056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bpm-book-weske_078.png"/>
          <p:cNvPicPr/>
          <p:nvPr/>
        </p:nvPicPr>
        <p:blipFill>
          <a:blip r:embed="rId1"/>
          <a:stretch/>
        </p:blipFill>
        <p:spPr>
          <a:xfrm>
            <a:off x="108000" y="1341360"/>
            <a:ext cx="8891640" cy="4103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Xor split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A3B1-0B2E-4297-B45C-448C553AA02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ttangolo 4"/>
          <p:cNvSpPr/>
          <p:nvPr/>
        </p:nvSpPr>
        <p:spPr>
          <a:xfrm>
            <a:off x="684360" y="494172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bpm-book-weske_079.png"/>
          <p:cNvPicPr/>
          <p:nvPr/>
        </p:nvPicPr>
        <p:blipFill>
          <a:blip r:embed="rId1"/>
          <a:stretch/>
        </p:blipFill>
        <p:spPr>
          <a:xfrm>
            <a:off x="103320" y="1341360"/>
            <a:ext cx="8861400" cy="47307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Xor join patter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CB5E-DDF9-48C5-8695-F93295B4A016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ttangolo 4"/>
          <p:cNvSpPr/>
          <p:nvPr/>
        </p:nvSpPr>
        <p:spPr>
          <a:xfrm>
            <a:off x="755640" y="5445000"/>
            <a:ext cx="7056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3-10-16T07:00:00Z</cp:lastPrinted>
  <dcterms:modified xsi:type="dcterms:W3CDTF">2015-09-19T13:10:22Z</dcterms:modified>
  <cp:revision>214</cp:revision>
  <dc:subject>Lezioni Laboratorio Informatico per i database turistici</dc:subject>
  <dc:title>Presentazione corso</dc:title>
</cp:coreProperties>
</file>