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35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1"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3" name="PlaceHolder 5"/>
          <p:cNvSpPr>
            <a:spLocks noGrp="1"/>
          </p:cNvSpPr>
          <p:nvPr>
            <p:ph type="ftr" idx="26"/>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it-IT" sz="1300" spc="-1" strike="noStrike">
                <a:solidFill>
                  <a:srgbClr val="000000"/>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3AEE0D-4EE9-4779-9A5A-9CA20467BBE0}" type="slidenum">
              <a:rPr b="0" lang="it-IT"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92160" y="768240"/>
            <a:ext cx="5114880" cy="3837240"/>
          </a:xfrm>
          <a:prstGeom prst="rect">
            <a:avLst/>
          </a:prstGeom>
          <a:ln w="0">
            <a:noFill/>
          </a:ln>
        </p:spPr>
      </p:sp>
      <p:sp>
        <p:nvSpPr>
          <p:cNvPr id="40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During verification we can looking for deadlock, it means that all activities in a business process come to a hal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46D8BA-4108-42AF-906F-078A2003E011}"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2B70B-8066-4546-BF2E-B7FADAF73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DFCFD-D04F-42D4-AA38-CD289398B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4E193-3B30-4069-AEAB-8B1A6AE12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90214-9513-460D-94E1-7C75C0644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58700B-F006-47EC-9098-E231D7580C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8C9B8-0490-48E8-8C88-0375A9D49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D5450-80C7-43D5-8A01-CBA0B7667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64FE6-6BC5-4C0A-B214-731C313C7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718F7-7999-4234-9138-DAEF2008E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25C6D-4479-4BD2-B669-C163E7D81F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47CFF-313A-4411-BD4E-D6437D677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A0762-A629-41D6-8F92-1BEC8042F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D170B-D9A7-4A00-BBE3-7B6043AB8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8F087-44C7-4174-9122-C0383200E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036FD-47A8-47FC-88CE-88DCD7FAB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EEBC05-072D-4848-90C9-1687684791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2BE067-ED6A-43A2-B52A-D08A83056F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C30A22-C276-4251-AF58-D290B099A2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1EBD35-BA07-4B9B-99F0-6754A6223E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3F8A9C-7C2E-4011-84F1-AD500E6AB6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BFB864-75C1-4123-A0CA-7C5D1CA706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041452-440E-41B8-BC92-548DF5F5AD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4DBF0-BDB7-4766-9BC9-8F1696743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550B08-EAA4-4E7E-ADA8-A47EE5257F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230C8F-DD02-4CA1-979E-31F9002B56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59B09E-229A-4231-8786-AB2DDA5BB2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30BD65-ED91-4888-BC22-08B92549BB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A46836-0A21-45EB-BFB8-C929C0EEBE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D9A633-B211-4550-A7A1-600E0DAF84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4FB84C-B294-40D6-9CB0-B623873A6C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963E6B-991A-4E44-A2E2-B9503E8117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4F6E26-A98D-4829-978A-B566AADC04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66B66D-4FDE-4006-8F49-FC3AC2B413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9F1A4-16A0-45CF-8ABC-1369418D4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46C5FF-97DF-4C04-B4E7-6EEDD94A67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A55457-C027-4E65-8587-B266649DB6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BF9EDF-4E6E-4708-90E2-9FFF871651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75925D-98D5-41F1-95D0-E5D7A130B5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DE493D-C3B5-49AE-AD7E-6D784EBEEB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8370E7-A85F-4F8A-BFC6-D356405C39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FEFC1F-AD2A-41A1-9C7E-BC84BF66D1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E2AB8E-28A2-40F7-9C2F-FE5535D444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CEACBD-6D1E-4507-850C-EA0D73DE40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D49049-854C-41D7-801F-37FF146E1D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6FE8A-5764-4502-A79D-B40F10D7C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2DBFAD-B9B3-4F15-8646-AD86DF1417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5722E6-9C21-4BED-9618-939438E5B5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262E17-EF87-43ED-8F72-3579FBB6D2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EF71A7-20ED-4FB5-82A8-86B9B74534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15635C-8B50-46AD-A1B9-910A64843F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377647-8BD3-4D67-86AB-D8BA01F73B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C4D552-1CA9-4BC2-A464-0547C35CD9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82E7D5-8792-43E0-8459-7620A4E2AD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D880B5-4072-4DAD-A236-CDFAD04319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46C51A-6B24-42FD-A125-8CD7D9913B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69505-9DAD-46B7-B95B-75A6E4D40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63399F-19A0-457F-BAD2-407881A33C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C4A34E-8D80-4434-9651-F95AA1C662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50364A-9B93-4E5B-A705-44333D1083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D51BD6-00A3-4958-BF17-0464FD3FA1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F27082-36CB-4507-A3C5-605911217E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D83D12-9E03-487C-B3D6-A3E704A66C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FA5C4B-4F29-4F73-8CCD-4D97058807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9FEE6F-57CB-4338-B1DB-985CA47774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F46EAF-9C50-41FC-BE74-4237F4AEFA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EBDFA9-EB3D-47EB-BCCE-282742FB8C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0EE1A-89C1-4808-AD7F-F94C7AADB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F0BB5A-4C5C-40D4-81A6-7835135EEF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204A4F-AA8A-4811-AA2B-9AF28D0BEB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832AE2-7C33-4FAB-9C14-C7F1F29B72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753E50-CE83-4DF7-AE1B-2C2537C526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328864-E1E9-4E81-913B-C6A2A8455D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81B01F-1A63-4AE0-8E79-675C2FC6DC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7FC47F-00D4-4353-9D0D-C424255F8A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AFB4FD-5429-4B1D-851F-08154E3E67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658BC3-9984-4AA4-B5B3-D3C3F49481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B4E27B-A5ED-4E4E-B743-8959B809D5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6E092-E9F4-4A8D-96AD-955D16E99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BFD74C-B27D-43FF-845E-21985A20F0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3C56F7-0F4B-4B47-98EB-F894867076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C7A834-ED41-4035-A188-600EC51D77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5DFD50-35EF-4A0E-8A83-970A36438D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212C95-462C-4A1F-BB3A-2EA9ECEB60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DE3F41-02ED-4429-BA09-0C7257D7F4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1AC219-FCF8-46C7-B46F-E5CC5084FB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94CE40-30BB-4DC1-8A55-9F3CCC6205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0BD5DA-AFCD-4897-877D-E2BF395847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53E31C-1589-4A34-8029-DD89BF572E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D308F-D5AE-44E8-B6D8-E8D229A35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7D9918-0597-4CDE-BBBA-FA351CCC81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E61475-1FD9-4EB1-B6B8-085BD01A10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8465BE-47C0-47EB-A086-CEC1A390A0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F3393A-E767-4284-8A42-3958464AEA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1857E0-2A04-45C3-997B-11D072E04A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06D88E-9AF3-4E78-82BD-E8FD4A833E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1694DA-1F8F-4304-9C81-FBF5AB8A23E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C54F5-DDB0-4C6F-BD56-B41F02EDC4FD}"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8" name="Object 2"/>
          <p:cNvGraphicFramePr/>
          <p:nvPr/>
        </p:nvGraphicFramePr>
        <p:xfrm>
          <a:off x="179280" y="115920"/>
          <a:ext cx="468360" cy="576360"/>
        </p:xfrm>
        <a:graphic>
          <a:graphicData uri="http://schemas.openxmlformats.org/presentationml/2006/ole">
            <p:oleObj r:id="rId2" spid="">
              <p:embed/>
              <p:pic>
                <p:nvPicPr>
                  <p:cNvPr id="9" name="Object 2" descr=""/>
                  <p:cNvPicPr/>
                  <p:nvPr/>
                </p:nvPicPr>
                <p:blipFill>
                  <a:blip r:embed="rId3"/>
                  <a:stretch/>
                </p:blipFill>
                <p:spPr>
                  <a:xfrm>
                    <a:off x="179280" y="115920"/>
                    <a:ext cx="468360" cy="576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0" name="Object 3"/>
          <p:cNvGraphicFramePr/>
          <p:nvPr/>
        </p:nvGraphicFramePr>
        <p:xfrm>
          <a:off x="179280" y="115920"/>
          <a:ext cx="952560" cy="1171440"/>
        </p:xfrm>
        <a:graphic>
          <a:graphicData uri="http://schemas.openxmlformats.org/presentationml/2006/ole">
            <p:oleObj r:id="rId2" spid="">
              <p:embed/>
              <p:pic>
                <p:nvPicPr>
                  <p:cNvPr id="51" name="Object 3" descr=""/>
                  <p:cNvPicPr/>
                  <p:nvPr/>
                </p:nvPicPr>
                <p:blipFill>
                  <a:blip r:embed="rId3"/>
                  <a:stretch/>
                </p:blipFill>
                <p:spPr>
                  <a:xfrm>
                    <a:off x="179280" y="115920"/>
                    <a:ext cx="952560" cy="1171440"/>
                  </a:xfrm>
                  <a:prstGeom prst="rect">
                    <a:avLst/>
                  </a:prstGeom>
                  <a:ln w="0">
                    <a:noFill/>
                  </a:ln>
                </p:spPr>
              </p:pic>
            </p:oleObj>
          </a:graphicData>
        </a:graphic>
      </p:graphicFrame>
      <p:sp>
        <p:nvSpPr>
          <p:cNvPr id="5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4"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56"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A5D3C-2219-405F-824C-DA984D95D5EC}"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3"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7"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4BD89-4AE1-4DF8-A51B-8E84BA3B3730}"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Straight Connector 11"/>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40" name="Object 3"/>
          <p:cNvGraphicFramePr/>
          <p:nvPr/>
        </p:nvGraphicFramePr>
        <p:xfrm>
          <a:off x="179280" y="115920"/>
          <a:ext cx="468360" cy="576360"/>
        </p:xfrm>
        <a:graphic>
          <a:graphicData uri="http://schemas.openxmlformats.org/presentationml/2006/ole">
            <p:oleObj r:id="rId2" spid="">
              <p:embed/>
              <p:pic>
                <p:nvPicPr>
                  <p:cNvPr id="141" name="Object 3" descr=""/>
                  <p:cNvPicPr/>
                  <p:nvPr/>
                </p:nvPicPr>
                <p:blipFill>
                  <a:blip r:embed="rId3"/>
                  <a:stretch/>
                </p:blipFill>
                <p:spPr>
                  <a:xfrm>
                    <a:off x="179280" y="115920"/>
                    <a:ext cx="468360" cy="576360"/>
                  </a:xfrm>
                  <a:prstGeom prst="rect">
                    <a:avLst/>
                  </a:prstGeom>
                  <a:ln w="0">
                    <a:noFill/>
                  </a:ln>
                </p:spPr>
              </p:pic>
            </p:oleObj>
          </a:graphicData>
        </a:graphic>
      </p:graphicFrame>
      <p:sp>
        <p:nvSpPr>
          <p:cNvPr id="14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E00F-D08F-400F-9D68-E3DA17DB55CD}"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4"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0644E-F67A-43F9-AFE1-D2CFB9BA2A68}"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7"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DC20A-0E07-4BC8-97A8-B8C3E86C5F74}"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1"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1743-0559-4990-840F-3B76BD65E254}"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A570-0D76-43B0-9C9A-6B9F18BD35AD}"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ookman Old Style"/>
              </a:rPr>
              <a:t>BP Analysis</a:t>
            </a:r>
            <a:endParaRPr b="0" lang="en-US" sz="3200" spc="-1" strike="noStrike">
              <a:solidFill>
                <a:srgbClr val="464653"/>
              </a:solidFill>
              <a:latin typeface="Bookman Old Style"/>
            </a:endParaRPr>
          </a:p>
        </p:txBody>
      </p:sp>
      <p:sp>
        <p:nvSpPr>
          <p:cNvPr id="366"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000" spc="-1" strike="noStrike">
              <a:solidFill>
                <a:srgbClr val="464653"/>
              </a:solidFill>
              <a:latin typeface="Bookman Old Style"/>
            </a:endParaRPr>
          </a:p>
        </p:txBody>
      </p:sp>
      <p:sp>
        <p:nvSpPr>
          <p:cNvPr id="367" name="Segnaposto numero diapositiva 1"/>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4A6A4-923C-46A2-AC1D-89F8B5867342}"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ample: Dead Activity</a:t>
            </a:r>
            <a:endParaRPr b="0" lang="en-US" sz="3200" spc="-1" strike="noStrike">
              <a:solidFill>
                <a:srgbClr val="464653"/>
              </a:solidFill>
              <a:latin typeface="Bookman Old Style"/>
            </a:endParaRPr>
          </a:p>
        </p:txBody>
      </p:sp>
      <p:sp>
        <p:nvSpPr>
          <p:cNvPr id="392" name=""/>
          <p:cNvSpPr txBox="1"/>
          <p:nvPr/>
        </p:nvSpPr>
        <p:spPr>
          <a:xfrm>
            <a:off x="246240" y="1488600"/>
            <a:ext cx="8503920" cy="260676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A process model does not contain any dead activity, i.e., for each activity there exists at least one completed trace producible on that model and containing this activity.</a:t>
            </a:r>
            <a:endParaRPr b="0" lang="en-US" sz="2300" spc="-1" strike="noStrike">
              <a:solidFill>
                <a:srgbClr val="464653"/>
              </a:solidFill>
              <a:latin typeface="Gill Sans MT"/>
            </a:endParaRPr>
          </a:p>
        </p:txBody>
      </p:sp>
      <p:pic>
        <p:nvPicPr>
          <p:cNvPr id="393" name="Picture 5" descr="C:\Users\NOTEBOOK-SG\Hiwijobs\Buchpräsentation\Images\Images\Images\chapter4\DeadActivity.jpg"/>
          <p:cNvPicPr/>
          <p:nvPr/>
        </p:nvPicPr>
        <p:blipFill>
          <a:blip r:embed="rId1"/>
          <a:stretch/>
        </p:blipFill>
        <p:spPr>
          <a:xfrm>
            <a:off x="911160" y="3581280"/>
            <a:ext cx="7315200" cy="2484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ample: Missing Data</a:t>
            </a:r>
            <a:endParaRPr b="0" lang="en-US" sz="3200" spc="-1" strike="noStrike">
              <a:solidFill>
                <a:srgbClr val="464653"/>
              </a:solidFill>
              <a:latin typeface="Bookman Old Style"/>
            </a:endParaRPr>
          </a:p>
        </p:txBody>
      </p:sp>
      <p:sp>
        <p:nvSpPr>
          <p:cNvPr id="395" name=""/>
          <p:cNvSpPr txBox="1"/>
          <p:nvPr/>
        </p:nvSpPr>
        <p:spPr>
          <a:xfrm>
            <a:off x="301320" y="1526760"/>
            <a:ext cx="8504280" cy="239724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The data flow schema of a process model might cause missing data at run-time if a data object exists which can be read during run-time without having been written by any preceding activity or provided by the outside environment (i.e., by a start message).</a:t>
            </a:r>
            <a:endParaRPr b="0" lang="en-US" sz="2300" spc="-1" strike="noStrike">
              <a:solidFill>
                <a:srgbClr val="464653"/>
              </a:solidFill>
              <a:latin typeface="Gill Sans MT"/>
            </a:endParaRPr>
          </a:p>
        </p:txBody>
      </p:sp>
      <p:pic>
        <p:nvPicPr>
          <p:cNvPr id="396" name="Immagine 4" descr="Schermata 2015-02-04 alle 17.23.16.png"/>
          <p:cNvPicPr/>
          <p:nvPr/>
        </p:nvPicPr>
        <p:blipFill>
          <a:blip r:embed="rId1"/>
          <a:stretch/>
        </p:blipFill>
        <p:spPr>
          <a:xfrm>
            <a:off x="395280" y="3068640"/>
            <a:ext cx="8470800" cy="3174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Flow Errors: Unnecessary Data</a:t>
            </a:r>
            <a:endParaRPr b="0" lang="en-US" sz="3200" spc="-1" strike="noStrike">
              <a:solidFill>
                <a:srgbClr val="464653"/>
              </a:solidFill>
              <a:latin typeface="Bookman Old Style"/>
            </a:endParaRPr>
          </a:p>
        </p:txBody>
      </p:sp>
      <p:sp>
        <p:nvSpPr>
          <p:cNvPr id="398" name=""/>
          <p:cNvSpPr txBox="1"/>
          <p:nvPr/>
        </p:nvSpPr>
        <p:spPr>
          <a:xfrm>
            <a:off x="301320" y="1527120"/>
            <a:ext cx="8504280" cy="205416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A data object written by an activity of process model is called unnecessary if it is not read by any subsequent activity or transition condition or passed to the outside environment via an end message.</a:t>
            </a:r>
            <a:endParaRPr b="0" lang="en-US" sz="2300" spc="-1" strike="noStrike">
              <a:solidFill>
                <a:srgbClr val="464653"/>
              </a:solidFill>
              <a:latin typeface="Gill Sans MT"/>
            </a:endParaRPr>
          </a:p>
        </p:txBody>
      </p:sp>
      <p:pic>
        <p:nvPicPr>
          <p:cNvPr id="399" name="Picture 5" descr="C:\Users\NOTEBOOK-SG\Hiwijobs\Buchpräsentation\Images\Images\Images\chapter4\redundantData.jpg"/>
          <p:cNvPicPr/>
          <p:nvPr/>
        </p:nvPicPr>
        <p:blipFill>
          <a:blip r:embed="rId1"/>
          <a:stretch/>
        </p:blipFill>
        <p:spPr>
          <a:xfrm>
            <a:off x="2503440" y="3633840"/>
            <a:ext cx="5726160" cy="2271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Flow Errors: Lost Updates</a:t>
            </a:r>
            <a:endParaRPr b="0" lang="en-US" sz="3200" spc="-1" strike="noStrike">
              <a:solidFill>
                <a:srgbClr val="464653"/>
              </a:solidFill>
              <a:latin typeface="Bookman Old Style"/>
            </a:endParaRPr>
          </a:p>
        </p:txBody>
      </p:sp>
      <p:sp>
        <p:nvSpPr>
          <p:cNvPr id="401" name=""/>
          <p:cNvSpPr txBox="1"/>
          <p:nvPr/>
        </p:nvSpPr>
        <p:spPr>
          <a:xfrm>
            <a:off x="301320" y="1526760"/>
            <a:ext cx="8504280" cy="281628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The data flow schema of a process model might cause lost data at run-time if a data object, which is written by an activity, is updated by a subsequent activity, but without reading the data object in between.</a:t>
            </a:r>
            <a:endParaRPr b="0" lang="en-US" sz="2300" spc="-1" strike="noStrike">
              <a:solidFill>
                <a:srgbClr val="464653"/>
              </a:solidFill>
              <a:latin typeface="Gill Sans MT"/>
            </a:endParaRPr>
          </a:p>
        </p:txBody>
      </p:sp>
      <p:pic>
        <p:nvPicPr>
          <p:cNvPr id="402" name="Picture 5" descr="C:\Users\NOTEBOOK-SG\Hiwijobs\Buchpräsentation\Images\Images\Images\chapter4\lostData.jpg"/>
          <p:cNvPicPr/>
          <p:nvPr/>
        </p:nvPicPr>
        <p:blipFill>
          <a:blip r:embed="rId1"/>
          <a:stretch/>
        </p:blipFill>
        <p:spPr>
          <a:xfrm>
            <a:off x="914400" y="3666960"/>
            <a:ext cx="7315200" cy="2219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1" descr="bpm-book-weske_005.png"/>
          <p:cNvPicPr/>
          <p:nvPr/>
        </p:nvPicPr>
        <p:blipFill>
          <a:blip r:embed="rId1"/>
          <a:srcRect l="0" t="0" r="0" b="6430"/>
          <a:stretch/>
        </p:blipFill>
        <p:spPr>
          <a:xfrm>
            <a:off x="1763640" y="1197000"/>
            <a:ext cx="6116760" cy="4645080"/>
          </a:xfrm>
          <a:prstGeom prst="rect">
            <a:avLst/>
          </a:prstGeom>
          <a:ln w="0">
            <a:noFill/>
          </a:ln>
        </p:spPr>
      </p:pic>
      <p:sp>
        <p:nvSpPr>
          <p:cNvPr id="36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PM Life Cycle</a:t>
            </a:r>
            <a:endParaRPr b="0" lang="en-US" sz="3200" spc="-1" strike="noStrike">
              <a:solidFill>
                <a:srgbClr val="464653"/>
              </a:solidFill>
              <a:latin typeface="Bookman Old Style"/>
            </a:endParaRPr>
          </a:p>
        </p:txBody>
      </p:sp>
      <p:sp>
        <p:nvSpPr>
          <p:cNvPr id="37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1414-D63B-4B15-8FCD-DC5FDF0DBA51}" type="slidenum">
              <a:rPr b="0" lang="en-US"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Validation</a:t>
            </a:r>
            <a:endParaRPr b="0" lang="en-US" sz="3200" spc="-1" strike="noStrike">
              <a:solidFill>
                <a:srgbClr val="464653"/>
              </a:solidFill>
              <a:latin typeface="Bookman Old Style"/>
            </a:endParaRPr>
          </a:p>
        </p:txBody>
      </p:sp>
      <p:sp>
        <p:nvSpPr>
          <p:cNvPr id="37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initial design must be validated by checking that </a:t>
            </a:r>
            <a:r>
              <a:rPr b="1" lang="en-US" sz="2600" spc="-1" strike="noStrike">
                <a:solidFill>
                  <a:srgbClr val="000000"/>
                </a:solidFill>
                <a:latin typeface="Gill Sans MT"/>
              </a:rPr>
              <a:t>all valid process instances are reflected </a:t>
            </a:r>
            <a:r>
              <a:rPr b="0" lang="en-US" sz="2600" spc="-1" strike="noStrike">
                <a:solidFill>
                  <a:srgbClr val="000000"/>
                </a:solidFill>
                <a:latin typeface="Gill Sans MT"/>
              </a:rPr>
              <a:t>by the business process mode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seful instrument: a </a:t>
            </a:r>
            <a:r>
              <a:rPr b="1" lang="en-US" sz="2600" spc="-1" strike="noStrike">
                <a:solidFill>
                  <a:srgbClr val="000000"/>
                </a:solidFill>
                <a:latin typeface="Gill Sans MT"/>
              </a:rPr>
              <a:t>workshop </a:t>
            </a:r>
            <a:r>
              <a:rPr b="0" lang="en-US" sz="2600" spc="-1" strike="noStrike">
                <a:solidFill>
                  <a:srgbClr val="000000"/>
                </a:solidFill>
                <a:latin typeface="Gill Sans MT"/>
              </a:rPr>
              <a:t>where the persons involved can discuss the business process model</a:t>
            </a:r>
            <a:endParaRPr b="0" lang="en-US" sz="2600" spc="-1" strike="noStrike">
              <a:solidFill>
                <a:srgbClr val="000000"/>
              </a:solidFill>
              <a:latin typeface="Gill Sans MT"/>
            </a:endParaRPr>
          </a:p>
        </p:txBody>
      </p:sp>
      <p:sp>
        <p:nvSpPr>
          <p:cNvPr id="373"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BEC90-950D-4C27-9390-F101DC412F7D}"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Simulation</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Gill Sans MT"/>
              </a:rPr>
              <a:t>Simulation techniques can support valida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mulate undesired execution sequences to show deficits in the process mode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ia Simulation stakeholders can walk through the process in a step-by-step manner and to check whether the process actually exposes the desiderd behaviour</a:t>
            </a:r>
            <a:endParaRPr b="0" lang="en-US" sz="2600" spc="-1" strike="noStrike">
              <a:solidFill>
                <a:srgbClr val="000000"/>
              </a:solidFill>
              <a:latin typeface="Gill Sans MT"/>
            </a:endParaRPr>
          </a:p>
        </p:txBody>
      </p:sp>
      <p:sp>
        <p:nvSpPr>
          <p:cNvPr id="376"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DF1E7-04CD-4E5A-86F9-AA59816022D2}"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Verification</a:t>
            </a:r>
            <a:endParaRPr b="0" lang="en-US" sz="3200" spc="-1" strike="noStrike">
              <a:solidFill>
                <a:srgbClr val="464653"/>
              </a:solidFill>
              <a:latin typeface="Bookman Old Style"/>
            </a:endParaRPr>
          </a:p>
        </p:txBody>
      </p:sp>
      <p:sp>
        <p:nvSpPr>
          <p:cNvPr id="37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business process model must be analyzed and improved to make sur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t actually includes all desired instances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t does not contain any undesired properties</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rror-prone activities, to be repeated several times, for which automatic tools are necessar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BAB7-C412-445D-ADA8-179BAADE2DC5}"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Open Issues</a:t>
            </a:r>
            <a:endParaRPr b="0" lang="en-US" sz="3200" spc="-1" strike="noStrike">
              <a:solidFill>
                <a:srgbClr val="464653"/>
              </a:solidFill>
              <a:latin typeface="Bookman Old Style"/>
            </a:endParaRPr>
          </a:p>
        </p:txBody>
      </p:sp>
      <p:sp>
        <p:nvSpPr>
          <p:cNvPr id="381" name=""/>
          <p:cNvSpPr txBox="1"/>
          <p:nvPr/>
        </p:nvSpPr>
        <p:spPr>
          <a:xfrm>
            <a:off x="457200" y="1219320"/>
            <a:ext cx="8229600" cy="4937040"/>
          </a:xfrm>
          <a:prstGeom prst="rect">
            <a:avLst/>
          </a:prstGeom>
          <a:noFill/>
          <a:ln w="0">
            <a:noFill/>
          </a:ln>
        </p:spPr>
        <p:txBody>
          <a:bodyPr anchor="t">
            <a:normAutofit fontScale="96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oes the model describe what was intended (organizational quality)?</a:t>
            </a: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s the model understandable (pragmatic quality)?</a:t>
            </a: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s the model internally consistent (an aspect of internal quality) (</a:t>
            </a:r>
            <a:r>
              <a:rPr b="1" lang="en-GB" sz="2400" spc="-1" strike="noStrike">
                <a:solidFill>
                  <a:srgbClr val="000000"/>
                </a:solidFill>
                <a:latin typeface="Gill Sans MT"/>
              </a:rPr>
              <a:t>Structural</a:t>
            </a:r>
            <a:r>
              <a:rPr b="0" lang="en-GB" sz="2400" spc="-1" strike="noStrike">
                <a:solidFill>
                  <a:srgbClr val="000000"/>
                </a:solidFill>
                <a:latin typeface="Gill Sans MT"/>
              </a:rPr>
              <a:t> - e.g. absence of deadlocks and livelock - and </a:t>
            </a:r>
            <a:r>
              <a:rPr b="1" lang="en-GB" sz="2400" spc="-1" strike="noStrike">
                <a:solidFill>
                  <a:srgbClr val="000000"/>
                </a:solidFill>
                <a:latin typeface="Gill Sans MT"/>
              </a:rPr>
              <a:t>behavioural</a:t>
            </a:r>
            <a:r>
              <a:rPr b="0" lang="en-GB" sz="2400" spc="-1" strike="noStrike">
                <a:solidFill>
                  <a:srgbClr val="000000"/>
                </a:solidFill>
                <a:latin typeface="Gill Sans MT"/>
              </a:rPr>
              <a:t> – soundness - model correctness)?</a:t>
            </a: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oes the model conform to reality (</a:t>
            </a:r>
            <a:r>
              <a:rPr b="1" lang="en-GB" sz="2400" spc="-1" strike="noStrike">
                <a:solidFill>
                  <a:srgbClr val="000000"/>
                </a:solidFill>
                <a:latin typeface="Gill Sans MT"/>
              </a:rPr>
              <a:t>Semantic</a:t>
            </a:r>
            <a:r>
              <a:rPr b="0" lang="en-GB" sz="2400" spc="-1" strike="noStrike">
                <a:solidFill>
                  <a:srgbClr val="000000"/>
                </a:solidFill>
                <a:latin typeface="Gill Sans MT"/>
              </a:rPr>
              <a:t> correctness, impose compliance rules)?</a:t>
            </a: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The </a:t>
            </a:r>
            <a:r>
              <a:rPr b="1" lang="en-GB" sz="2200" spc="-1" strike="noStrike">
                <a:solidFill>
                  <a:srgbClr val="000000"/>
                </a:solidFill>
                <a:latin typeface="Gill Sans MT"/>
              </a:rPr>
              <a:t>business process model must be analysed </a:t>
            </a:r>
            <a:r>
              <a:rPr b="0" lang="en-GB" sz="2200" spc="-1" strike="noStrike">
                <a:solidFill>
                  <a:srgbClr val="000000"/>
                </a:solidFill>
                <a:latin typeface="Gill Sans MT"/>
              </a:rPr>
              <a:t>and improved to make sure (i) It does not contain any undesired properties and (ii) It actually includes all desired instances </a:t>
            </a:r>
            <a:endParaRPr b="0" lang="en-US" sz="2200" spc="-1" strike="noStrike">
              <a:solidFill>
                <a:srgbClr val="000000"/>
              </a:solidFill>
              <a:latin typeface="Gill Sans MT"/>
            </a:endParaRPr>
          </a:p>
          <a:p>
            <a:pPr>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382"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04FC-0C3A-4488-A984-53F28E8AEA91}"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Verification</a:t>
            </a:r>
            <a:endParaRPr b="0" lang="en-US" sz="3200" spc="-1" strike="noStrike">
              <a:solidFill>
                <a:srgbClr val="464653"/>
              </a:solidFill>
              <a:latin typeface="Bookman Old Style"/>
            </a:endParaRPr>
          </a:p>
        </p:txBody>
      </p:sp>
      <p:sp>
        <p:nvSpPr>
          <p:cNvPr id="38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ill Sans MT"/>
              </a:rPr>
              <a:t>Verification of Process Models Relevant Properties:  </a:t>
            </a:r>
            <a:r>
              <a:rPr b="1" lang="en-GB" sz="1400" spc="-1" strike="noStrike">
                <a:solidFill>
                  <a:srgbClr val="000000"/>
                </a:solidFill>
                <a:latin typeface="Calibri"/>
              </a:rPr>
              <a:t>Soundness</a:t>
            </a:r>
            <a:endParaRPr b="0" lang="en-US" sz="14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Option to Complete: </a:t>
            </a:r>
            <a:r>
              <a:rPr b="0" lang="en-GB" sz="1400" spc="-1" strike="noStrike">
                <a:solidFill>
                  <a:srgbClr val="464653"/>
                </a:solidFill>
                <a:latin typeface="Calibri"/>
              </a:rPr>
              <a:t>a process instance, once started, can always complete</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Proper Completion: </a:t>
            </a:r>
            <a:r>
              <a:rPr b="0" lang="en-GB" sz="1400" spc="-1" strike="noStrike">
                <a:solidFill>
                  <a:srgbClr val="464653"/>
                </a:solidFill>
                <a:latin typeface="Calibri"/>
              </a:rPr>
              <a:t>when a process instance completes there exists no related activity of this instance which is still running or enabled</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No dead activities: </a:t>
            </a:r>
            <a:r>
              <a:rPr b="0" lang="en-GB" sz="1400" spc="-1" strike="noStrike">
                <a:solidFill>
                  <a:srgbClr val="464653"/>
                </a:solidFill>
                <a:latin typeface="Calibri"/>
              </a:rPr>
              <a:t>a process model does not contain any dead activity, i.e., for each activity there exists at least one completed trace producible on that model and containing this activity</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ill Sans MT"/>
              </a:rPr>
              <a:t>Verification of Process Models Relevant Properties: </a:t>
            </a:r>
            <a:r>
              <a:rPr b="1" lang="en-GB" sz="1400" spc="-1" strike="noStrike">
                <a:solidFill>
                  <a:srgbClr val="000000"/>
                </a:solidFill>
                <a:latin typeface="Calibri"/>
              </a:rPr>
              <a:t>Data Flow Correctness</a:t>
            </a:r>
            <a:endParaRPr b="0" lang="en-US" sz="14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No missing data: </a:t>
            </a:r>
            <a:r>
              <a:rPr b="0" lang="en-GB" sz="1400" spc="-1" strike="noStrike">
                <a:solidFill>
                  <a:srgbClr val="464653"/>
                </a:solidFill>
                <a:latin typeface="Calibri"/>
              </a:rPr>
              <a:t>the data flow schema of a process model might cause missing data at run-time if a data object exists which can be read during run-time without having been written by any preceding activity or provided by the outside environment (i.e., by a start message)</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Unnecessary data</a:t>
            </a:r>
            <a:r>
              <a:rPr b="0" lang="en-GB" sz="1400" spc="-1" strike="noStrike">
                <a:solidFill>
                  <a:srgbClr val="464653"/>
                </a:solidFill>
                <a:latin typeface="Calibri"/>
              </a:rPr>
              <a:t>: A data object written by an activity of process model is called unnecessary if it is not read by any subsequent activity or transition condition or passed to the outside environment via an end message</a:t>
            </a:r>
            <a:endParaRPr b="0" lang="en-US" sz="14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53"/>
                </a:solidFill>
                <a:latin typeface="Calibri"/>
              </a:rPr>
              <a:t>No lost updates: </a:t>
            </a:r>
            <a:r>
              <a:rPr b="0" lang="en-GB" sz="1400" spc="-1" strike="noStrike">
                <a:solidFill>
                  <a:srgbClr val="464653"/>
                </a:solidFill>
                <a:latin typeface="Calibri"/>
              </a:rPr>
              <a:t>The data flow schema of a process model might cause lost data at run-time if a data object, which is written by an activity, is updated by a subsequent activity, but without reading the data object in between</a:t>
            </a:r>
            <a:endParaRPr b="0" lang="en-US" sz="14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ample: Option to Complete</a:t>
            </a:r>
            <a:endParaRPr b="0" lang="en-US" sz="3200" spc="-1" strike="noStrike">
              <a:solidFill>
                <a:srgbClr val="464653"/>
              </a:solidFill>
              <a:latin typeface="Bookman Old Style"/>
            </a:endParaRPr>
          </a:p>
        </p:txBody>
      </p:sp>
      <p:sp>
        <p:nvSpPr>
          <p:cNvPr id="386" name=""/>
          <p:cNvSpPr txBox="1"/>
          <p:nvPr/>
        </p:nvSpPr>
        <p:spPr>
          <a:xfrm>
            <a:off x="301320" y="1527120"/>
            <a:ext cx="8504280" cy="2244960"/>
          </a:xfrm>
          <a:prstGeom prst="rect">
            <a:avLst/>
          </a:prstGeom>
          <a:noFill/>
          <a:ln w="0">
            <a:noFill/>
          </a:ln>
        </p:spPr>
        <p:txBody>
          <a:bodyPr anchor="t">
            <a:normAutofit/>
          </a:bodyPr>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A process instance, once started, can always complete.</a:t>
            </a:r>
            <a:endParaRPr b="0" lang="en-US" sz="2300" spc="-1" strike="noStrike">
              <a:solidFill>
                <a:srgbClr val="464653"/>
              </a:solidFill>
              <a:latin typeface="Gill Sans MT"/>
            </a:endParaRPr>
          </a:p>
        </p:txBody>
      </p:sp>
      <p:pic>
        <p:nvPicPr>
          <p:cNvPr id="387" name="Picture 5" descr="C:\Users\NOTEBOOK-SG\Hiwijobs\Buchpräsentation\Images\Images\Images\chapter4\Deadlock.jpg"/>
          <p:cNvPicPr/>
          <p:nvPr/>
        </p:nvPicPr>
        <p:blipFill>
          <a:blip r:embed="rId1"/>
          <a:stretch/>
        </p:blipFill>
        <p:spPr>
          <a:xfrm>
            <a:off x="561960" y="3213000"/>
            <a:ext cx="8448840" cy="1981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ample: Proper Completion</a:t>
            </a:r>
            <a:endParaRPr b="0" lang="en-US" sz="3200" spc="-1" strike="noStrike">
              <a:solidFill>
                <a:srgbClr val="464653"/>
              </a:solidFill>
              <a:latin typeface="Bookman Old Style"/>
            </a:endParaRPr>
          </a:p>
        </p:txBody>
      </p:sp>
      <p:sp>
        <p:nvSpPr>
          <p:cNvPr id="389" name=""/>
          <p:cNvSpPr txBox="1"/>
          <p:nvPr/>
        </p:nvSpPr>
        <p:spPr>
          <a:xfrm>
            <a:off x="301320" y="1526760"/>
            <a:ext cx="8504280" cy="2683080"/>
          </a:xfrm>
          <a:prstGeom prst="rect">
            <a:avLst/>
          </a:prstGeom>
          <a:noFill/>
          <a:ln w="0">
            <a:noFill/>
          </a:ln>
        </p:spPr>
        <p:txBody>
          <a:bodyPr anchor="t">
            <a:normAutofit/>
          </a:bodyPr>
          <a:p>
            <a:pPr lvl="1" marL="262080" indent="1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Calibri"/>
              </a:rPr>
              <a:t>When a process instance completes there exists no related activity of this instance which is still running or enabled.</a:t>
            </a:r>
            <a:endParaRPr b="0" lang="en-US" sz="2300" spc="-1" strike="noStrike">
              <a:solidFill>
                <a:srgbClr val="464653"/>
              </a:solidFill>
              <a:latin typeface="Gill Sans MT"/>
            </a:endParaRPr>
          </a:p>
        </p:txBody>
      </p:sp>
      <p:pic>
        <p:nvPicPr>
          <p:cNvPr id="390" name="Picture 5" descr="C:\Users\NOTEBOOK-SG\Hiwijobs\Buchpräsentation\Images\Images\Images\chapter4\ExamplesProperCompletion1.jpg"/>
          <p:cNvPicPr/>
          <p:nvPr/>
        </p:nvPicPr>
        <p:blipFill>
          <a:blip r:embed="rId1"/>
          <a:stretch/>
        </p:blipFill>
        <p:spPr>
          <a:xfrm>
            <a:off x="911160" y="2913120"/>
            <a:ext cx="7315200" cy="3224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0T09:02:22Z</dcterms:created>
  <dc:creator>Barbara Re</dc:creator>
  <dc:description/>
  <dc:language>en-US</dc:language>
  <cp:lastModifiedBy>Barbara Re</cp:lastModifiedBy>
  <cp:lastPrinted>2014-09-13T18:02:50Z</cp:lastPrinted>
  <dcterms:modified xsi:type="dcterms:W3CDTF">2015-02-04T16:27:47Z</dcterms:modified>
  <cp:revision>248</cp:revision>
  <dc:subject>Lezioni Laboratorio Informatico per i database turistici</dc:subject>
  <dc:title>Presentazione corso</dc:title>
</cp:coreProperties>
</file>