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F396AF-6826-4B4E-9B81-C8D7A25D81F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E1BE29-87EB-4D98-A259-334D4C4B67C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7EF9C6-2643-41AE-94BB-E28A9D71FFF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D3C1DA-D536-447F-AFA9-6CB881E6108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6AE455-9066-46E4-9293-5ACA0179E28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BD87FF-5A0B-4DA1-8188-27072D1DA6C6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3183F3-CDAF-4222-8D5E-0F344855609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3CF34C-91D2-4F0D-9D66-6EDC1DAE347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6CFB79-8D1A-4ABC-A07E-C820EFDFC9B4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6AD-725B-4C64-B95A-6C3909E2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09C-EE85-42E9-BB0C-21C419D7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AA8-A093-4D38-BF6C-6DC46A15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B15-575D-45FB-9307-7748DA12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C02A-BBD0-4E33-A63F-3B91A998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4F97-E135-48EA-9A7D-79F922FC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AC23-9DD7-43A3-8AA4-AEDA824F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3252-ECCE-4C69-BE5E-946F8463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A125-00DD-4732-B69C-FDEF4ECD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8BC5-FA9A-4D98-B3D2-5EF0AB25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DFFB-C919-42FF-94AC-969ECBD0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0BA-2715-4C3C-8050-E65ECDFF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1A6C-C7D1-4F0F-BDFB-08636703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036B-9B42-43F0-ADD8-114F10A7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C7ED-BFB5-4927-AE22-14C17A4C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7FDA-BC77-4978-8D6E-33FE5A3E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37AB-B5DE-4C1A-860F-0053AA4C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0BC52-FD9E-43AC-A305-4933106A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6A461-0A55-4906-8671-FAB30021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A8D80-EA28-4170-80E1-E81C0870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D9E0F-D642-4780-848D-696AC967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0952A-E70B-42C7-A1C5-426EFBF9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A9C-FBC9-4101-A406-F96A0963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5777-0A3A-4675-83D1-70F24FDD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F8B2-3DCF-4C07-9AE1-0C376E30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965C8-FD6A-42D3-8A5D-11E661C7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E95F1-FDEA-4B9B-959F-15A89149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9355A-F05C-497F-AF5D-BCA4004D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4BBFE-4EC9-46B7-B7F0-545C7E7C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FBB93-783B-424A-B579-E293117D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60CD6-2DFE-4685-9775-D28E4A6D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30FB7-8B5E-47CC-A84C-EA9AE182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3427D-E73E-4788-80E9-5B306673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FD5-456C-41DC-92A3-F58BAA78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5BC3F-E72A-4FE8-9984-C57B79CD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DA60D-B2BE-4B5C-BD68-0854CEF4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70B5E-4F44-4C0D-B5A8-8A9A5677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056FF-AE58-43AF-ABE3-4494C5FB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6228C-D60D-4FD2-81EF-270C05D6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AB84D-896C-4269-9680-64927F51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4EB8C-43BD-46C5-9FAB-476A4ACA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B90B9-BD39-4669-B2C7-C00C3C47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A38C9-8876-4E1B-9F45-AB93DB14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F0EE8-DA8D-4716-B8DD-2C2E984A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FDD-204F-45EB-ADCD-B4262F30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2A6ED-452B-439D-9EE4-EF8D5861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E19A3-2DF3-4BC5-9B93-756A1BD6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6FFAD-66E7-47F2-943D-46766EC5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56557-778D-420E-AB75-4265579F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FE046-E252-491A-9473-DD6BBF71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E8FBB-8BBB-4B3B-9C47-0BDFDA5E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A8A8A-C745-4A8F-B3D9-4E06CC2F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3AC55-F875-45FD-8CC2-60F2E8BD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3E5DF-34DC-4DD5-9215-4FD9DC74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9619A-5ADA-43A4-89A5-9839031C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FA3-0F3E-474C-8DC7-F498D7C6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2351B-10CC-4245-BFA8-F0307AB2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E0C97-9EA0-4338-BEC5-1DE6247C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3FBC0-215F-4BA2-B35B-B7B4DF54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7D55E-6017-4EF7-899F-53D0C579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F98EE-759F-4CF2-9CAC-FA6698EB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25FBF-6D2C-49E7-90EB-4759740B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4A9CF-E95C-4EE8-BBAB-8955B33C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65FC0-0956-4A1E-B51A-B3CF31CA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0EC3C-0D75-4F1A-8B03-A0D0DB92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61987-109B-4C22-B724-C5040E96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D11-90E2-458B-8984-8447DE84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A3E47-1A0A-496D-873E-10729910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20F85-7DAA-4E11-8F60-32439DDB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377E3-20BF-4B8E-9BBC-4D32B1A1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AE326-1665-455B-837F-1F746459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E5906-500F-4E40-8AC1-F5F11B35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3B53C-25DA-453A-B227-BA61A5E7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9B6D9-591E-4B04-807C-E11C2693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7B99C-DAF3-4727-A33E-EE84802A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81D58-B117-402A-8499-90841C0A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ACBAE-7CDB-4E5C-A20D-2C910D49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848-CC59-4054-844C-1DCCDE44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EBF5E-CA03-4F93-83FD-9B89C1CF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27D36-85F9-4A44-9C23-423E731D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A4665-58A8-4E70-A8C4-64E54031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E8527-AD50-4B67-B00F-C9B6C766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62286-61B0-4BFF-AB0F-7939446A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35DF6-0C17-474A-A51E-20FCFE53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9174B-7E26-4F38-8BE5-2736DF0A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A9EAF-F21B-4C56-BB31-DA8E0663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8B115-B8A3-4F22-82B4-72DC59AA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4850C-16C6-442A-BD2B-13F442F2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7F23-DFEE-4975-9D73-3E15169F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F235F-C9E1-4E8B-A4F8-F56A752B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90E65-FE79-4554-9F16-6C393C13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60AE9-509C-4E70-B9E8-22783D4B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CED2D-DB8C-4D73-9AB4-ECAD5C90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50A35-0120-4A45-BE4C-1F7B89C0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2DE5C-A27C-4842-AB78-EAD7A570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C072F-A23C-4007-922D-11B5F147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3D22-4CF8-47E2-8206-9CE6636EDB93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4081-DC93-42BE-A184-04649BF4025A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94D7-6E56-4579-B165-BB19D258B006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CAA1-9E29-49AD-8F84-9BAEB095C7F0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3661-2223-4804-9214-50C79E0EF600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5D9A-2F94-4935-8D92-DFC30C397BE9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C4E1-13CD-4B9A-91E9-10F981E7109E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18B1-4073-4C37-8DAF-1A885F3EFD80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dvanced Topics in Business Process Manage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Barbara Re, Ph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332000" y="43657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cu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3" name="Segnaposto contenuto 4" descr=""/>
          <p:cNvPicPr/>
          <p:nvPr/>
        </p:nvPicPr>
        <p:blipFill>
          <a:blip r:embed="rId1"/>
          <a:stretch/>
        </p:blipFill>
        <p:spPr>
          <a:xfrm>
            <a:off x="1481040" y="2060640"/>
            <a:ext cx="5973840" cy="3736800"/>
          </a:xfrm>
          <a:prstGeom prst="rect">
            <a:avLst/>
          </a:prstGeom>
          <a:ln w="0">
            <a:noFill/>
          </a:ln>
        </p:spPr>
      </p:pic>
      <p:sp>
        <p:nvSpPr>
          <p:cNvPr id="39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E287-2759-4A25-A607-CABAF7ED1D9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ttangolo 7"/>
          <p:cNvSpPr/>
          <p:nvPr/>
        </p:nvSpPr>
        <p:spPr>
          <a:xfrm>
            <a:off x="684360" y="1413000"/>
            <a:ext cx="8280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fferent educational background and interests are in p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Rettangolo 11"/>
          <p:cNvSpPr/>
          <p:nvPr/>
        </p:nvSpPr>
        <p:spPr>
          <a:xfrm>
            <a:off x="6084720" y="1989000"/>
            <a:ext cx="288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nsider information technology as a subordinate aspect in business process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Rettangolo 12"/>
          <p:cNvSpPr/>
          <p:nvPr/>
        </p:nvSpPr>
        <p:spPr>
          <a:xfrm>
            <a:off x="324000" y="5445000"/>
            <a:ext cx="352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nsider business goal and organizational regulations as terms that do not deserve much thought, but require the appropriate level o abst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yllabu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219320"/>
            <a:ext cx="82296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Introduction to Business Process Managem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Evolution of Enterprise Systems Architecture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Business Process and Business Process Model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Business Process Life-Cycle.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Flexibility Issues in Process-Aware Information System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erspectives on a Process-Aware Information System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re-speciﬁed and Repetitive Processes and Knowledge-Intensive Processe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Variability, Looseness, Adaptation, Evolution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rocess Modelling &amp; Flexibility-by-Design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Business Process Modelling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Conceptual models and abstraction mechanisms. 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etri nets. Workflow nets and workflow modules. Workflow patterns. Event-driven Process Chains (EPC). </a:t>
            </a:r>
            <a:r>
              <a:rPr b="1" lang="en-GB" sz="1400" spc="-1" strike="noStrike">
                <a:solidFill>
                  <a:srgbClr val="464653"/>
                </a:solidFill>
                <a:latin typeface="Gill Sans MT"/>
              </a:rPr>
              <a:t>Business Process Modelling Notation 2.0 (BPMN)</a:t>
            </a: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. Yet Another Workflow Language (YAWL). Related Extension to support flexibility.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Analysing the Behaviour of Process Model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Verifying Pre-speciﬁed Process Model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Ensuring Correctness of Conﬁgured Process Variant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Unfolding technique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0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2C22-5F48-4D62-B626-A8B0672092C4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ference Textbook (I)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219320"/>
            <a:ext cx="51944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siness Process Management. Concepts, Languages, Architectures.  Weske, Mathias 2007, XIV, 368 p. 265 illus.. ISBN: 9780321155559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1 – Introdu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2 - Evolution of Enterprise Systems Architectur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4 – Process Orchestration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4.1 Control Flow Pattern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4.2 Petri Net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4.7 Business Process Modeling Notation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6 – Properties of Business Process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6.1 Data Dependencie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6.2 Structural Soundnes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6.3 Soundness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775C-8837-4F5E-A861-EF47EB3C367C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Immagine 1" descr="978-3-642-28615-5.png"/>
          <p:cNvPicPr/>
          <p:nvPr/>
        </p:nvPicPr>
        <p:blipFill>
          <a:blip r:embed="rId1"/>
          <a:stretch/>
        </p:blipFill>
        <p:spPr>
          <a:xfrm>
            <a:off x="5867280" y="1700280"/>
            <a:ext cx="2521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ference Textbook (I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219320"/>
            <a:ext cx="54831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ichert, Manfred, and Barbara Weber. Enabling flexibility in process-aware information systems: challenges, methods, technologies. Springer, 2012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p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1  Introduc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hapter 2  Process-Aware Informatio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 - Flexibility Issues in Process-Aware Informatio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hapter 4  Process Modeling and Flexibility-by-Design (already covered by Weske book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hapter 5 - Process Configuration Suppor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5.3 Structural Configuration Approaches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p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10 - Business Process Complianc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4611-8B90-431C-9B21-8A265B324D3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Immagine 4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336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rther materi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siness Process Model And Notation (BPMN) Version 2.0 - http://www.omg.org/spec/BPMN/2.0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PMN 2.0 by example -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http://www.omg.org/spec/BPMN/20100601/10-06-02.pdf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ther lecture notes and research papers, selected during the course (some of them are already on the web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FBC1-C9C8-47CB-B1FE-961C17911B49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eaching and Learning Method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42 h - lecture and exercise session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Wednesday:  9:00 am </a:t>
            </a:r>
            <a:r>
              <a:rPr b="0" lang="it-IT" sz="23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11:00 a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Thursday:  9:00 am </a:t>
            </a:r>
            <a:r>
              <a:rPr b="0" lang="it-IT" sz="23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11:00 a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 study: reading and explor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6933-C4BD-4F4C-A618-D27C627B1628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ome more inf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relevant information is available 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on-l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ttp://barbarare.wordpress.com/teaching/advanced-topic-in-business-process-management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348C-5F30-48FC-93E6-9F0E49344F76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464653"/>
                </a:solidFill>
                <a:latin typeface="Bookman Old Style"/>
              </a:rPr>
              <a:t>Assess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Writing Examina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on the topics of the syllab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pen or multiple-choice questions + Exercis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2 h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ill Sans MT"/>
              </a:rPr>
              <a:t>Date</a:t>
            </a: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 (https://didattica.unicam.it/Home.d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1/02/2016 14:00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1/10/2015 14:00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15/09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1/07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16/06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31/03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23/02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3/02/2015 14:00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B033-7739-4F0D-9D84-4E2AA3B14D5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F552-631F-4D10-8267-0FC0591D40D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1371600" y="17524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Text Box 3"/>
          <p:cNvSpPr/>
          <p:nvPr/>
        </p:nvSpPr>
        <p:spPr>
          <a:xfrm>
            <a:off x="3731760" y="320040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ectur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9" name="Segnaposto contenuto 4" descr="me1.jpg"/>
          <p:cNvPicPr/>
          <p:nvPr/>
        </p:nvPicPr>
        <p:blipFill>
          <a:blip r:embed="rId1"/>
          <a:srcRect l="0" t="4193" r="0" b="4193"/>
          <a:stretch/>
        </p:blipFill>
        <p:spPr>
          <a:xfrm>
            <a:off x="457200" y="1219320"/>
            <a:ext cx="4041720" cy="4937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632480" y="1216080"/>
            <a:ext cx="43322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Barbara Re, Ph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0000"/>
                </a:solidFill>
                <a:uFillTx/>
                <a:latin typeface="Gill Sans MT"/>
              </a:rPr>
              <a:t>Computer Science Divis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CS 11 (Battibocca Palac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barbara.re@unicam.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//barbarare.wordpress.com/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9240-3547-4FEA-B9EF-F7E42776D55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Who I am?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1B5B-F8BD-4EA9-B866-D316905AD55F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achelor and Master Degree in Computer Sci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hd in Information Science and Complex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Some Expirien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 was visiting Phd at the Information School of University of Washington working with Dr. Hans J (Jochen) Scho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 was visiting Phd at the School of Business of University of Applied Sciences Northwestern Swizerland FHNW working with Prof. Knut Hinkelman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urrent Pos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ssistant Professor at University of Camerin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y Interes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291C-467B-4802-AC25-F2D0C856320C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siness Process Management: from modeling to analy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thodologies and technologies for Smart Government development and related services delive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rojects I’m involved i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rn PAd (Model-Based Social Learning for Public Administrations) EU FP7 ICT projec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CP (Open City Platform) MIUR projec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ss (</a:t>
            </a: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Private Assisted House) Regione Marche projec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623E-174B-4CDF-A5F4-8DD3D53BEF8F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0920" y="29718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What about you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5361-786C-4817-B825-749E4D5145B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dvanced Topics in Business Process Manage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Barbara Re, Ph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332000" y="43657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urse Objectiv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course focuses on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nterprise information system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at are driven by models, i.e., instead of constructing code these systems are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assembled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onfigured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or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generated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using a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model-driven appro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We will focus on the so-called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 "process-aware" information system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o better understand the impact of the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modelling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of business processes both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in static and dynamic environ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course introduces all relevant state-of-the-art concepts, methods and technologies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nabling process flexibilit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e.g., process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onfiguration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xception handling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ad-hoc proces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hanges, process schema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13C4-2B31-470E-80FF-78C6419FA5C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Learning Outco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nderstand the importance of Business Process and Business Process Manag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Gain some familiarity with business process termi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Know most common techniques of Business Process modelling and be familiar with Business Process Management tools with a particular emphasis on Business Process flexibil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pply Business Process Management into practical case stud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71AA-29BD-456A-9878-32860E0CD23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7:18:36Z</dcterms:created>
  <dc:creator>Barbara Re</dc:creator>
  <dc:description/>
  <dc:language>en-US</dc:language>
  <cp:lastModifiedBy>Barbara Re</cp:lastModifiedBy>
  <cp:lastPrinted>2015-01-21T23:36:15Z</cp:lastPrinted>
  <dcterms:modified xsi:type="dcterms:W3CDTF">2015-01-21T23:36:35Z</dcterms:modified>
  <cp:revision>149</cp:revision>
  <dc:subject>Lezioni Laboratorio Informatico per i database turistici</dc:subject>
  <dc:title>Presentazione corso</dc:title>
</cp:coreProperties>
</file>